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B44-DEF9-48A5-8FA8-7C7EB48D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47EB-6FAF-484B-ADA5-679204EF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67D-0300-45BA-909A-F213B6CA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4C9-2B8F-4992-89D8-32D89A18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4177-FF6D-4B2B-81C8-89B6E5AE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2061-2521-4C2E-8C92-0F027A1F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6532-F15D-4EF5-B8FD-07F4EE10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E280-95C9-40B6-A277-E4FDDDF0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C25-221D-43B9-98D6-243889E3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4B4-4CDA-4380-A3B3-92028615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F84D-8B9A-447E-A858-C7406E41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9E6-7373-4A6D-9C5C-87558482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9ABF-5361-4EC0-AAD4-0C912F925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806480" y="285840"/>
            <a:ext cx="8355240" cy="1915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200" y="339840"/>
            <a:ext cx="8271000" cy="18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lang="en-US" sz="4100" spc="-1" strike="noStrike">
                <a:solidFill>
                  <a:srgbClr val="ba1e31"/>
                </a:solidFill>
                <a:latin typeface="Arial"/>
              </a:rPr>
              <a:t>Formazione Pratica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161800" y="2739600"/>
            <a:ext cx="7118280" cy="18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verview of the Manu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actical Advice for Trai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Quadro genera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'importanza della flessibilità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chema del manua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ivello degli studenti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todi di insegnament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L'importanza della flessibilit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 molteplici impieghi del manua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inue sessioni di formazion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atiche individual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 molteplici tipi di pubblic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i principianti agli espert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i tecnici agli amministrator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e molteplici tempistich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ssioni di formazione intensiva, brevi period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gomenti individuali, distribuiti su periodi più lungh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Schema del manua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apitoli: Slide e no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ofilo del capitol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vell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quisit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iettivo genera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enu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sultato dell'insegnamen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odolog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grammazi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Livello degli Alliev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Valuta bene il tuo pubblic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 livelli sono consigliati, ma non obbligatori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asic, Intermediate, Advanc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Livelli - Basic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Un livello generico che non richiede conoscenze specifiche di fisica, chimica o matematic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Uno studente tipo potrebbe essere colui che non ha raggiunto l'istruzione superiore o una formazione più elevata oppure colui che non si sente particolarmente sicuro in questa materia.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51000" y="6529320"/>
            <a:ext cx="958680" cy="784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0600" y="6580080"/>
            <a:ext cx="8794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Livelli – Intermediat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Un livello per allievi che hanno un interesse nella teoria dietro a molti argomenti trattati nelle slide. Essi avranno alcune conoscenze di base in chimca, fisica o matematica. Un allievo tipo potrebbe essere colui che ha raggiunto l'istruzione superiore o una formazione ancora più alta, o esprime un forte interesse nella materi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51000" y="6370560"/>
            <a:ext cx="958680" cy="784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0600" y="6421320"/>
            <a:ext cx="8794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Livelli – Advance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Un livello per quegli allievi sicuri sui concetti di teoria e di matematica presentati nelle slide. Un Allievo tipo è colui che ha una solida preparazione in chimica, fisica e/o matematica 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72880" y="6370560"/>
            <a:ext cx="968400" cy="78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16080" y="6421320"/>
            <a:ext cx="8794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Metodi di presentazion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pproccio variab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attori determinant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sor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ilità e sicurezza del formato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dagogia preferi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ioca sui tuoi punti di forza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Pilar Sampietro</cp:lastModifiedBy>
  <dcterms:modified xsi:type="dcterms:W3CDTF">2009-02-01T12:48:38Z</dcterms:modified>
  <cp:revision>2</cp:revision>
  <dc:subject/>
  <dc:title>PowerPoint Presentation</dc:title>
</cp:coreProperties>
</file>