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41B-9BE5-4459-ABE7-7EBD31C4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7FA-3F69-4C0E-8064-3C464BA8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33C-F012-4D8B-8669-F9634EBA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E42-A703-497A-BA84-02D4B17A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A0F-0AD4-4ED4-9DD6-91993926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740-0534-4A42-9E13-19304E56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C61-B02D-49CE-B0F8-188DEB9C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F71-EE7E-4508-A359-0ACC5A65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E13-108A-4FA6-877D-DA941D71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5B1-211A-456E-B557-53F2929C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37A-2628-41A2-8C49-2B004A7E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4FA-B9FE-4908-A6F1-8808D33D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97FA-B393-4A08-BDA2-765989034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806480" y="285840"/>
            <a:ext cx="8355240" cy="191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200" y="339840"/>
            <a:ext cx="8271000" cy="18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4100" spc="-1" strike="noStrike">
                <a:solidFill>
                  <a:srgbClr val="ba1e31"/>
                </a:solidFill>
                <a:latin typeface="Arial"/>
              </a:rPr>
              <a:t>Formazione Pratic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61800" y="2739600"/>
            <a:ext cx="711828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verview of the Manu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actical Advice for Trai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Quadro genera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'importanza della flessibilità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chema del manua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vello degli studenti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todi di insegnamen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L'importanza della flessibilit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 molteplici impieghi del manua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nue sessioni di formazion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atiche individua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 molteplici tipi di pubblic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i principianti agli espert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i tecnici agli amministrator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e molteplici tempistich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ssioni di formazione intensiva, brevi period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gomenti individuali, distribuiti su periodi più lungh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Schema del manua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apitoli: Slide e no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ofilo del capitol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vell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quisit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iettivo genera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u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sultato dell'insegnam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odolog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ma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Livello degli Alliev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Valuta bene il tuo pubblic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 livelli sono consigliati, ma non obbligatori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asic, Intermediate, Advanc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Livelli - Basic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 livello generico che non richiede conoscenze specifiche di fisica, chimica o matematic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o studente tipo potrebbe essere colui che non ha raggiunto l'istruzione superiore o una formazione più elevata oppure colui che non si sente particolarmente sicuro in questa materia.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1000" y="6529320"/>
            <a:ext cx="958680" cy="784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0600" y="6580080"/>
            <a:ext cx="8794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Livelli – Intermediat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 livello per allievi che hanno un interesse nella teoria dietro a molti argomenti trattati nelle slide. Essi avranno alcune conoscenze di base in chimca, fisica o matematica. Un allievo tipo potrebbe essere colui che ha raggiunto l'istruzione superiore o una formazione ancora più alta, o esprime un forte interesse nella materi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51000" y="6370560"/>
            <a:ext cx="958680" cy="784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0600" y="6421320"/>
            <a:ext cx="8794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Livelli – Advanc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Un livello per quegli allievi sicuri sui concetti di teoria e di matematica presentati nelle slide. Un Allievo tipo è colui che ha una solida preparazione in chimica, fisica e/o matematica 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72880" y="6370560"/>
            <a:ext cx="968400" cy="78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6080" y="6421320"/>
            <a:ext cx="8794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etodi di presentazio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pproccio variab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attori determinant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sor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ilità e sicurezza del formato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dagogia preferi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ioca sui tuoi punti di forza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ilar Sampietro</cp:lastModifiedBy>
  <dcterms:modified xsi:type="dcterms:W3CDTF">2009-02-01T12:48:38Z</dcterms:modified>
  <cp:revision>2</cp:revision>
  <dc:subject/>
  <dc:title>PowerPoint Presentation</dc:title>
</cp:coreProperties>
</file>