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5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2.png" ContentType="image/pn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A80D-C4CD-4582-84C0-8599129C5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BADA-1834-4B15-8C1A-2CCBA7CD6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2BF9-5EC5-4E5D-A7D0-4383CFF21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9D7C-552B-41AF-A017-C652831AE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B04A-F6C3-4644-A184-36D7DC3FF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9C7A-3254-43F3-899A-5BD2FA585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9E00-FCEB-4120-903A-229ED1DC2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F2DF-778B-43C7-AA95-8523DFB20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F872-4820-4D28-948F-A4A6FD093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2DC6-6EE9-4812-8996-52CC4AFAD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C34C-1AD0-49DF-BF34-575E89BE7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E738-D26C-447D-8D53-1CAF5FF3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B455D-0C5F-41A6-ACB4-7432787A48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05160" y="368280"/>
            <a:ext cx="7181640" cy="8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Pari opportunità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398760" y="2009880"/>
            <a:ext cx="1417680" cy="1071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137200" y="1692360"/>
            <a:ext cx="1047600" cy="1525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6867360" y="1766880"/>
            <a:ext cx="1182960" cy="15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001960" y="390600"/>
            <a:ext cx="8002440" cy="7840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39760" y="447840"/>
            <a:ext cx="7918560" cy="6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a1e31"/>
                </a:solidFill>
                <a:latin typeface="Arial"/>
              </a:rPr>
              <a:t>Pari opportunità - Anali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960480" y="2179800"/>
            <a:ext cx="7975440" cy="48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edura per l’adozione delle pari opportunità durante un proget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alisi di partenz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izione degli obiettivi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viluppo delle azioni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lementazion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tazione (finale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nte: Linee Guida per l’integrazione delle pari opportunità (LEONARDO DA VINCI PROJECT New applications for innovation and employment, SME-TIC, PROJECT Nº E/01/B/F/PP-115.56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6985080" y="3089160"/>
            <a:ext cx="1700280" cy="17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708200" y="231840"/>
            <a:ext cx="7974000" cy="12715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46360" y="288720"/>
            <a:ext cx="7897680" cy="11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a1e31"/>
                </a:solidFill>
                <a:latin typeface="Arial"/>
              </a:rPr>
              <a:t>1. Pari opportunità</a:t>
            </a:r>
            <a:br>
              <a:rPr sz="3600"/>
            </a:br>
            <a:r>
              <a:rPr b="1" lang="en-US" sz="3600" spc="-1" strike="noStrike">
                <a:solidFill>
                  <a:srgbClr val="ba1e31"/>
                </a:solidFill>
                <a:latin typeface="Arial"/>
              </a:rPr>
              <a:t>- Domande relative alle analisi di b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672920" y="2590560"/>
            <a:ext cx="756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Quali sono le disuguaglianze specificatamente sessuali nel campo di intervento del progetto?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Gli uomini e le donne nel gruppo analizzato hanno problemi ed esigenze differenti?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Quali sono?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i sono ostacoli tipicamente sessuali alla partecipazione?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Quali sono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855800" y="231840"/>
            <a:ext cx="8002440" cy="13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892160" y="289080"/>
            <a:ext cx="7920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a1e31"/>
                </a:solidFill>
                <a:latin typeface="Arial"/>
              </a:rPr>
              <a:t>2. Pari opportunità </a:t>
            </a:r>
            <a:br>
              <a:rPr sz="3600"/>
            </a:br>
            <a:r>
              <a:rPr b="1" lang="en-US" sz="3600" spc="-1" strike="noStrike">
                <a:solidFill>
                  <a:srgbClr val="ba1e31"/>
                </a:solidFill>
                <a:latin typeface="Arial"/>
              </a:rPr>
              <a:t>– Domande relative agli obiettivi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012320" y="2749320"/>
            <a:ext cx="7899480" cy="26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Quali obiettivi legati alle pari opportunità sono stati integrati nelle finalità del progetto?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ono stati definiti obiettivi verificabili o parziali circa le pari opportunità tra uomini e donn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660680" y="95400"/>
            <a:ext cx="8499240" cy="12603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03160" y="153720"/>
            <a:ext cx="84200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ba1e31"/>
                </a:solidFill>
                <a:latin typeface="Arial"/>
              </a:rPr>
              <a:t>3. Pari opportunità</a:t>
            </a:r>
            <a:br>
              <a:rPr sz="3300"/>
            </a:br>
            <a:r>
              <a:rPr b="1" lang="en-US" sz="3300" spc="-1" strike="noStrike">
                <a:solidFill>
                  <a:srgbClr val="ba1e31"/>
                </a:solidFill>
                <a:latin typeface="Arial"/>
              </a:rPr>
              <a:t>- Domande relative allo sviluppo delle azioni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808280" y="1955520"/>
            <a:ext cx="8315280" cy="529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e saranno garantite opporunità uguali per l’accesso e la partecipazione di uomini e donne?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e si può garantire che uomini e donne possano trarre uguale beneficio dal proget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e si può evitare la creazione di disuguaglianze tra uomini e donne durante il corso del progetto?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e contribuisce il progetto alla riduzione delle disuguaglianze?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lla base dei risultati dell’analisi iniziale, quali opzioni possono essere sviluppate per la realizzazio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uali difficoltà si possono incontrare durante l’aplicazione pratica?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uale opzione può essere utile per meglio raggiungere gli obiettivi? Perché?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630440" y="231840"/>
            <a:ext cx="8275680" cy="12715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3280" y="288720"/>
            <a:ext cx="8191440" cy="11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a1e31"/>
                </a:solidFill>
                <a:latin typeface="Arial"/>
              </a:rPr>
              <a:t>4. Pari opportunità</a:t>
            </a:r>
            <a:br>
              <a:rPr sz="3600"/>
            </a:br>
            <a:r>
              <a:rPr b="1" lang="en-US" sz="3600" spc="-1" strike="noStrike">
                <a:solidFill>
                  <a:srgbClr val="ba1e31"/>
                </a:solidFill>
                <a:latin typeface="Arial"/>
              </a:rPr>
              <a:t>- Domande relative all‘implementazion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600200" y="1460160"/>
            <a:ext cx="7561440" cy="57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utti i criteri definiti sono osservati durante l’implementazione?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Quali difficoltà si presentano durante l’applicazione pratica?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816200" y="422280"/>
            <a:ext cx="7640640" cy="13352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58680" y="473040"/>
            <a:ext cx="7561080" cy="12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a1e31"/>
                </a:solidFill>
                <a:latin typeface="Arial"/>
              </a:rPr>
              <a:t>Le pari opportunità nell‘Unione Europe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755360" y="1868400"/>
            <a:ext cx="7170840" cy="53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ttato della Comunità Europea – Articolo 2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promozione dell‘uguaglianza tra uomini e donne è uno degli obiettivi della Comunità Europe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ttato della Comunità Europea – Articolo 3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 attività della Comunità Europea devono includere l‘eliminazione delle disuguaglianze e la promozione di uguali opportunità per tutte le donne e gli uomin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ta europea dei diritti fondamentali – Articolo 23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’uguaglianza tra uomini e donne deve essere assicurata in tutti i campi, inclusi gli incarichi, il lavoro e la retribuzion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 pari opportunità tra donne e uomini diventano così un dovere speciale per la Comunità Europea e sono state definite un obiettivo trasversale in tutti i campi della politica. Gli incentivi e i cofinanziamenti attraverso l’Unione Europea sono collegati all’adozione di una strategia di pari opportunità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689120" y="338040"/>
            <a:ext cx="8002440" cy="12715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35200" y="388800"/>
            <a:ext cx="792000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a1e31"/>
                </a:solidFill>
                <a:latin typeface="Arial"/>
              </a:rPr>
              <a:t>Reti europ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658880" y="2082600"/>
            <a:ext cx="6437520" cy="51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80 reti internazionali in uno sguardo d’insiem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w-fforte.at/8.0.html?L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973160" y="2994120"/>
            <a:ext cx="5745240" cy="20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924200" y="476280"/>
            <a:ext cx="8002440" cy="12700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65240" y="527040"/>
            <a:ext cx="792000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a1e31"/>
                </a:solidFill>
                <a:latin typeface="Arial"/>
              </a:rPr>
              <a:t>Perchè le pari opportunità per H2-training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39960" y="2260440"/>
            <a:ext cx="566712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o le previsioni, entro il 2015 in Europa saranno richieste 80.000 nuove figure qualificate per il settore idrogen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 conseguenza, anche il potenziale delle donne non deve essere dimentica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indi è molto importante considerare gli aspetti circa la suddivisione dei sessi nei profili professionali, nei curricula e nei programmi di formaz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603840" y="2041560"/>
            <a:ext cx="241308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971960" y="1163520"/>
            <a:ext cx="4357800" cy="16941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1620720" y="231840"/>
            <a:ext cx="7640640" cy="763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58880" y="289080"/>
            <a:ext cx="756144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a1e31"/>
                </a:solidFill>
                <a:latin typeface="Arial"/>
              </a:rPr>
              <a:t>Carriera professionale femmin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820520" y="3182760"/>
            <a:ext cx="8302680" cy="39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Austria, gli adolescenti hanno una scelta tra circa 270 professionalità formative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sservando la distrubizione quantitativa in base al sesso, inizia a emergere un quadro sulla selezione delle professionalità formative “tipicamente maschili” e “tipicamente femminili”. Mentre gli uomini possono secegliere su uno spettro ampio di occupazioni, anche tra mestieri “tradizionalmente femminili” come venditore o cuoco, le donne scelgono al 50% solo tre professioni formative (commessa, parrucchiera e acconciatrice, venditrice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24200" y="390600"/>
            <a:ext cx="7640640" cy="7524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65240" y="447840"/>
            <a:ext cx="7562880" cy="6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a1e31"/>
                </a:solidFill>
                <a:latin typeface="Arial"/>
              </a:rPr>
              <a:t>Argomentazioni frequen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26600" y="1787400"/>
            <a:ext cx="59850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" Le donne non hanno interesse nella scienza e nella tecnologia"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" A noi piacerebbe assumere donne ma c’è una carenza di donne ricercatrici giovani e qualificate"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" Le donne sono meno adatte a ruoli di leadership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" Le donne si muovono di meno"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" Le donne rappresentano un rischio alto dal punto di vista dlla gestione del business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" Le donne sono solo parzialmente disponibili sulla base degli impegni privati e di famiglia e il loro carico di lavoroè limitato” ..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427800" y="1862280"/>
            <a:ext cx="3059280" cy="29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778040" y="390600"/>
            <a:ext cx="7640640" cy="7430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19080" y="447480"/>
            <a:ext cx="756108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a1e31"/>
                </a:solidFill>
                <a:latin typeface="Arial"/>
              </a:rPr>
              <a:t>Pari opportunità – Definizi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672920" y="2114640"/>
            <a:ext cx="507060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pari opportunità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 basano sul fatto c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utte le possibilità della nostra società sono strutturate in base al ses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pari opportunità implicano la considerazione preventiva e continua di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differenti interessi e situazioni di vita di donne e uomini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considerazione delle intenzioni social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7413480" y="2496960"/>
            <a:ext cx="151632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001960" y="476280"/>
            <a:ext cx="7640640" cy="6984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39760" y="526680"/>
            <a:ext cx="7561440" cy="5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a1e31"/>
                </a:solidFill>
                <a:latin typeface="Arial"/>
              </a:rPr>
              <a:t>Pari opportunità – dovere di chi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26760" y="2421000"/>
            <a:ext cx="6870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 pari opportunità sono un dov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 livello managerial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 di una organizzazione così co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 tutti gli impiegati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 considerano in anticipo le differenti situazioni di vita e gli interessi di donne e uomini per raggiungere l’obiettivo di opportunità ugual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lle strut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ll’organizzazione e nella logica dei process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i risultati e nei prodot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lla comunicazione e nelle pubbliche relazioni 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lla dire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8039160" y="2666880"/>
            <a:ext cx="1965240" cy="40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893960" y="549360"/>
            <a:ext cx="7642080" cy="8380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36440" y="606600"/>
            <a:ext cx="7561080" cy="72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a1e31"/>
                </a:solidFill>
                <a:latin typeface="Arial"/>
              </a:rPr>
              <a:t>Pari opportunità - Obiettiv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41000" y="2739960"/>
            <a:ext cx="616572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Uguali opportunità per donne e uomini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iettivo sarebbe raggiunto se tutte le strutture e i processi decisionali puntassero ad un uguale trattamento delle donne e degli uomini in relazione al sesso, allo stile di vita individuale, alla distribuzione delle responsabilità, delle risorse e degli incarich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964200" y="3079800"/>
            <a:ext cx="229716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570800" y="4762440"/>
            <a:ext cx="2394000" cy="1471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1924200" y="317520"/>
            <a:ext cx="7640640" cy="7840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65240" y="368280"/>
            <a:ext cx="7562880" cy="67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a1e31"/>
                </a:solidFill>
                <a:latin typeface="Arial"/>
              </a:rPr>
              <a:t>Chiarimento sui diversi vocabol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719280" y="2292120"/>
            <a:ext cx="820728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i opportunità (equal opportunities)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iettivo polit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i opportunità tra uomini e donne (gender mainstreaming)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ategia da persegui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ozione di donne/uomini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sibilità di livellare trattamenti diver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ttamento uguale: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ibizione di discriminazione diretta e indiretta (equità di retribuzione, condizioni di lavoro, molestie sessual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ozione delle donn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stensione del principio di un uguale trattamento forma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mozione di provvedimenti per le don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ntare alla correzione dell’attuale discriminazione nei confronti delle don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620720" y="476280"/>
            <a:ext cx="7640640" cy="85716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58880" y="527040"/>
            <a:ext cx="756144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a1e31"/>
                </a:solidFill>
                <a:latin typeface="Arial"/>
              </a:rPr>
              <a:t>Prerequisiti per la realizzazi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233360" y="1591920"/>
            <a:ext cx="6151680" cy="54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Responsabilità a livello gestionale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Obiettivi di pari opportunità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Responsabilità e possibilità di verifica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nalisi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onoscenza e competenza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onsolidamento in strutture e processi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onsenso dei soggetti rappresentativi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Progresso delle pari opportunità interne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cquisizione di risorse umane e finanziarie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7456320" y="3017880"/>
            <a:ext cx="2297160" cy="22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Pilar Sampietro</cp:lastModifiedBy>
  <dcterms:modified xsi:type="dcterms:W3CDTF">2009-02-01T12:46:55Z</dcterms:modified>
  <cp:revision>2</cp:revision>
  <dc:subject/>
  <dc:title>PowerPoint Presentation</dc:title>
</cp:coreProperties>
</file>