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6BA-44F6-49C6-B7C3-0CDA6287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8FB-A5C5-49B2-943A-936F502C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197-4DE0-4655-B97D-149750DE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370-922A-42BA-B97C-01E8C177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B74-E3D6-405E-97F7-74E4307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AD1-2045-40D9-9AAA-6D4BF4CA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2C9-E438-44AF-AF5A-86486CA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52B-3465-4A79-9A15-3E106BCC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4CB-A168-4CB7-851A-38CE604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653-5CA9-4618-8A7A-6C6F944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693-BE98-4F04-8C7D-6DF2EBE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0DB-811D-42BE-990E-C62533B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5CE9-2625-47D7-ABF1-CEC9FFEC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5160" y="368280"/>
            <a:ext cx="7181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Pari opportunit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98760" y="2009880"/>
            <a:ext cx="141768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37200" y="1692360"/>
            <a:ext cx="1047600" cy="152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867360" y="1766880"/>
            <a:ext cx="11829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01960" y="390600"/>
            <a:ext cx="8002440" cy="78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39760" y="447840"/>
            <a:ext cx="7918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- Ana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60480" y="2179800"/>
            <a:ext cx="797544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a per l’adozione delle pari opportunità durante un prog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si di parten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zione degli obiettiv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iluppo delle azio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tazione (fina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e: Linee Guida per l’integrazione delle pari opportunità (LEONARDO DA VINCI PROJECT New applications for innovation and employment, SME-TIC, PROJECT Nº E/01/B/F/PP-115.5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985080" y="3089160"/>
            <a:ext cx="17002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08200" y="231840"/>
            <a:ext cx="7974000" cy="12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46360" y="288720"/>
            <a:ext cx="789768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1. Pari opportunità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- Domande relative alle analisi di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2920" y="259056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 le disuguaglianze specificatamente sessuali nel campo di intervento del progett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i uomini e le donne nel gruppo analizzato hanno problemi ed esigenze differenti?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 sono ostacoli tipicamente sessuali alla partecipazione?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55800" y="231840"/>
            <a:ext cx="800244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92160" y="289080"/>
            <a:ext cx="79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2. Pari opportunità 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– Domande relative agli obietti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12320" y="2749320"/>
            <a:ext cx="7899480" cy="26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obiettivi legati alle pari opportunità sono stati integrati nelle finalità del progett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ono stati definiti obiettivi verificabili o parziali circa le pari opportunità tra uomini e donn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60680" y="95400"/>
            <a:ext cx="8499240" cy="126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03160" y="15372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ba1e31"/>
                </a:solidFill>
                <a:latin typeface="Arial"/>
              </a:rPr>
              <a:t>3. Pari opportunità</a:t>
            </a:r>
            <a:br>
              <a:rPr sz="3300"/>
            </a:br>
            <a:r>
              <a:rPr b="1" lang="en-US" sz="3300" spc="-1" strike="noStrike">
                <a:solidFill>
                  <a:srgbClr val="ba1e31"/>
                </a:solidFill>
                <a:latin typeface="Arial"/>
              </a:rPr>
              <a:t>- Domande relative allo sviluppo delle azion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08280" y="1955520"/>
            <a:ext cx="83152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aranno garantite opporunità uguali per l’accesso e la partecipazione di uomini e donn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i può garantire che uomini e donne possano trarre uguale beneficio dal proget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i può evitare la creazione di disuguaglianze tra uomini e donne durante il corso del progetto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tribuisce il progetto alla riduzione delle disuguaglianz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lla base dei risultati dell’analisi iniziale, quali opzioni possono essere sviluppate per la realizz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 difficoltà si possono incontrare durante l’aplicazione pratica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e opzione può essere utile per meglio raggiungere gli obiettivi? Perché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30440" y="231840"/>
            <a:ext cx="8275680" cy="127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3280" y="288720"/>
            <a:ext cx="8191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4. Pari opportunità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- Domande relative all‘implementa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1460160"/>
            <a:ext cx="75614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utti i criteri definiti sono osservati durante l’implementazione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difficoltà si presentano durante l’applicazione pratica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16200" y="422280"/>
            <a:ext cx="7640640" cy="1335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8680" y="473040"/>
            <a:ext cx="7561080" cy="12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Le pari opportunità nell‘Unione Europ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5360" y="1868400"/>
            <a:ext cx="71708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to della Comunità Europea – Articolo 2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mozione dell‘uguaglianza tra uomini e donne è uno degli obiettivi della Comunità Europ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to della Comunità Europea – Articolo 3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attività della Comunità Europea devono includere l‘eliminazione delle disuguaglianze e la promozione di uguali opportunità per tutte le donne e gli uomi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a europea dei diritti fondamentali – Articolo 23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uguaglianza tra uomini e donne deve essere assicurata in tutti i campi, inclusi gli incarichi, il lavoro e la retribuz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i opportunità tra donne e uomini diventano così un dovere speciale per la Comunità Europea e sono state definite un obiettivo trasversale in tutti i campi della politica. Gli incentivi e i cofinanziamenti attraverso l’Unione Europea sono collegati all’adozione di una strategia di pari opportunità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89120" y="338040"/>
            <a:ext cx="8002440" cy="1271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5200" y="388800"/>
            <a:ext cx="79200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Reti europ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58880" y="2082600"/>
            <a:ext cx="643752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0 reti internazionali in uno sguardo d’insie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73160" y="2994120"/>
            <a:ext cx="57452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24200" y="476280"/>
            <a:ext cx="800244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65240" y="527040"/>
            <a:ext cx="79200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erchè le pari opportunità per H2-trainin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9960" y="2260440"/>
            <a:ext cx="566712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o le previsioni, entro il 2015 in Europa saranno richieste 80.000 nuove figure qualificate per il settore idrog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conseguenza, anche il potenziale delle donne non deve essere dimentic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è molto importante considerare gli aspetti circa la suddivisione dei sessi nei profili professionali, nei curricula e nei programmi di form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03840" y="2041560"/>
            <a:ext cx="2413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71960" y="1163520"/>
            <a:ext cx="4357800" cy="169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0720" y="231840"/>
            <a:ext cx="764064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8880" y="289080"/>
            <a:ext cx="75614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Carriera professionale femmin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0520" y="3182760"/>
            <a:ext cx="83026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ustria, gli adolescenti hanno una scelta tra circa 270 professionalità formativ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servando la distrubizione quantitativa in base al sesso, inizia a emergere un quadro sulla selezione delle professionalità formative “tipicamente maschili” e “tipicamente femminili”. Mentre gli uomini possono secegliere su uno spettro ampio di occupazioni, anche tra mestieri “tradizionalmente femminili” come venditore o cuoco, le donne scelgono al 50% solo tre professioni formative (commessa, parrucchiera e acconciatrice, venditri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24200" y="390600"/>
            <a:ext cx="764064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5240" y="447840"/>
            <a:ext cx="75628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Argomentazioni frequ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26600" y="1787400"/>
            <a:ext cx="5985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non hanno interesse nella scienza e nella tecnologia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A noi piacerebbe assumere donne ma c’è una carenza di donne ricercatrici giovani e qualificate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ono meno adatte a ruoli di leadership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i muovono di meno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rappresentano un rischio alto dal punto di vista dlla gestione del busine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ono solo parzialmente disponibili sulla base degli impegni privati e di famiglia e il loro carico di lavoroè limitato” 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427800" y="1862280"/>
            <a:ext cx="30592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78040" y="390600"/>
            <a:ext cx="764064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19080" y="447480"/>
            <a:ext cx="756108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– Defin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72920" y="2114640"/>
            <a:ext cx="5070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i opportunit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basano sul fatto 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utte le possibilità della nostra società sono strutturate in base al s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ari opportunità implicano la considerazione preventiva e continua di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fferenti interessi e situazioni di vita di donne e uomini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onsiderazione delle intenzioni socia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13480" y="2496960"/>
            <a:ext cx="1516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01960" y="476280"/>
            <a:ext cx="7640640" cy="6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9760" y="526680"/>
            <a:ext cx="756144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– dovere di ch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26760" y="2421000"/>
            <a:ext cx="6870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i opportunità sono un dov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livello manageria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di una organizzazione così 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tutti gli impiegati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 considerano in anticipo le differenti situazioni di vita e gli interessi di donne e uomini per raggiungere l’obiettivo di opportunità ugu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e strut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’organizzazione e nella logica dei proces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 risultati e nei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comunicazione e nelle pubbliche rel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dir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039160" y="2666880"/>
            <a:ext cx="19652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893960" y="549360"/>
            <a:ext cx="764208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6440" y="606600"/>
            <a:ext cx="756108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- Obiet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1000" y="2739960"/>
            <a:ext cx="61657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guali opportunità per donne e uomin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ttivo sarebbe raggiunto se tutte le strutture e i processi decisionali puntassero ad un uguale trattamento delle donne e degli uomini in relazione al sesso, allo stile di vita individuale, alla distribuzione delle responsabilità, delle risorse e degli incaric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964200" y="3079800"/>
            <a:ext cx="2297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70800" y="4762440"/>
            <a:ext cx="2394000" cy="147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924200" y="317520"/>
            <a:ext cx="764064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65240" y="368280"/>
            <a:ext cx="756288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Chiarimento sui diversi vocab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19280" y="2292120"/>
            <a:ext cx="82072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 opportunità (equal opportunities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ttivo poli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 opportunità tra uomini e donne (gender mainstreaming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a da persegu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zione di donne/uomini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tà di livellare trattamenti dive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mento uguale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bizione di discriminazione diretta e indiretta (equità di retribuzione, condizioni di lavoro, molestie sessu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zione delle don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ensione del principio di un uguale trattamento form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zione di provvedimenti per le don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ntare alla correzione dell’attuale discriminazione nei confronti delle don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20720" y="476280"/>
            <a:ext cx="764064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58880" y="527040"/>
            <a:ext cx="7561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rerequisiti per la realizz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33360" y="1591920"/>
            <a:ext cx="615168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abilità a livello gestional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iettivi di pari opportunità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abilità e possibilità di verific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alis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oscenza e competenz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olidamento in strutture e process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enso dei soggetti rappresentativ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gresso delle pari opportunità intern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quisizione di risorse umane e finanziari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456320" y="3017880"/>
            <a:ext cx="2297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6:55Z</dcterms:modified>
  <cp:revision>2</cp:revision>
  <dc:subject/>
  <dc:title>PowerPoint Presentation</dc:title>
</cp:coreProperties>
</file>