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7402-065E-4BE3-A149-972E3B00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BAF9-9705-421C-BA02-D4E02430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F7D-4941-4801-8F7B-F93CA5DC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4C2-D9F2-455C-8205-E6EA4524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477-581B-4896-9907-589CA313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8F92-3958-4B01-8B58-ECD12B5E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95D-B88F-4CE7-AF1C-E33F1991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598-938F-4D43-9F27-65ED219A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B4E-0037-4C3A-A037-15EED371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D0F-56A9-4E9E-B9BF-36297E7E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685-E335-43B3-91ED-DFEC5D82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0FC-5F85-4368-A2B0-D7E47D7C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8D2F-E091-4753-B4CA-33B1E3DD5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es/imgres?imgurl=http://www.savioclima.it/images/logoatex.gif&amp;imgrefurl=http://www.savioclima.it/ita/news.htm&amp;h=551&amp;w=475&amp;sz=13&amp;hl=es&amp;start=27&amp;um=1&amp;tbnid=jGkyCPrW0QiWvM:&amp;tbnh=133&amp;tbnw=115&amp;prev=/images%3Fq%3DATEX%26start%3D18%26ndsp%3D18%26svnum%3D10%26um%3D1%26hl%3Des%26sa%3DN" TargetMode="External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905120" y="549360"/>
            <a:ext cx="6667560" cy="488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171880" y="1479600"/>
            <a:ext cx="710064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TIVE, LEGGI E STAND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03440" y="339840"/>
            <a:ext cx="82342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6. Disturbo elet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43200" y="2100240"/>
            <a:ext cx="74325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Direttiva 89/336/EEC sul disturbo provocato da Macchine e dispositivi (IEC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è stata modificata dalla Direttiva 91/263/EEC, dalla Direttiva 92/31/EEC e dalla Direttiva 93/68/EEC.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c.europa.eu/enterprise/electr_equipment/emc/directiv/dir336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43200" y="4660920"/>
            <a:ext cx="759276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ova Direttiva EMC 2004/108/E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è stata pubblicata nella Gazzetta Ufficiale dell'Unione Europea, L 390/24, il 31 dicembre 2004, e abroga la Direttiva 89/336/EEC d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 Luglio 2007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116920" y="687240"/>
            <a:ext cx="1493640" cy="1482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03440" y="339840"/>
            <a:ext cx="82342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7. ISO TC 197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24200" y="1301760"/>
            <a:ext cx="795168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lità dell' ISO/TC 19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/TC 197 è stata creata per promuovere u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scente impiego dell'idroge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e vettore energetico e combustib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adardizzazi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 campo dei sistemi e delle apparecchiat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la produzione, stoccaggio, trasporto misure e utilizzo dell'idrogeno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tentativi di standardizzazione della Commissione TEcnica dell' ISO/TC 197 dovrebbero agevolare la nascita di un sistema energetico rinnovabile e sostenibile basato sull'idrogeno come vettore energetico e combustib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la standardizzazione procede parallelamente allo sviluppo tecnologico, il lavoro dell'ISO/TC 197 dovrebbe agevolare l'immediata dimostrazione e l'implementazione delle tecnologie dell'idrogeno che sono necessarie per introdurre l'idrogeno in applicazioni energetiche diff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677440" y="200160"/>
            <a:ext cx="1207800" cy="1164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03440" y="339840"/>
            <a:ext cx="82342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7. ISO TC 197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1058760"/>
            <a:ext cx="799164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poste in corso di realizzazion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G6 15869 (IS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drogeno gassoso e miscele — serbatoi per veicoli terrestr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G5 17268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revisione IS) Dispositivi di connessione per il rifornimento di veicoli con idrogeno compresso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G8 22734-1 (IS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Generatori di idrogeno che utilizzano processi di elettrolisi dall'acqua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G8 22734-2 (IS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Generatori di idrogeno che utilizzano processi di elettrolisi dall'acqua — Part 2: Applicazioni residenzial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G9 16110-2 (IS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Generatori di idrogeno che utilizzano tecnologie di fuel processing — Part 2: Metodi di prova per le prestazion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G10 16111 (IS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Dispositivi di accumulo per il trasporto di gas  — Idrogeno adsorbito in idruri metallici reversibili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G11 20012 (TS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drogeno gassoso — Stazioni di riforniment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G12 14687-2 (IS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mbustibile Idrogeno — Specifiche del prodotto — Part 2: applicazioni di celle a combustibile PEM per veicoli stradal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G13 26142 (IS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ilevatori di idrogen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uovi argomenti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positivi di accumulo per il trasporto di gas  – Idrogeno adsorbito in idruri metallici reversibili - Idrogeno Gassoso– Generatori di idrogeno che utilizzano tecnologie di fuel processing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77440" y="200160"/>
            <a:ext cx="1207800" cy="1164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79800" y="1163520"/>
            <a:ext cx="5842080" cy="5854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3880" y="339840"/>
            <a:ext cx="82346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8. IEC TC 105 Celle a Combusti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84360" y="1436760"/>
            <a:ext cx="8512200" cy="52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' IEC 62282, che è una specifica tecnica, è stata predisposta dalla commissione tecnica IEC 105: "Tecnologie delle celle a combustibile"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è composta dai seguenti capitoli sotto il titolo genera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ecnologie relative alle Celle a Combustib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erminolo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uli di celle a combustib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3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ianti a fuel cell stazionari – Sicurez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3-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ianti a fuel cell stazionari – Metodi di verifica delle prestazion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3-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ianti a fuel cell stazionari – Installaz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4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lle a Combustibile per propuldione e sistemi di generazione ausiliar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5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arecchi portatili a fuel cell – Sicurezza e requisiti prestaziona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6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stemi di generazione con micro fuel cell – Sicurezza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6-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stemi di generazione con micro fuel cell – Prestazioni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6-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stemi di generazione con micro fuel cell  – Intercambiabilità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7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odo di test per monocella su celle a combustibile polimeriche (PEFC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751120" y="1163520"/>
            <a:ext cx="5695920" cy="569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03440" y="339840"/>
            <a:ext cx="823428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8. IEC TC 105 Celle a Combusti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3440" y="1889280"/>
            <a:ext cx="851220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'IEC 62282 è composta dai capitoli seguenti sotto il titolo genera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ecnologie delle Celle a Combustib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inolog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uli di celle a combustib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3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ianti a fuel cell stazionari – Sicurez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3-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ianti a fuel cell stazionari – Metodi di verifica delle prestazion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3-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ianti a fuel cell stazionari – Installaz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4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lle a Combustibile per propuldione e sistemi di generazione ausiliar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5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arecchi portatili a fuel cell – Sicurezza e requisiti prestazional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6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stemi di generazione con micro fuel cell – Sicurezza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6-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stemi di generazione con micro fuel cell – Prestazioni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6-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stemi di generazione con micro fuel cell  – Intercambiabilità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 7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odo di test per monocella su celle a combustibile polimeriche (PEFC) 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021200" y="1266840"/>
            <a:ext cx="19666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"/>
              </a:rPr>
              <a:t>Industria autoveico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84440" y="1380960"/>
            <a:ext cx="235260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"/>
              </a:rPr>
              <a:t>Fornitori per l'industria 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84400" y="2349360"/>
            <a:ext cx="136548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60720" y="2436840"/>
            <a:ext cx="12081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238560" y="4540320"/>
            <a:ext cx="1027080" cy="137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517840" y="5248440"/>
            <a:ext cx="2816280" cy="1461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65360" y="5307120"/>
            <a:ext cx="279252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biettivi congiunti del lavor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curez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tazio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i energet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370240" y="3247920"/>
            <a:ext cx="573120" cy="604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4422600" y="3946680"/>
            <a:ext cx="1366920" cy="1144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00720" y="4037040"/>
            <a:ext cx="12063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C/TC1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uel Cell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1703520" y="3946680"/>
            <a:ext cx="1366560" cy="1144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79480" y="4037040"/>
            <a:ext cx="12081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/TC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4381560" y="3216240"/>
            <a:ext cx="530280" cy="615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90760" y="263520"/>
            <a:ext cx="85867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9.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tandard </a:t>
            </a:r>
            <a:r>
              <a:rPr b="1" lang="en-US" sz="2700" spc="-1" strike="noStrike">
                <a:solidFill>
                  <a:srgbClr val="a50021"/>
                </a:solidFill>
                <a:latin typeface="Arial"/>
              </a:rPr>
              <a:t>SAE</a:t>
            </a:r>
            <a:r>
              <a:rPr b="1" lang="en-US" sz="3100" spc="-1" strike="noStrike">
                <a:solidFill>
                  <a:srgbClr val="a50021"/>
                </a:solidFill>
                <a:latin typeface="Arial"/>
              </a:rPr>
              <a:t> per fuel cell per autoveicoli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04080" y="2341440"/>
            <a:ext cx="381456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4 direttive devono essere vagliate per ricevere un'approvazione per un veicolo in in Europ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un veicolo venisse collaudato con esito positivo secondo queste 44 direttive europee o regolamenti ECE equivalenti allora potrebbe essere approv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994280" y="3397320"/>
            <a:ext cx="5165640" cy="4222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03440" y="339840"/>
            <a:ext cx="823428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10. </a:t>
            </a:r>
            <a:r>
              <a:rPr b="1" lang="en-US" sz="2900" spc="-1" strike="noStrike">
                <a:solidFill>
                  <a:srgbClr val="a50021"/>
                </a:solidFill>
                <a:latin typeface="Arial"/>
              </a:rPr>
              <a:t>Rifornimento di idrogeno e stazioni di rifornimento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5720" y="1946160"/>
            <a:ext cx="81169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stazioni per l'idrogeno devono essere considerate come soggette ad un richio particolare di incendio ed esplosion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grado di rischio influisce sulla tipologia di impiantistica elettric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'installazione e la gestione dei sistemi elettrici nelle stazioni a idrogeno devono essere in sinergia con normative, leggi e regolamenti in vigore in ogni Pae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questa applicazione deve essere tenuta in considerazione in particolare la direttiva ATEX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3440" y="339840"/>
            <a:ext cx="82342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11. ATEX: </a:t>
            </a: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Regolamenti per miscele esplosiv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41600" y="1663560"/>
            <a:ext cx="8151840" cy="31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ttiva 99/92 EC ATEX 137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ttiva 94/9/EC ATEX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 60079-10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pparati elettrici per miscele di gas esplosivi. Part 10: Classificazione delle aree pericolos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 1127-1:1997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Miscele esplosive– prevenzione e protezione da esplosione –Identifica 13 differenti sorgetni di innesco che sono separate in due gruppi, uno con quelle più rilevanti nei gas tecnici ad uso industriale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 13463-1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Apparecchiature non elettriche per miscele potenzialmente esplosive  – Part 1: Metodi di base e requisiti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 26184-2:1991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istemi di protezione da esplosione - Part 2 : Determinazione degli indici di esplosione dei gas combustibili in aria (ISO 6184-2:1985)No89/106/EE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 Standard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 fornisce molte informazioni dettagliate relative ai requisiti di protezione per i dispositivi nelle diverse zone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ec.europa.eu/enterprise/newapproach/standardization/harmstds/reflist/atex.html</a:t>
            </a:r>
            <a:r>
              <a:rPr b="0" lang="en-US" sz="15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593200" y="1163520"/>
            <a:ext cx="1028520" cy="1185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080120" y="1163520"/>
            <a:ext cx="1143000" cy="1185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819440" y="1481040"/>
            <a:ext cx="8342280" cy="5218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03440" y="339840"/>
            <a:ext cx="82342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12. </a:t>
            </a:r>
            <a:r>
              <a:rPr b="1" lang="en-US" sz="3700" spc="-1" strike="noStrike">
                <a:solidFill>
                  <a:srgbClr val="a50021"/>
                </a:solidFill>
                <a:latin typeface="Arial"/>
              </a:rPr>
              <a:t>Cooperazione internazionale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55720" y="0"/>
            <a:ext cx="8278920" cy="793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01800" y="50400"/>
            <a:ext cx="81820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CONTENUT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01800" y="1241280"/>
            <a:ext cx="81820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z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nologie dell'idroge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1 Standard delle Tecnologie dell'idroge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batoi criogen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 combustibili (più leggeri dell'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e sulla tens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urbi elettr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 TC 197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C TC 105 Celle a Combustib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SAE per celle a combustibile per autoveico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fornimento di idrogeno e stazioni di serviz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0640" y="4100400"/>
            <a:ext cx="69246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 internazionali per la standardizzazion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i sono molti enti  internazionali ma i tre che hanno il maggiore riconoscimento son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International Standards Organization (ISO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International Electrotechnical Commission (IEC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International Telecommunication Union (ITU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994600" y="1322280"/>
            <a:ext cx="816120" cy="677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836200" y="1882800"/>
            <a:ext cx="1069920" cy="604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8751960" y="2529000"/>
            <a:ext cx="1239840" cy="41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03440" y="339840"/>
            <a:ext cx="6711840" cy="27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1. Introdu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i Enti Normatori Europei sono CEN, CENELEC e ETS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 è il rappresentante ufficalmente riconosciuto per le normative per i settori eccetto quello elettrotecnico (CENELEC) e delle telecomunicazioni (ETS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C - Cosniglio Euro-Asiatico per la normazione, la metrologia e la certificazi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MM - Istituto per i Materiali di Riferimento e per le Misu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836200" y="3882960"/>
            <a:ext cx="806400" cy="795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8434440" y="5640480"/>
            <a:ext cx="1493640" cy="604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8497800" y="4846680"/>
            <a:ext cx="1663920" cy="582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14640" y="2254320"/>
            <a:ext cx="6245280" cy="5365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03440" y="339840"/>
            <a:ext cx="851220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2. Tecnologie dell'idro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'ISO ha tre commissioni per le normative relative all'idrogen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/TC 197 per le“Tecnologie dell'idrogeno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/TC 58 per “Bombole di Ga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/TC 22 per “Veicoli stradali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 22/SC21 “Veicoli elettrici, ibridi e a celle a combustibile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 22/SC25 “Veicoli stradali che utilizzano GPL, GNC, H2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'IEC ha due commissioni per la normazione relativa all'idroge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C/TC 105 per le celle a combustib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C/TC 69 per i sistemi elettri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 sono importanti direttive e normative relative alle tecnologie e alle infrastrutture per l'utilizzo dell'idrogeno in applicazioni stazionari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ttive ATEX , (95 e 13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D (Direttiva apparecchiature in pressione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ttiva EMC (Compatibilità elettromagnetica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ttiva sulla Sicurezza delle Macch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SO II (grandi q.tà di materiali pericolosi), 96/082/E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14640" y="2254320"/>
            <a:ext cx="6245280" cy="536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03440" y="339840"/>
            <a:ext cx="82342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2. Tecnologie dell'idro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4280" y="1012680"/>
            <a:ext cx="8110440" cy="36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1 Standard delle Tecnologie dell'idroge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3984:1999 Idrogeno liquido - Interfaccia sistema di rifornimento veico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3985:2006 Idrogeno liquido - Serbatoi di combustibile per i veico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4687:1999/Cor 1:2001 Combustibile idrogeno - Specifiche del prodot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PAS 15594:2004 Operazioni per il rifornimento di idrogeno in areopor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TR 15916:2004 Considerazioni di base per la sicurezza dei sistemi a idroge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6110-1:2007 Generatori di idrogeno che utilizzano tecnologie di fuel processing - Part 1: Sicurez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TS 16111:2006 Dispositivi per l'accumulo e trasporto di gas - Idrogeno adsorbito in idruri metallivi reversibili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7268:2006 Dispositivi di connessione per il rifornimento di veicoli con idrogeno compres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14640" y="2254320"/>
            <a:ext cx="6245280" cy="5365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60680" y="1228680"/>
            <a:ext cx="8289720" cy="49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poste in cors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WD 22734 Generatori di idrogeno che utilizzano processi di elettrolisi dell'acqu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WD 13986 Serbatoi per il trasporto dell'idrogeno liquido con diverse modali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poste della Commissi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CD PAS 15594 Struttura per il rifornimento di idrogeno in areopor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 CD 22734 Elettrolizzator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CD 24490 Pompe criogenich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posta Specifiche disponibili pubblicament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PRF TR 15916 Considerazioni di base per la sicurezza dei sistemi a idroge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uovi punti di lavoro propos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AWI 16110 Generatori di idrogeno che utilizzano tencologie di fuel process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AWI 16111 Dispositivi di stoccaggio per il traporto di gas  – Idrogeno adsorbito in idruri metallici reversib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TC 197 NWIP N 253 Dispensing Un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/NP 20012 Idrogeno gassoso e miscele di idrogeno — Stazioni di rifornimento (Bozza di specifiche tecnich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3440" y="339840"/>
            <a:ext cx="82342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2. Tecnologie dell'idro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127400" y="2581200"/>
            <a:ext cx="6032520" cy="5040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43200" y="420840"/>
            <a:ext cx="80722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3440" y="339840"/>
            <a:ext cx="82342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3. Serbatoi criogeni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3440" y="1301760"/>
            <a:ext cx="8512200" cy="46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Europ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ttiva 97/23/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 lo Standard armonizzato EN 13458 fornisce i requisiti fondamentali per la tutela della pressione dei sistemi di accumulo con serbatoi criogeni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13458-1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batoi criogenici - Serbatoi isolati con intercapedine con vuoto - Part 1: Requisiti fondamental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13458-2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batoi criogenici - Serbatoi isolati con intercapedine con il vuoto -Part 2: Progetto, costruzione, ispezione e collau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13458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rbatoi criogenici - Serbatoi isolati con intercapedine con il vuoto -Part 3: Requisiti operativ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14197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rbatoi criogenici – Static non vacuum insulated vessels–Part 3: In funz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13648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batoi criogenici – Dispositivi di sicurezza per la protezione contro pressioni eccessive – part 3: Definizione della capacità di rovesciamento necessaria e dimensionamento dei dispositivi di emergenza for relief de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03440" y="339840"/>
            <a:ext cx="8234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4. Gas combustibi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a50021"/>
                </a:solidFill>
                <a:latin typeface="Arial"/>
              </a:rPr>
              <a:t>(più leggeri dell'ari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1644480"/>
            <a:ext cx="8420400" cy="25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s più leggeri dell'aria: N2, CO,C2H4, B2H6, HCN, C2H2, Ne, HF, NH3, CH4, He, H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rettiva Dispositivi in Pressione  (97/23/EC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rietà, Gestione(trattamento), Stoccaggio, Sicurezza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rbatoi semplici in pressione (87/404/EC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ttiva per i dispositivi in pressione per il trasporto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9/36/EC TP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mbole di gas per il trasporto - 93/42/EE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63520" y="5089680"/>
            <a:ext cx="9812520" cy="2457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03440" y="339840"/>
            <a:ext cx="82342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5. Norme sulla Tens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3440" y="1757520"/>
            <a:ext cx="75135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rettiva per i Sistemi in Bassa Tensione 2006/95/EC (precedentemente 73/23/EEC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lità della Direttiva sui Sistemi in bassa tensione: la direttiva si applica alle 'apparecchiature elettriche' progettate per l'utilizzo con tensione in un campo tra  50 e1000 V per la corrente alternata e tra75 and 1500 V per corrente continua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dere anch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rettiva 94/9/EC (ATEX 10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153200" y="5640480"/>
            <a:ext cx="3006720" cy="1981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153200" y="5640480"/>
            <a:ext cx="1060560" cy="1101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591400" y="2306520"/>
            <a:ext cx="1328760" cy="1370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263520" y="6191280"/>
            <a:ext cx="1038240" cy="793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9600" y="6242040"/>
            <a:ext cx="942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Pilar Sampietro</cp:lastModifiedBy>
  <dcterms:modified xsi:type="dcterms:W3CDTF">2009-02-01T12:43:34Z</dcterms:modified>
  <cp:revision>2</cp:revision>
  <dc:subject/>
  <dc:title>PowerPoint Presentation</dc:title>
</cp:coreProperties>
</file>