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4CA-D482-4B77-8A08-EAF91344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740-5933-442C-98E9-C61BE6B9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9C5-74C2-4AE0-BB2A-1AB778DE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C84-F888-4BBA-A4CE-F91CC01B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062-6BD3-4326-BF3A-E2CB4D68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E36-FE06-40AE-81E3-1E9F046A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BD1-E1AF-4C6E-A4D5-03C57BFD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4C8-3CDC-480E-8349-6F49C235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FA3-35BA-477B-9097-ABC2B690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C82-35C3-4D42-887D-E8DBE291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844-27CE-47F7-820B-93068DA6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C47-8E7E-4FC9-B3A2-3A2BC3FE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9563-5662-4BA3-89CD-29B717884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es/imgres?imgurl=http://www.savioclima.it/images/logoatex.gif&amp;imgrefurl=http://www.savioclima.it/ita/news.htm&amp;h=551&amp;w=475&amp;sz=13&amp;hl=es&amp;start=27&amp;um=1&amp;tbnid=jGkyCPrW0QiWvM:&amp;tbnh=133&amp;tbnw=115&amp;prev=/images%3Fq%3DATEX%26start%3D18%26ndsp%3D18%26svnum%3D10%26um%3D1%26hl%3Des%26sa%3DN" TargetMode="External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05120" y="549360"/>
            <a:ext cx="6667560" cy="48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71880" y="1479600"/>
            <a:ext cx="710064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TIVE, LEGGI E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6. Disturbo elet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43200" y="2100240"/>
            <a:ext cx="74325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Direttiva 89/336/EEC sul disturbo provocato da Macchine e dispositivi (IE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è stata modificata dalla Direttiva 91/263/EEC, dalla Direttiva 92/31/EEC e dalla Direttiva 93/68/EEC.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c.europa.eu/enterprise/electr_equipment/emc/directiv/dir336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43200" y="4660920"/>
            <a:ext cx="759276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ova Direttiva EMC 2004/108/E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è stata pubblicata nella Gazzetta Ufficiale dell'Unione Europea, L 390/24, il 31 dicembre 2004, e abroga la Direttiva 89/336/EEC d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 Luglio 2007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116920" y="687240"/>
            <a:ext cx="1493640" cy="1482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7. ISO TC 197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24200" y="1301760"/>
            <a:ext cx="79516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lità dell' ISO/TC 1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TC 197 è stata creata per promuovere u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scente impiego dell'idroge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e vettore energetico e combust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adardizzazi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campo dei sistemi e delle apparecchia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la produzione, stoccaggio, trasporto misure e utilizzo dell'idrogeno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entativi di standardizzazione della Commissione TEcnica dell' ISO/TC 197 dovrebbero agevolare la nascita di un sistema energetico rinnovabile e sostenibile basato sull'idrogeno come vettore energetico e combustib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la standardizzazione procede parallelamente allo sviluppo tecnologico, il lavoro dell'ISO/TC 197 dovrebbe agevolare l'immediata dimostrazione e l'implementazione delle tecnologie dell'idrogeno che sono necessarie per introdurre l'idrogeno in applicazioni energetiche diff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677440" y="200160"/>
            <a:ext cx="1207800" cy="1164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7. ISO TC 197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1058760"/>
            <a:ext cx="7991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oste in corso di realizzazion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6 15869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drogeno gassoso e miscele — serbatoi per veicoli terrestr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5 17268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revisione IS) Dispositivi di connessione per il rifornimento di veicoli con idrogeno compresso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8 22734-1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eneratori di idrogeno che utilizzano processi di elettrolisi dall'acqua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8 22734-2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eneratori di idrogeno che utilizzano processi di elettrolisi dall'acqua — Part 2: Applicazioni residenzial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9 16110-2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eneratori di idrogeno che utilizzano tecnologie di fuel processing — Part 2: Metodi di prova per le prestazion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10 16111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ispositivi di accumulo per il trasporto di gas  — Idrogeno adsorbito in idruri metallici reversibili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11 20012 (T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drogeno gassoso — Stazioni di rifornimen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12 14687-2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mbustibile Idrogeno — Specifiche del prodotto — Part 2: applicazioni di celle a combustibile PEM per veicoli stradal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13 26142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ilevatori di idrogen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uovi argomenti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positivi di accumulo per il trasporto di gas  – Idrogeno adsorbito in idruri metallici reversibili - Idrogeno Gassoso– Generatori di idrogeno che utilizzano tecnologie di fuel processing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77440" y="200160"/>
            <a:ext cx="1207800" cy="1164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79800" y="1163520"/>
            <a:ext cx="5842080" cy="5854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339840"/>
            <a:ext cx="82346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8. IEC TC 105 Celle a Combusti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84360" y="1436760"/>
            <a:ext cx="8512200" cy="52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 IEC 62282, che è una specifica tecnica, è stata predisposta dalla commissione tecnica IEC 105: "Tecnologie delle celle a combustibile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composta dai seguenti capitoli sotto il titolo genera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nologie relative alle Celle a Combustib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erminolo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i di celle a combust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Sicurez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Metodi di verifica delle prestazio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Install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le a Combustibile per propuldione e sistemi di generazione ausilia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arecchi portatili a fuel cell – Sicurezza e requisiti prestazion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 – Sicurezza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 – Prestazioni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  – Intercambiabilità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7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odo di test per monocella su celle a combustibile polimeriche (PEF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51120" y="1163520"/>
            <a:ext cx="5695920" cy="569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03440" y="339840"/>
            <a:ext cx="82342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8. IEC TC 105 Celle a Combusti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3440" y="1889280"/>
            <a:ext cx="851220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IEC 62282 è composta dai capitoli seguenti sotto il titolo genera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nologie delle Celle a Combustib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inolo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i di celle a combust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Sicurez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Metodi di verifica delle prestazio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Install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le a Combustibile per propuldione e sistemi di generazione ausilia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arecchi portatili a fuel cell – Sicurezza e requisiti prestaziona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 – Sicurezza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 – Prestazioni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  – Intercambiabilità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7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odo di test per monocella su celle a combustibile polimeriche (PEFC) 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021200" y="1266840"/>
            <a:ext cx="19666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Industria autoveico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4440" y="1380960"/>
            <a:ext cx="23526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Fornitori per l'industria 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84400" y="2349360"/>
            <a:ext cx="136548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60720" y="2436840"/>
            <a:ext cx="12081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38560" y="4540320"/>
            <a:ext cx="1027080" cy="13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517840" y="5248440"/>
            <a:ext cx="2816280" cy="1461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65360" y="5307120"/>
            <a:ext cx="2792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biettivi congiunti del lavo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curez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ta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i energe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370240" y="3247920"/>
            <a:ext cx="573120" cy="60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422600" y="3946680"/>
            <a:ext cx="1366920" cy="1144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00720" y="4037040"/>
            <a:ext cx="1206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C/TC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uel Cel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703520" y="3946680"/>
            <a:ext cx="1366560" cy="1144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79480" y="4037040"/>
            <a:ext cx="12081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/TC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4381560" y="3216240"/>
            <a:ext cx="530280" cy="615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90760" y="263520"/>
            <a:ext cx="8586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9.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andard </a:t>
            </a:r>
            <a:r>
              <a:rPr b="1" lang="en-US" sz="2700" spc="-1" strike="noStrike">
                <a:solidFill>
                  <a:srgbClr val="a50021"/>
                </a:solidFill>
                <a:latin typeface="Arial"/>
              </a:rPr>
              <a:t>SAE</a:t>
            </a:r>
            <a:r>
              <a:rPr b="1" lang="en-US" sz="3100" spc="-1" strike="noStrike">
                <a:solidFill>
                  <a:srgbClr val="a50021"/>
                </a:solidFill>
                <a:latin typeface="Arial"/>
              </a:rPr>
              <a:t> per fuel cell per autoveicol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4080" y="2341440"/>
            <a:ext cx="381456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 direttive devono essere vagliate per ricevere un'approvazione per un veicolo in in Euro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un veicolo venisse collaudato con esito positivo secondo queste 44 direttive europee o regolamenti ECE equivalenti allora potrebbe essere approv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94280" y="3397320"/>
            <a:ext cx="5165640" cy="422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03440" y="339840"/>
            <a:ext cx="823428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0. 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Rifornimento di idrogeno e stazioni di rifornimen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5720" y="1946160"/>
            <a:ext cx="8116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azioni per l'idrogeno devono essere considerate come soggette ad un richio particolare di incendio ed esplosion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grado di rischio influisce sulla tipologia di impiantistica elettr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'installazione e la gestione dei sistemi elettrici nelle stazioni a idrogeno devono essere in sinergia con normative, leggi e regolamenti in vigore in ogni Pae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questa applicazione deve essere tenuta in considerazione in particolare la direttiva ATE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1. ATEX: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Regolamenti per miscele esplos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1600" y="1663560"/>
            <a:ext cx="815184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ttiva 99/92 EC ATEX 137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ttiva 94/9/EC ATEX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60079-10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pparati elettrici per miscele di gas esplosivi. Part 10: Classificazione delle aree pericolos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1127-1:1997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Miscele esplosive– prevenzione e protezione da esplosione –Identifica 13 differenti sorgetni di innesco che sono separate in due gruppi, uno con quelle più rilevanti nei gas tecnici ad uso industriale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13463-1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Apparecchiature non elettriche per miscele potenzialmente esplosive  – Part 1: Metodi di base e requisiti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26184-2:1991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istemi di protezione da esplosione - Part 2 : Determinazione degli indici di esplosione dei gas combustibili in aria (ISO 6184-2:1985)No89/106/EE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 Standard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fornisce molte informazioni dettagliate relative ai requisiti di protezione per i dispositivi nelle diverse zone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c.europa.eu/enterprise/newapproach/standardization/harmstds/reflist/atex.html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593200" y="1163520"/>
            <a:ext cx="1028520" cy="1185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080120" y="1163520"/>
            <a:ext cx="1143000" cy="1185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19440" y="1481040"/>
            <a:ext cx="8342280" cy="5218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2. </a:t>
            </a:r>
            <a:r>
              <a:rPr b="1" lang="en-US" sz="3700" spc="-1" strike="noStrike">
                <a:solidFill>
                  <a:srgbClr val="a50021"/>
                </a:solidFill>
                <a:latin typeface="Arial"/>
              </a:rPr>
              <a:t>Cooperazione internazionale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55720" y="0"/>
            <a:ext cx="8278920" cy="79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800" y="50400"/>
            <a:ext cx="81820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CONTENU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01800" y="1241280"/>
            <a:ext cx="8182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nologie dell'idrog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 Standard delle Tecnologie dell'idrog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batoi criogen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combustibili (più leggeri dell'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e sulla tens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urbi elettr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 TC 19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C TC 105 Celle a Combustib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SAE per celle a combustibile per autoveico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fornimento di idrogeno e stazioni di serviz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0640" y="4100400"/>
            <a:ext cx="69246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 internazionali per la standardizzazion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 sono molti enti  internazionali ma i tre che hanno il maggiore riconoscimento son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International Standards Organization (ISO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International Electrotechnical Commission (IEC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International Telecommunication Union (ITU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994600" y="1322280"/>
            <a:ext cx="816120" cy="67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836200" y="1882800"/>
            <a:ext cx="1069920" cy="60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751960" y="2529000"/>
            <a:ext cx="1239840" cy="41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3440" y="339840"/>
            <a:ext cx="6711840" cy="27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. Introdu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Enti Normatori Europei sono CEN, CENELEC e ETS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 è il rappresentante ufficalmente riconosciuto per le normative per i settori eccetto quello elettrotecnico (CENELEC) e delle telecomunicazioni (ETS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C - Cosniglio Euro-Asiatico per la normazione, la metrologia e la certificazi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MM - Istituto per i Materiali di Riferimento e per le Mis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36200" y="3882960"/>
            <a:ext cx="806400" cy="79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434440" y="5640480"/>
            <a:ext cx="1493640" cy="604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8497800" y="4846680"/>
            <a:ext cx="1663920" cy="58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14640" y="2254320"/>
            <a:ext cx="6245280" cy="536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3440" y="339840"/>
            <a:ext cx="851220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. Tecnologie dell'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ISO ha tre commissioni per le normative relative all'idrogen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TC 197 per le“Tecnologie dell'idrogen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TC 58 per “Bombole di Ga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TC 22 per “Veicoli stradali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 22/SC21 “Veicoli elettrici, ibridi e a celle a combustibil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 22/SC25 “Veicoli stradali che utilizzano GPL, GNC, H2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IEC ha due commissioni per la normazione relativa all'idroge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/TC 105 per le celle a combust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/TC 69 per i sistemi elettr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ono importanti direttive e normative relative alle tecnologie e alle infrastrutture per l'utilizzo dell'idrogeno in applicazioni stazionar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ttive ATEX , (95 e 13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 (Direttiva apparecchiature in pression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ttiva EMC (Compatibilità elettromagnetic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ttiva sulla Sicurezza delle Mac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SO II (grandi q.tà di materiali pericolosi), 96/082/E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14640" y="2254320"/>
            <a:ext cx="6245280" cy="536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. Tecnologie dell'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4280" y="1012680"/>
            <a:ext cx="811044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1 Standard delle Tecnologie dell'idroge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3984:1999 Idrogeno liquido - Interfaccia sistema di rifornimento veico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3985:2006 Idrogeno liquido - Serbatoi di combustibile per i veico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4687:1999/Cor 1:2001 Combustibile idrogeno - Specifiche del prodot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PAS 15594:2004 Operazioni per il rifornimento di idrogeno in areopo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TR 15916:2004 Considerazioni di base per la sicurezza dei sistemi a idroge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6110-1:2007 Generatori di idrogeno che utilizzano tecnologie di fuel processing - Part 1: Sicurez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TS 16111:2006 Dispositivi per l'accumulo e trasporto di gas - Idrogeno adsorbito in idruri metallivi reversibili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7268:2006 Dispositivi di connessione per il rifornimento di veicoli con idrogeno compr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14640" y="2254320"/>
            <a:ext cx="6245280" cy="5365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60680" y="1228680"/>
            <a:ext cx="8289720" cy="49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poste in cors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WD 22734 Generatori di idrogeno che utilizzano processi di elettrolisi dell'acq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WD 13986 Serbatoi per il trasporto dell'idrogeno liquido con diverse modali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poste della Commiss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CD PAS 15594 Struttura per il rifornimento di idrogeno in areopor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 CD 22734 Elettrolizzato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CD 24490 Pompe criogeni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posta Specifiche disponibili pubblicament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PRF TR 15916 Considerazioni di base per la sicurezza dei sistemi a idroge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uovi punti di lavoro propos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AWI 16110 Generatori di idrogeno che utilizzano tencologie di fuel process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AWI 16111 Dispositivi di stoccaggio per il traporto di gas  – Idrogeno adsorbito in idruri metallici reversi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TC 197 NWIP N 253 Dispensing Un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NP 20012 Idrogeno gassoso e miscele di idrogeno — Stazioni di rifornimento (Bozza di specifiche tecnich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. Tecnologie dell'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27400" y="2581200"/>
            <a:ext cx="6032520" cy="5040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43200" y="420840"/>
            <a:ext cx="8072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3. Serbatoi criogen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3440" y="1301760"/>
            <a:ext cx="8512200" cy="46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Europ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ttiva 97/23/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 lo Standard armonizzato EN 13458 fornisce i requisiti fondamentali per la tutela della pressione dei sistemi di accumulo con serbatoi criogen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3458-1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batoi criogenici - Serbatoi isolati con intercapedine con vuoto - Part 1: Requisiti fondamenta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3458-2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batoi criogenici - Serbatoi isolati con intercapedine con il vuoto -Part 2: Progetto, costruzione, ispezione e collau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3458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batoi criogenici - Serbatoi isolati con intercapedine con il vuoto -Part 3: Requisiti operativ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4197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batoi criogenici – Static non vacuum insulated vessels–Part 3: In fun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3648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batoi criogenici – Dispositivi di sicurezza per la protezione contro pressioni eccessive – part 3: Definizione della capacità di rovesciamento necessaria e dimensionamento dei dispositivi di emergenza for relief de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3440" y="339840"/>
            <a:ext cx="8234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4. Gas combustibi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(più leggeri dell'ari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644480"/>
            <a:ext cx="84204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s più leggeri dell'aria: N2, CO,C2H4, B2H6, HCN, C2H2, Ne, HF, NH3, CH4, He, H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ttiva Dispositivi in Pressione  (97/23/E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rietà, Gestione(trattamento), Stoccaggio, Sicurezz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batoi semplici in pressione (87/404/E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ttiva per i dispositivi in pressione per il trasporto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/36/EC TP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mbole di gas per il trasporto - 93/42/EE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3520" y="5089680"/>
            <a:ext cx="9812520" cy="2457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5. Norme sulla Ten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3440" y="1757520"/>
            <a:ext cx="75135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ttiva per i Sistemi in Bassa Tensione 2006/95/EC (precedentemente 73/23/EEC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lità della Direttiva sui Sistemi in bassa tensione: la direttiva si applica alle 'apparecchiature elettriche' progettate per l'utilizzo con tensione in un campo tra  50 e1000 V per la corrente alternata e tra75 and 1500 V per corrente continua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dere anch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ttiva 94/9/EC (ATEX 1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153200" y="5640480"/>
            <a:ext cx="300672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153200" y="5640480"/>
            <a:ext cx="1060560" cy="110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591400" y="2306520"/>
            <a:ext cx="1328760" cy="13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ilar Sampietro</cp:lastModifiedBy>
  <dcterms:modified xsi:type="dcterms:W3CDTF">2009-02-01T12:43:34Z</dcterms:modified>
  <cp:revision>2</cp:revision>
  <dc:subject/>
  <dc:title>PowerPoint Presentation</dc:title>
</cp:coreProperties>
</file>