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CF2-646E-4AD4-9C4C-06E7C5A2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FB1-0216-49D9-AB4E-E9352A13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E5E-3046-42F1-91C2-0BC83B3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78F-5764-4724-87D8-A5A3D751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CE2-1F78-419C-8D49-8378B7A5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C31-868D-48A4-8A17-08E212F6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48F-0BB7-4207-9DEC-DDBE9D2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DE5-3D65-4518-AFE4-D24E2487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126-805C-4316-8C24-9F4FCEC4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460-A287-41A2-BAC5-E138619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794-C93D-412C-A8AF-B67A600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5EC-24EA-47F4-B6E5-B51D788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D1FE-2A2C-43ED-9EEB-63B444858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06480" y="285840"/>
            <a:ext cx="8355240" cy="17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200" y="339840"/>
            <a:ext cx="82710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en-US" sz="4700" spc="-1" strike="noStrike">
                <a:solidFill>
                  <a:srgbClr val="ba1e31"/>
                </a:solidFill>
                <a:latin typeface="Arial"/>
              </a:rPr>
              <a:t>Impianti di cogenerazion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61800" y="2420640"/>
            <a:ext cx="711828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ema degli impianti di cognerazion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ndamenti delle tecnologie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Le Celle a combustibile sono tratta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un capitolo a parte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gas 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58920" y="1428840"/>
            <a:ext cx="7504200" cy="5503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cherose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ò essere utilizzato solo se non sono disponibili il gas naturale o il biogas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825560" y="2762280"/>
            <a:ext cx="813924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cherosene - immagi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379680" y="1406520"/>
            <a:ext cx="426096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04960" y="6961320"/>
            <a:ext cx="60706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: 5 kWe heating oil engine in a Municipality house (Amel - Belgi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biog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disponibile il biogas è ragionevole l'utilizzo di un motore a biogas per motivi ecologici ed economici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19360" y="2846520"/>
            <a:ext cx="83134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biogas– </a:t>
            </a:r>
            <a:br>
              <a:rPr sz="3500"/>
            </a:b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mmagin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34120" y="603360"/>
            <a:ext cx="4778280" cy="360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825560" y="4327560"/>
            <a:ext cx="4778280" cy="2847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67560" y="5605560"/>
            <a:ext cx="3398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magine: motore a biogas da 102 kWe in un piccolo paese (La Surizée - Belg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66960" y="2340000"/>
            <a:ext cx="3398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magine: motore a biogas da 1.25 MWe presso Food Industry Lutosa (Electrabel – Belg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vapo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782720" y="833400"/>
            <a:ext cx="8329680" cy="27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nologia utilizzata per cogenerazione su larga scala da molti an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di unità disponibili: a partire da ~200 kW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za complessiva generlamente alta, raggiungendo perfino l'84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ziona con: combustibili solidi, liquidi o gassosi (anche rinnovabili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47800" y="3492360"/>
            <a:ext cx="8285040" cy="3841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vapore 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324160" y="1565280"/>
            <a:ext cx="7045200" cy="5494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Stirl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2960" y="882720"/>
            <a:ext cx="858528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i motori sono dispositivi a combustione esterna - diversi da quelli convenzional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ponibili solo per applicazioni di piccola taglia (0.2-9 kWe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iede poca manutenzione, le emissioni di inquinanti sono basse (a seconda della fonte di energia- solitamente gas natural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874880" y="2946240"/>
            <a:ext cx="8285040" cy="389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Stirling 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147760" y="1406520"/>
            <a:ext cx="7788240" cy="5780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Contatt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GEN Euro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ulledelle 98, B-1200 Bruss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: +32 2 772 82 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fan Cra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fan.craenen@cogen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raz Energy Agency Lt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al Info Point for cogen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iserfeldgasse 13/1, A-8010 Gr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: +43 316 811 84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niel Schinnerl, Jan W. Bley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innerl@grazer-ea.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18440" y="1914480"/>
            <a:ext cx="3684240" cy="198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140600" y="5005440"/>
            <a:ext cx="23065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nd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80840" y="1460160"/>
            <a:ext cx="851220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rincipio della cogener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gliere la tecnologia corretta per la cogener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bina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e a cheros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e a bi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bina a vap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e Stir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t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17280"/>
            <a:ext cx="8488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l principio della cogenerazione:</a:t>
            </a:r>
            <a:br>
              <a:rPr sz="3500"/>
            </a:b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Cogenerazione vs Produzione Separat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197080" y="1565280"/>
            <a:ext cx="7280280" cy="5473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3040" y="7140600"/>
            <a:ext cx="57628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Bundesverband Kraft-Wärme-Kopplu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l principio della cogenerazio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13040" y="7140600"/>
            <a:ext cx="57628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Bundesverband Kraft-Wärme-Kopplu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1565280"/>
            <a:ext cx="10159920" cy="6054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Scegliere la tecnologia per cogenerazione corretta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no disponibili tecnologie differenti per produrre energia elettrica e calore insie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iteri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utenti devono utilizzare il calore vicino all'impianto per evitare dispersioni nella trasmissio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ecnologia dell'impianto deve essere scelta in funzione al fabbisogno di calore specifico dell'utenz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unità di cogenerazione devono essere dimensionate sulla taglia dell'utenz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nte di energia disponib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tabella nella pagina successiva fornisce una descrizione generale delle diverse tecnologie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Quadro delle tecnologie per la co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947600" y="5576760"/>
            <a:ext cx="818028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++" significa che la tecnologia è molto adatta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+" significa meno adatt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ssuna indicazione significa che non è adatta per produrre il tipo di energia termica indicat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28720" y="754200"/>
            <a:ext cx="8286840" cy="4593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728120" y="4600440"/>
            <a:ext cx="2120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fferenti tipi di fuel cell esistenti; non è possibile una 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g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874880" y="790560"/>
            <a:ext cx="80532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nologia molto importante per cogenerazione  su larga sca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pia scala di unità disponibili: a partire dalle microturbine con ~30 kW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issioni ridotte di ossidi di azoto e zolfo rispetto al gasol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79400" y="3322800"/>
            <a:ext cx="8412480" cy="392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gas 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 and Wikipedia. 2007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68600" y="1406520"/>
            <a:ext cx="6429240" cy="5759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17920" y="6819840"/>
            <a:ext cx="1008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g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90200" y="790560"/>
            <a:ext cx="81615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motore a combustione interna funziona con lo stesso principio del motore per autoveicoli a benzina o dies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à disponibili da 5 kWe fino a più di 1,000 kW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za elettrica maggiore delle turbine, ma l'energia termica è generalmente a temperatura più bas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689120" y="3222720"/>
            <a:ext cx="8345520" cy="385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38:13Z</dcterms:modified>
  <cp:revision>2</cp:revision>
  <dc:subject/>
  <dc:title>PowerPoint Presentation</dc:title>
</cp:coreProperties>
</file>