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D39-45E5-4F0D-9583-6EEC0C0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508-4B23-4D5F-A23B-620FFC8C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60B-38D5-4FD9-AA73-7EBC632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7EA-466A-4D40-805A-75B6FB59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54A-CFBB-43F4-AC1E-24B2D16E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858-615C-4A98-8B72-24E86D1F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306-B81E-422E-B803-0E19273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37D-8173-40A3-BAE3-77E605C1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018-FDB6-4AC8-8B2B-0834D84C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4E5-CC49-4997-8A95-F64CFED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ABE-B762-4F1E-BA8F-DC8B9AE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B11-C0D9-49A3-8FF2-0C4454B1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A08-D764-463B-94F4-631BD0F78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806480" y="285840"/>
            <a:ext cx="8355240" cy="17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200" y="339840"/>
            <a:ext cx="82710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en-US" sz="4700" spc="-1" strike="noStrike">
                <a:solidFill>
                  <a:srgbClr val="ba1e31"/>
                </a:solidFill>
                <a:latin typeface="Arial"/>
              </a:rPr>
              <a:t>Impianti di cogenerazion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61800" y="2420640"/>
            <a:ext cx="711828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ema degli impianti di cognerazion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ndamenti delle tecnologie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Le Celle a combustibile sono tratta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un capitolo a parte)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gas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58920" y="1428840"/>
            <a:ext cx="7504200" cy="550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cherose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ò essere utilizzato solo se non sono disponibili il gas naturale o il biogas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825560" y="2762280"/>
            <a:ext cx="813924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cherosene - immagi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379680" y="1406520"/>
            <a:ext cx="426096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04960" y="6961320"/>
            <a:ext cx="60706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: 5 kWe heating oil engine in a Municipality house (Amel - Belgi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bio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disponibile il biogas è ragionevole l'utilizzo di un motore a biogas per motivi ecologici ed economici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19360" y="2846520"/>
            <a:ext cx="83134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biogas– </a:t>
            </a:r>
            <a:br>
              <a:rPr sz="3500"/>
            </a:b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mmagin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334120" y="603360"/>
            <a:ext cx="4778280" cy="360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825560" y="4327560"/>
            <a:ext cx="4778280" cy="2847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67560" y="5605560"/>
            <a:ext cx="3398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magine: motore a biogas da 102 kWe in un piccolo paese (La Surizée - Belg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66960" y="2340000"/>
            <a:ext cx="3398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magine: motore a biogas da 1.25 MWe presso Food Industry Lutosa (Electrabel – Belg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vap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782720" y="833400"/>
            <a:ext cx="8329680" cy="27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nologia utilizzata per cogenerazione su larga scala da molti an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nge di unità disponibili: a partire da ~20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za complessiva generlamente alta, raggiungendo perfino l'84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ziona con: combustibili solidi, liquidi o gassosi (anche rinnovabili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47800" y="3492360"/>
            <a:ext cx="8285040" cy="3841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vapore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324160" y="1565280"/>
            <a:ext cx="7045200" cy="5494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Stirl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2960" y="882720"/>
            <a:ext cx="858528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i motori sono dispositivi a combustione esterna - diversi da quelli convenziona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ponibili solo per applicazioni di piccola taglia (0.2-9 kWe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iede poca manutenzione, le emissioni di inquinanti sono basse (a seconda della fonte di energia- solitamente gas natural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874880" y="2946240"/>
            <a:ext cx="8285040" cy="389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Stirling 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147760" y="1406520"/>
            <a:ext cx="7788240" cy="5780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ntatt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GEN Euro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ulledelle 98, B-1200 Bruss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 +32 2 772 82 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fan Cra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fan.craenen@cogen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raz Energy Agency Lt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tional Info Point for cogen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iserfeldgasse 13/1, A-8010 Gra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: +43 316 811 8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niel Schinnerl, Jan W. Bley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innerl@grazer-ea.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418440" y="1914480"/>
            <a:ext cx="3684240" cy="19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140600" y="5005440"/>
            <a:ext cx="23065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nd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80840" y="1460160"/>
            <a:ext cx="851220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rincipio della cogener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egliere la tecnologia corretta per la cogener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bina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a cheros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a bio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bina a vap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e Stir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61680" y="17280"/>
            <a:ext cx="84884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l principio della cogenerazione:</a:t>
            </a:r>
            <a:br>
              <a:rPr sz="3500"/>
            </a:b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Cogenerazione vs Produzione Separat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197080" y="1565280"/>
            <a:ext cx="7280280" cy="5473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3040" y="7140600"/>
            <a:ext cx="57628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Bundesverband Kraft-Wärme-Kopplu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Il principio della cogenerazio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13040" y="7140600"/>
            <a:ext cx="57628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Bundesverband Kraft-Wärme-Kopplun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1565280"/>
            <a:ext cx="10159920" cy="6054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Scegliere la tecnologia per cogenerazione corretta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3880" y="1460160"/>
            <a:ext cx="819792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o disponibili tecnologie differenti per produrre energia elettrica e calore insie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riteri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utenti devono utilizzare il calore vicino all'impianto per evitare dispersioni nella trasmissio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ecnologia dell'impianto deve essere scelta in funzione al fabbisogno di calore specifico dell'utenz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unità di cogenerazione devono essere dimensionate sulla taglia dell'utenz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nte di energia disponib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tabella nella pagina successiva fornisce una descrizione generale delle diverse tecnologie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Quadro delle tecnologie per la co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947600" y="5576760"/>
            <a:ext cx="818028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++" significa che la tecnologia è molto adatta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"+" significa meno adat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ssuna indicazione significa che non è adatta per produrre il tipo di energia termica indicat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28720" y="754200"/>
            <a:ext cx="8286840" cy="4593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728120" y="4600440"/>
            <a:ext cx="2120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fferenti tipi di fuel cell esistenti; non è possibile una 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874880" y="790560"/>
            <a:ext cx="80532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cnologia molto importante per cogenerazione  su larga sca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mpia scala di unità disponibili: a partire dalle microturbine con ~3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missioni ridotte di ossidi di azoto e zolfo rispetto al gasol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79400" y="3322800"/>
            <a:ext cx="8412480" cy="392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Turbina a gas - schem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 and Wikipedia. 2007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68600" y="1406520"/>
            <a:ext cx="6429240" cy="575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17920" y="6819840"/>
            <a:ext cx="1008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7089840"/>
            <a:ext cx="714240" cy="531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520" y="7140600"/>
            <a:ext cx="649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3880" y="7299360"/>
            <a:ext cx="34243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© Graz Energy Agency - For requests: schinnerl@grazer-ea.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47800" y="0"/>
            <a:ext cx="828504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50400"/>
            <a:ext cx="81979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a1e31"/>
                </a:solidFill>
                <a:latin typeface="Arial"/>
              </a:rPr>
              <a:t>Motore a ga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90200" y="790560"/>
            <a:ext cx="816156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motore a combustione interna funziona con lo stesso principio del motore per autoveicoli a benzina o dies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à disponibili da 5 kWe fino a più di 1,000 kW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cienza elettrica maggiore delle turbine, ma l'energia termica è generalmente a temperatura più bass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3040" y="7299360"/>
            <a:ext cx="57628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ource: COGENchallenge: Pick the right cogeneration technology. 200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689120" y="3222720"/>
            <a:ext cx="8345520" cy="385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7112160"/>
            <a:ext cx="684360" cy="507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20" y="7162920"/>
            <a:ext cx="627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ilar Sampietro</cp:lastModifiedBy>
  <dcterms:modified xsi:type="dcterms:W3CDTF">2009-02-01T12:38:13Z</dcterms:modified>
  <cp:revision>2</cp:revision>
  <dc:subject/>
  <dc:title>PowerPoint Presentation</dc:title>
</cp:coreProperties>
</file>