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F61943-3631-426B-AE9D-371408CD8A2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21F2CA3-7982-4607-977C-27792022623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055520" y="646200"/>
            <a:ext cx="4659480" cy="3225600"/>
          </a:xfrm>
          <a:prstGeom prst="rect">
            <a:avLst/>
          </a:prstGeom>
          <a:ln w="0">
            <a:noFill/>
          </a:ln>
        </p:spPr>
      </p:sp>
      <p:sp>
        <p:nvSpPr>
          <p:cNvPr id="12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l objetivo de este capítulo es proporcinar una visión general del manual, así como dar consejos generales para los contenidos de los otros capítulo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55520" y="646200"/>
            <a:ext cx="4659480" cy="3225600"/>
          </a:xfrm>
          <a:prstGeom prst="rect">
            <a:avLst/>
          </a:prstGeom>
          <a:ln w="0">
            <a:noFill/>
          </a:ln>
        </p:spPr>
      </p:sp>
      <p:sp>
        <p:nvSpPr>
          <p:cNvPr id="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xisten 4 puntos fundamentales en este capítulo.( cada uno de los cuales está explicado en la diapositiva y nota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ste manual, por su naturaleza, debe ser flexible. Es una herramienta diseñada para ser usada en diferentes contextos. Por ejemplo, puede ser usada durante una sesión intensiva de formación con una duración de varios días. O se pueden usar capítulos individuales en sesiones cortas desarrolladas en un periodo largo de tiempo. Por esto, los contenidos y presentación deben ser flexib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e espera que este manual se use como punto de partida para construir un curso que sea útil y práctico para diferentes niveles. El profesorado puede expandirse en algunos apartado o incluso cambiar el orden. El manual no tiene que ser prescriptiv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os contenidos de este manual deben ser apropiados para diferentes niveles de alumnos. Esto es un punto relativamente nuevo, por esta razón debe interesar a todos los empleados de una organización: desde el director hasta el personal que maneja las nuevas tecnología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055520" y="646200"/>
            <a:ext cx="4659480" cy="3225600"/>
          </a:xfrm>
          <a:prstGeom prst="rect">
            <a:avLst/>
          </a:prstGeom>
          <a:ln w="0">
            <a:noFill/>
          </a:ln>
        </p:spPr>
      </p:sp>
      <p:sp>
        <p:nvSpPr>
          <p:cNvPr id="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l manual está dividido en capítulo, cada uno dedicado a un tema general o específico. Alguno de los capítulos proporciona una visión general de los temas y otros proporcionan la oportunidad de profundizar en aspectos particula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a información se presenta en diapositivas, muchas de las cuales se completan con notas que amplían lo mostrado. En general las diapositivas son para los estudiantes y las notas aportan información al profesor. En la práctica, puede ser una ventaja que los estudiantes puedan acceder también a las notas, aunque eso depende de los estilos y preferencias del profes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 prinicipio del cada capítulo hay un índice. Aporta información al profesor y estudiante de lo que pueden encontrar. También proporciona claves para la programación del profes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1000" spc="-1" strike="noStrike">
                <a:solidFill>
                  <a:srgbClr val="000000"/>
                </a:solidFill>
                <a:latin typeface="Arial"/>
              </a:rPr>
              <a:t>Nivel </a:t>
            </a:r>
            <a:r>
              <a:rPr b="0" lang="en-GB" sz="1000" spc="-1" strike="noStrike">
                <a:solidFill>
                  <a:srgbClr val="000000"/>
                </a:solidFill>
                <a:latin typeface="Arial"/>
              </a:rPr>
              <a:t>describe el nivel apropiado de los estudiantes</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quisitos </a:t>
            </a:r>
            <a:r>
              <a:rPr b="0" lang="de-DE" sz="1000" spc="-1" strike="noStrike">
                <a:solidFill>
                  <a:srgbClr val="000000"/>
                </a:solidFill>
                <a:latin typeface="Arial"/>
              </a:rPr>
              <a:t>sugiere que conocimientos o capítulos son necesarios para trabajar es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Objetivos generales </a:t>
            </a:r>
            <a:r>
              <a:rPr b="0" lang="de-DE" sz="1000" spc="-1" strike="noStrike">
                <a:solidFill>
                  <a:srgbClr val="000000"/>
                </a:solidFill>
                <a:latin typeface="Arial"/>
              </a:rPr>
              <a:t>proporciona una breve descripción del capítul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Contenidos una lista de los temas principales que se reco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Resultados de aprendizaje</a:t>
            </a:r>
            <a:r>
              <a:rPr b="0" lang="de-DE" sz="1000" spc="-1" strike="noStrike">
                <a:solidFill>
                  <a:srgbClr val="000000"/>
                </a:solidFill>
                <a:latin typeface="Arial"/>
              </a:rPr>
              <a:t> givesuna indicación para el alumno de lo que pueden aprender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odología</a:t>
            </a:r>
            <a:r>
              <a:rPr b="0" lang="de-DE" sz="1000" spc="-1" strike="noStrike">
                <a:solidFill>
                  <a:srgbClr val="000000"/>
                </a:solidFill>
                <a:latin typeface="Arial"/>
              </a:rPr>
              <a:t> consejos para el profesor para una enseñanza apropiad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Temporalización</a:t>
            </a:r>
            <a:r>
              <a:rPr b="0" lang="de-DE" sz="1000" spc="-1" strike="noStrike">
                <a:solidFill>
                  <a:srgbClr val="000000"/>
                </a:solidFill>
                <a:latin typeface="Arial"/>
              </a:rPr>
              <a:t> timepo estimado para trabajar todo el materia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55520" y="646200"/>
            <a:ext cx="4659480" cy="3225600"/>
          </a:xfrm>
          <a:prstGeom prst="rect">
            <a:avLst/>
          </a:prstGeom>
          <a:ln w="0">
            <a:noFill/>
          </a:ln>
        </p:spPr>
      </p:sp>
      <p:sp>
        <p:nvSpPr>
          <p:cNvPr id="13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Es importante que el profesor valore el alumnado, de manera que ajuste los contenidos y metodología correctamente. Aportar información abstracta, muy específica o incomprensible en cierta materias puede ser contraproducente. El manual contiene niveles orientativos a través de un código de colores que aparece en el margen inferior izquierdo en cada diapositiva. Esto permite al profesor seleccionar las diapositivas de forma rápida pensando en lo apropiado para su cl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ay muchas formas de impartir los contenidos de éste módulo. Las diapositivas pueden usarse como material de clase para que el profesor haga la exposición oral y el alumno tome notas. Además, si es posible, se pueden utilizar como base para foros, debates o actividades. Los estudios pedagógicos señalan que el alumno aprende mejor “haciendo” que sólo “escuchando”. Cuanto más requiera la actividad de su participación, más le motivará y gustará aprender al alumno. Las prácticas reales son las que el alumno guarda con mejor recuerd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 supuesto, la elección de la metodología vendrá determinada por la realidad. Preparar foros y actividades para un grupo requiere su tiempo. Y el uso de instalaciones y equipos específicos depende de la disponibilidad de los recurs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 final, la pedagogía y método seleccionado será aquel que presente la información y periodicamente la evalúe para ver el grado de comprensión. Esto requiere una participación activa tanto por parte del profesor como del alumno. El profesor desarrolla sus propias herramientas para motivar al alumno. El mejor método es el que saca partido de las fortalezas del profeso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Formación práctica</a:t>
            </a:r>
            <a:endParaRPr b="1" lang="en-US" sz="3700" spc="-1" strike="noStrike">
              <a:solidFill>
                <a:srgbClr val="ba1e31"/>
              </a:solidFill>
              <a:latin typeface="Arial"/>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isión general del manual</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Y</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nsejos prácticos para la form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a importancia de la flexibilida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tructura del manua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ivel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todologí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 importancia de la flexibiliad</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s usos del manu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siones continuas de formac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as individuale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 público objetiv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ásico – intermedi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medio – avanzad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ferente secuenciació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siones intensivas de corta du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as individuales desarrollados en periodos más largos de tiemp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structura</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apítulos: diapositivas y nota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Índice de capítul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quisit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tivos general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tenid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ultados de aprendizaj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odologí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mporalizació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	</a:t>
            </a:r>
            <a:r>
              <a:rPr b="1" lang="en-GB" sz="3200" spc="-1" strike="noStrike">
                <a:solidFill>
                  <a:srgbClr val="ba1e31"/>
                </a:solidFill>
                <a:latin typeface="SwitzerlandCondBlack"/>
              </a:rPr>
              <a:t>Niveles</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lorar el nivel de los estudiant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s niveles son orientativos no prescriptiv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ásico, Intermedio, avanzad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Básico</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nivel genérico que no requiere conocimientos específicos de física, química o matemáticas. Un estudiante de este nivel podría ser uno que no tiene estudios superiores o no se siente seguro en esta materia.</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intermedio</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estudiante que tiene interés en los contenidos teóricos de las diapositivas. Tienen conocimientos básicos de química, física o matemáticas. Son estudiantes con estudios superiores o con interés en la materia.</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Nivel avanzado</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 nivel para estudiantes con gran conocimiento de los contenidos teóricos o matemáticos de las diapositivas. Son estudiantes con gran conocimiento en química, física o matemáticas.</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Metodología</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erentes métod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ctores determinante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urs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bilidad y conocimiento del profeso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dagogía selccionada</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tiliza tus fortalez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2-04T10:09:37Z</dcterms:modified>
  <cp:revision>520</cp:revision>
  <dc:subject/>
  <dc:title>Energie-Contracting</dc:title>
</cp:coreProperties>
</file>