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50616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37FEA1A0-D5B0-4322-8B1A-7FE2084A6625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2"/>
          </p:nvPr>
        </p:nvSpPr>
        <p:spPr>
          <a:xfrm>
            <a:off x="506520" y="9559440"/>
            <a:ext cx="4751280" cy="2876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3"/>
          </p:nvPr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C52FEC-F1B4-4176-995F-47A79F7CD262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Img"/>
          </p:nvPr>
        </p:nvSpPr>
        <p:spPr>
          <a:xfrm>
            <a:off x="936720" y="646200"/>
            <a:ext cx="4897440" cy="322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1e31"/>
                </a:solidFill>
                <a:latin typeface="SwitzerlandCondBlack"/>
              </a:rPr>
              <a:t>Click to move the slide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93C2555C-C062-4354-A3E3-566457C591A5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0B6470-15D6-4DB5-A06F-90EBD89D034B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CD34EED0-CEF4-47EA-9395-DF1EE4C546F4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C9EA17-BC8B-4AE8-9697-35C718F9A767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3B41521C-0F06-4EA0-B357-79BA92EA69AC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3C528B-BFDD-4223-8288-F9F6A961486A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5431446A-103A-467D-A300-E53FBA4CA6A4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907D8C-9E41-471F-9C43-35B799652BB3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41842110-48B1-41EF-B749-98EB7A38937E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101D08-3416-43BA-82E9-8520F9927766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5253C5B0-5CF6-4C27-837B-38E3F7E1B592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4E2500-CB00-4584-9225-C05D8445BBF7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CCA0E3C9-5790-4AE5-9EC8-290029F5A0BC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67AB2F-6097-46CC-94A6-B9245A69D40A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6C97B74B-76B8-4167-AE5A-93870C604375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2FB9CA-50E3-44D5-A077-71B731278176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788DF7A4-E5AF-466F-AA3A-20BDA9BB8C57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1B28EF-B1E7-4980-AA58-EE7BB1F63E71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35D0D779-E5AE-4AF7-8D74-999210691238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87CDE9-E866-4CC9-B850-0368F4D6E0B5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178DB9DA-3EC4-475E-B82B-5B7A650CE4F6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4FD22F-7BB8-4A17-91A9-9AD3CE67E9A9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016FBEEB-3A70-474A-B060-F4D0BC5EFA16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16C269-1ECC-44B8-8DBE-D3C04C6FF614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F33A75A4-ABDE-464D-89F5-05F2EC9F7D83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09159F-C1C3-4C45-BDC7-D31C9C5050FA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99E9CC01-0482-497B-8750-F86A8C4B8C4B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E7CFC2-7563-4C11-AA85-AB8986BD97DE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A862B9A2-AA0E-4086-A806-FBCEAF6DFAFD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1813DD-1138-435A-B215-03CFAB24AAB3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ADCA589F-2703-4547-85A9-7511A46A36E2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DB7839-D78D-4B91-85A0-49EBDAA0162A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916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6544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252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3916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6544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12520" y="-360"/>
            <a:ext cx="80643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3916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16544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71252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3916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16544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2520" y="-360"/>
            <a:ext cx="80643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1e31"/>
                </a:solidFill>
                <a:latin typeface="SwitzerlandCondBlack"/>
              </a:rPr>
              <a:t>Click to edit the title text format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6676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33372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8920" indent="56988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8920" indent="5698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8920" indent="5698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6"/>
          <p:cNvSpPr/>
          <p:nvPr/>
        </p:nvSpPr>
        <p:spPr>
          <a:xfrm>
            <a:off x="-19080" y="-6480"/>
            <a:ext cx="1620720" cy="6858000"/>
          </a:xfrm>
          <a:prstGeom prst="rect">
            <a:avLst/>
          </a:prstGeom>
          <a:solidFill>
            <a:srgbClr val="e1f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pic>
        <p:nvPicPr>
          <p:cNvPr id="3" name="Picture 117" descr="LOGO DEFINITIVO"/>
          <p:cNvPicPr/>
          <p:nvPr/>
        </p:nvPicPr>
        <p:blipFill>
          <a:blip r:embed="rId2"/>
          <a:stretch/>
        </p:blipFill>
        <p:spPr>
          <a:xfrm>
            <a:off x="55440" y="50760"/>
            <a:ext cx="1441440" cy="817560"/>
          </a:xfrm>
          <a:prstGeom prst="rect">
            <a:avLst/>
          </a:prstGeom>
          <a:ln w="0">
            <a:noFill/>
          </a:ln>
        </p:spPr>
      </p:pic>
      <p:sp>
        <p:nvSpPr>
          <p:cNvPr id="4" name="Text Box 124"/>
          <p:cNvSpPr/>
          <p:nvPr/>
        </p:nvSpPr>
        <p:spPr>
          <a:xfrm>
            <a:off x="-87480" y="871560"/>
            <a:ext cx="176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a91b2c"/>
                </a:solidFill>
                <a:latin typeface="Arial"/>
              </a:rPr>
              <a:t>www.h2training.eu</a:t>
            </a:r>
            <a:endParaRPr b="1" lang="en-US" sz="1200" spc="-1" strike="noStrike">
              <a:solidFill>
                <a:srgbClr val="000000"/>
              </a:solidFill>
              <a:latin typeface="Colonna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8"/>
          <p:cNvSpPr/>
          <p:nvPr/>
        </p:nvSpPr>
        <p:spPr>
          <a:xfrm>
            <a:off x="-19080" y="-6480"/>
            <a:ext cx="1620720" cy="685800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42" name="Rectangle 93"/>
          <p:cNvSpPr/>
          <p:nvPr/>
        </p:nvSpPr>
        <p:spPr>
          <a:xfrm>
            <a:off x="0" y="4554360"/>
            <a:ext cx="9906120" cy="230364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43" name="AutoShape 94"/>
          <p:cNvSpPr/>
          <p:nvPr/>
        </p:nvSpPr>
        <p:spPr>
          <a:xfrm rot="3120600">
            <a:off x="964440" y="2681280"/>
            <a:ext cx="2576520" cy="2376360"/>
          </a:xfrm>
          <a:prstGeom prst="pie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pic>
        <p:nvPicPr>
          <p:cNvPr id="44" name="Picture 79" descr="LOGO DEFINITIVO"/>
          <p:cNvPicPr/>
          <p:nvPr/>
        </p:nvPicPr>
        <p:blipFill>
          <a:blip r:embed="rId2"/>
          <a:stretch/>
        </p:blipFill>
        <p:spPr>
          <a:xfrm>
            <a:off x="55440" y="50760"/>
            <a:ext cx="1441440" cy="81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1" descr="_SANVALE"/>
          <p:cNvPicPr/>
          <p:nvPr/>
        </p:nvPicPr>
        <p:blipFill>
          <a:blip r:embed="rId3"/>
          <a:stretch/>
        </p:blipFill>
        <p:spPr>
          <a:xfrm>
            <a:off x="200160" y="1467000"/>
            <a:ext cx="11523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2" descr="Kolping-Sig_2c"/>
          <p:cNvPicPr/>
          <p:nvPr/>
        </p:nvPicPr>
        <p:blipFill>
          <a:blip r:embed="rId4"/>
          <a:stretch/>
        </p:blipFill>
        <p:spPr>
          <a:xfrm>
            <a:off x="6105600" y="5805360"/>
            <a:ext cx="3098880" cy="7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3" descr="larger_bi-lingual_cmyk"/>
          <p:cNvPicPr/>
          <p:nvPr/>
        </p:nvPicPr>
        <p:blipFill>
          <a:blip r:embed="rId5"/>
          <a:stretch/>
        </p:blipFill>
        <p:spPr>
          <a:xfrm>
            <a:off x="272880" y="4941720"/>
            <a:ext cx="1440000" cy="62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4" descr="logo4cneupng"/>
          <p:cNvPicPr/>
          <p:nvPr/>
        </p:nvPicPr>
        <p:blipFill>
          <a:blip r:embed="rId6"/>
          <a:stretch/>
        </p:blipFill>
        <p:spPr>
          <a:xfrm>
            <a:off x="200160" y="3789360"/>
            <a:ext cx="1511280" cy="85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Logo_USJ1"/>
          <p:cNvPicPr/>
          <p:nvPr/>
        </p:nvPicPr>
        <p:blipFill>
          <a:blip r:embed="rId7"/>
          <a:stretch/>
        </p:blipFill>
        <p:spPr>
          <a:xfrm>
            <a:off x="272880" y="6021360"/>
            <a:ext cx="2232360" cy="40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6" descr="Logo_WBZU_RGB-300dpi"/>
          <p:cNvPicPr/>
          <p:nvPr/>
        </p:nvPicPr>
        <p:blipFill>
          <a:blip r:embed="rId8"/>
          <a:stretch/>
        </p:blipFill>
        <p:spPr>
          <a:xfrm>
            <a:off x="201600" y="2781360"/>
            <a:ext cx="1295280" cy="7160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98"/>
          <p:cNvGrpSpPr/>
          <p:nvPr/>
        </p:nvGrpSpPr>
        <p:grpSpPr>
          <a:xfrm>
            <a:off x="2289240" y="4797360"/>
            <a:ext cx="2016000" cy="866520"/>
            <a:chOff x="2289240" y="4797360"/>
            <a:chExt cx="2016000" cy="866520"/>
          </a:xfrm>
        </p:grpSpPr>
        <p:grpSp>
          <p:nvGrpSpPr>
            <p:cNvPr id="52" name="Group 97"/>
            <p:cNvGrpSpPr/>
            <p:nvPr/>
          </p:nvGrpSpPr>
          <p:grpSpPr>
            <a:xfrm>
              <a:off x="2360520" y="4868640"/>
              <a:ext cx="791280" cy="720720"/>
              <a:chOff x="2360520" y="4868640"/>
              <a:chExt cx="791280" cy="720720"/>
            </a:xfrm>
          </p:grpSpPr>
          <p:sp>
            <p:nvSpPr>
              <p:cNvPr id="53" name="Oval 96"/>
              <p:cNvSpPr/>
              <p:nvPr/>
            </p:nvSpPr>
            <p:spPr>
              <a:xfrm>
                <a:off x="2863080" y="530064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Colonna MT"/>
                </a:endParaRPr>
              </a:p>
            </p:txBody>
          </p:sp>
          <p:sp>
            <p:nvSpPr>
              <p:cNvPr id="54" name="Oval 95"/>
              <p:cNvSpPr/>
              <p:nvPr/>
            </p:nvSpPr>
            <p:spPr>
              <a:xfrm>
                <a:off x="2360520" y="4868640"/>
                <a:ext cx="648720" cy="64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Colonna MT"/>
                </a:endParaRPr>
              </a:p>
            </p:txBody>
          </p:sp>
        </p:grpSp>
        <p:pic>
          <p:nvPicPr>
            <p:cNvPr id="55" name="Picture 87" descr="LogoFunda"/>
            <p:cNvPicPr/>
            <p:nvPr/>
          </p:nvPicPr>
          <p:blipFill>
            <a:blip r:embed="rId9"/>
            <a:stretch/>
          </p:blipFill>
          <p:spPr>
            <a:xfrm>
              <a:off x="2289240" y="4797360"/>
              <a:ext cx="2016000" cy="86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88" descr="marchio_EP_300_rgb"/>
          <p:cNvPicPr/>
          <p:nvPr/>
        </p:nvPicPr>
        <p:blipFill>
          <a:blip r:embed="rId10"/>
          <a:stretch/>
        </p:blipFill>
        <p:spPr>
          <a:xfrm>
            <a:off x="5168880" y="5013360"/>
            <a:ext cx="2376360" cy="52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9" descr="new-logo-large"/>
          <p:cNvPicPr/>
          <p:nvPr/>
        </p:nvPicPr>
        <p:blipFill>
          <a:blip r:embed="rId11"/>
          <a:stretch/>
        </p:blipFill>
        <p:spPr>
          <a:xfrm>
            <a:off x="8553600" y="4797360"/>
            <a:ext cx="87768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0" descr="logo-eco4ward"/>
          <p:cNvPicPr/>
          <p:nvPr/>
        </p:nvPicPr>
        <p:blipFill>
          <a:blip r:embed="rId12"/>
          <a:stretch/>
        </p:blipFill>
        <p:spPr>
          <a:xfrm>
            <a:off x="3513240" y="5805360"/>
            <a:ext cx="1944720" cy="895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1"/>
          <p:cNvSpPr/>
          <p:nvPr/>
        </p:nvSpPr>
        <p:spPr>
          <a:xfrm>
            <a:off x="-87480" y="871560"/>
            <a:ext cx="176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a91b2c"/>
                </a:solidFill>
                <a:latin typeface="Arial"/>
              </a:rPr>
              <a:t>www.h2training.eu</a:t>
            </a:r>
            <a:endParaRPr b="1" lang="en-US" sz="12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1e31"/>
                </a:solidFill>
                <a:latin typeface="SwitzerlandCondBlack"/>
              </a:rPr>
              <a:t>Click to edit the title text format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6676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33372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8920" indent="56988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8920" indent="5698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8920" indent="5698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419640" y="765000"/>
            <a:ext cx="42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Gender Mainstreaming</a:t>
            </a:r>
            <a:endParaRPr b="1" lang="en-US" sz="2800" spc="-1" strike="noStrike">
              <a:solidFill>
                <a:srgbClr val="000000"/>
              </a:solidFill>
              <a:latin typeface="Colonna MT"/>
            </a:endParaRPr>
          </a:p>
        </p:txBody>
      </p:sp>
      <p:pic>
        <p:nvPicPr>
          <p:cNvPr id="106" name="Picture 8" descr="Gender Mainsteaming"/>
          <p:cNvPicPr/>
          <p:nvPr/>
        </p:nvPicPr>
        <p:blipFill>
          <a:blip r:embed="rId1"/>
          <a:stretch/>
        </p:blipFill>
        <p:spPr>
          <a:xfrm>
            <a:off x="3321000" y="1811160"/>
            <a:ext cx="1366920" cy="95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Gender Mainstreaming-1"/>
          <p:cNvPicPr/>
          <p:nvPr/>
        </p:nvPicPr>
        <p:blipFill>
          <a:blip r:embed="rId2"/>
          <a:stretch/>
        </p:blipFill>
        <p:spPr>
          <a:xfrm>
            <a:off x="5013360" y="1523880"/>
            <a:ext cx="1012680" cy="13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Gender Mainstreaming-2"/>
          <p:cNvPicPr/>
          <p:nvPr/>
        </p:nvPicPr>
        <p:blipFill>
          <a:blip r:embed="rId3"/>
          <a:stretch/>
        </p:blipFill>
        <p:spPr>
          <a:xfrm>
            <a:off x="6703920" y="1595520"/>
            <a:ext cx="11448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22440" y="285480"/>
            <a:ext cx="6531120" cy="83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Gender Mainstreaming-Análisi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47800" y="1571760"/>
            <a:ext cx="7848720" cy="47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</a:rPr>
              <a:t>Procedimiento de procesos orientados a la integración del aspecto de género en el desarrollo de un proyecto 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básic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finición de objetiv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de medid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lant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nte: Directrices para la integración del aspecto de género (LEONARDO DA VINCI PROJEKT New applications for innovation and employment, SME-TIC, PROJECT Nº E/01/B/F/PP-115.56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GM1"/>
          <p:cNvPicPr/>
          <p:nvPr/>
        </p:nvPicPr>
        <p:blipFill>
          <a:blip r:embed="rId1"/>
          <a:stretch/>
        </p:blipFill>
        <p:spPr>
          <a:xfrm>
            <a:off x="7512120" y="3071880"/>
            <a:ext cx="16556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80773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1. Integración del aspecto de género </a:t>
            </a:r>
            <a:br>
              <a:rPr sz="3200"/>
            </a:b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- Cuestiones concernientes a la realización de un análisis básico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80760" y="2057040"/>
            <a:ext cx="7867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les son las desigualdades de la integración de aspecto de género en el campo de intervención del proyecto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Los hombres y mujeres del grupo meta tienen diferentes problemas y necesidades?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les son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Hay barreras específicas para la participación de integración por razón de género?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les son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5640" y="91728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2. Integración del aspecto de género</a:t>
            </a:r>
            <a:br>
              <a:rPr sz="3200"/>
            </a:b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 – Cuestiones concernientes al objetivo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0200" y="2491920"/>
            <a:ext cx="7696080" cy="38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Qué objetivos de igualdad de oportunidades se han integrado en los objetivos del proyecto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Se han definido objetivos u objetivos parciales relativos a la igualdad de oportunidades para el hombre y la mujer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25400" y="70920"/>
            <a:ext cx="7746840" cy="15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ba1e31"/>
                </a:solidFill>
                <a:latin typeface="SwitzerlandCondBlack"/>
              </a:rPr>
              <a:t>3. Integración del aspecto de género </a:t>
            </a:r>
            <a:br>
              <a:rPr sz="3000"/>
            </a:br>
            <a:r>
              <a:rPr b="1" lang="es-ES" sz="3000" spc="-1" strike="noStrike">
                <a:solidFill>
                  <a:srgbClr val="ba1e31"/>
                </a:solidFill>
                <a:latin typeface="SwitzerlandCondBlack"/>
              </a:rPr>
              <a:t>- Cuestiones relativas al desarrollo de medidas</a:t>
            </a:r>
            <a:endParaRPr b="1" lang="en-US" sz="30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27280" y="1828440"/>
            <a:ext cx="795024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e garantizarán las oportunidades acceso igualitario y participación para el hombre y la mujer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puede garantizarse que el hombre y la mujer se beneficien en igualdad del proyecto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e puede evitar que se reproduzcan las desigualdades por razón de género en el proyecto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contribuye el proyecto a la reducción de desigualdades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opciones posibles pueden realizarse para la realización en base a los resultados de los análisis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dificultades pueden surgir durante la implantación práctica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opción es puede aplicarse para alcanzar los objetivos de la mejor manera posible? ¿Por qué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7467840" cy="13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4. Integración del aspecto de género - </a:t>
            </a:r>
            <a:br>
              <a:rPr sz="3200"/>
            </a:b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- Cuestiones relativas a la implantació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5320" y="1558440"/>
            <a:ext cx="7444080" cy="32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Se han tenido en cuenta todos los criterios durante la implantación del proyecto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Qué dificultades surgieron durante la implantación práctica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76240" y="380520"/>
            <a:ext cx="7444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Integración del aspecto de género en la Unión Europea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120" y="1864800"/>
            <a:ext cx="7844040" cy="49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tado de la Comunidad Europea – Artículo 2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promoción de la igualdad entre el hombre y la mujer es una de las tareas de la Comunidad Europe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tado de la Comunidad Europea - Artículo 2 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actividades de la Comunidad Europea deben incluir la eliminación de las desigualdades y la promoción de la igualdad de oportunidades del hombre y la muje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ta Europea de Derechos Fundamentales – Artículo 23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gualdad entre el hombre y la mujer debe estar asegurada en todas las áreas, incluyendo empleo, trabajo y salari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gualdad de oportunidades entre el hombre y la mujer se convierte en una tarea especial de la Comunidad Europea y se definió como objetivo horizontal para todos los ámbitos de política. La promoción y financiación vía la Unión Europea esta relacionada con la realización de la estrategia de integración por razón de género  (mainstreaming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55640" y="30456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European Networks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90720" y="1828800"/>
            <a:ext cx="6348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80 redes internacionales en una visión gener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http://www.w-fforte.at/8.0.html?L=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gm6"/>
          <p:cNvPicPr/>
          <p:nvPr/>
        </p:nvPicPr>
        <p:blipFill>
          <a:blip r:embed="rId1"/>
          <a:stretch/>
        </p:blipFill>
        <p:spPr>
          <a:xfrm>
            <a:off x="2438280" y="2703600"/>
            <a:ext cx="55864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4240" y="105228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Por qué la integración de la perspectiva de género en el proyecto H2-training ?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25400" y="1989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gún pronósticos, a partir de 2015 se necesitarán en Europa 80.000 personas cualificadas en él área del hidrógen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supuesto, tampoco puede olvidarse el potencial de la mujer en este punt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más es muy importante considerar los aspectos de integración por razón de género en el perfil profesional, curricular y programa de form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TU-Mädchen"/>
          <p:cNvPicPr/>
          <p:nvPr/>
        </p:nvPicPr>
        <p:blipFill>
          <a:blip r:embed="rId1"/>
          <a:stretch/>
        </p:blipFill>
        <p:spPr>
          <a:xfrm>
            <a:off x="7040520" y="1844640"/>
            <a:ext cx="23414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m8"/>
          <p:cNvPicPr/>
          <p:nvPr/>
        </p:nvPicPr>
        <p:blipFill>
          <a:blip r:embed="rId1"/>
          <a:stretch/>
        </p:blipFill>
        <p:spPr>
          <a:xfrm>
            <a:off x="4211640" y="1324080"/>
            <a:ext cx="4248000" cy="1517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80760" y="142560"/>
            <a:ext cx="744372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Carreras profesionales para chica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39880" y="281952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n Austria, los jóvenes pueden elegir entre unas 270 profesion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irando a la distribución cuantitativa por razón de género, comienza a emerger una imagen en la selección de profesiones “típicamente masculinas” y “típicamente femeninas”. Mientras que los chicos disponen de un amplio espectro de ocupaciones a elegir y decidirse también en favor de ocupaciones “típicamente femeninas”, como vendedor o chef, las chicas eligen al 50% entre tres profesiones (comercio al por menor, peluquería  y vendedora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52200" y="25992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Argumentos frecuente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47280" y="1785960"/>
            <a:ext cx="59058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Las chicas no están interesadas en ciencias y tecnología."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Nos gustaría contratar a mujeres, pero hay una falta de mujeres cualificadas en el campo de la investigación."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Las mujeres son menos aptas para puestos de liderazgo."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La mujer tiene menos movilidad."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La mujer representa un riesgo mayor desde el punto de vista de gerencia.”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La mujer tiene fundamentalmente obligaciones privadas, de familia y está parcialmente disponible por lo que su carga de trabajo es limitada."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gm4"/>
          <p:cNvPicPr/>
          <p:nvPr/>
        </p:nvPicPr>
        <p:blipFill>
          <a:blip r:embed="rId1"/>
          <a:stretch/>
        </p:blipFill>
        <p:spPr>
          <a:xfrm>
            <a:off x="7095960" y="3286080"/>
            <a:ext cx="269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0760" y="2487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Definición de Gender Mainstreaming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80760" y="1517760"/>
            <a:ext cx="455940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basa en el hecho de qu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todos los ámbitos de nuestra sociedad están estructurados por razón de géner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implica tener en consideración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los diferentes intereses y situaciones de la vid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r adelantado y continuamente en lo que se refiere a las intenciones  de la socie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Gender1"/>
          <p:cNvPicPr/>
          <p:nvPr/>
        </p:nvPicPr>
        <p:blipFill>
          <a:blip r:embed="rId1"/>
          <a:stretch/>
        </p:blipFill>
        <p:spPr>
          <a:xfrm>
            <a:off x="7236000" y="2249640"/>
            <a:ext cx="1461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57120" y="-3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Gender Mainstreaming – De quién es tarea?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17720" y="1714680"/>
            <a:ext cx="567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es tarea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nivel de gerenci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 una organización, así como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dos los emple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quienes consideran diferentes situaciones de la vida e intereses de la mujer y del hombre por adelantado, para alcanzar el objetivo de igual de oportunidades de la mujer y el hombr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estruc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la organización de procesos y secuencias de proce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resultados y produc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comunicación y relaciones públicas 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puestos de direcció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Gender"/>
          <p:cNvPicPr/>
          <p:nvPr/>
        </p:nvPicPr>
        <p:blipFill>
          <a:blip r:embed="rId1"/>
          <a:stretch/>
        </p:blipFill>
        <p:spPr>
          <a:xfrm>
            <a:off x="7839000" y="2000160"/>
            <a:ext cx="191448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2200" y="40284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Gender Mainstreaming - Objetivo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09360" y="2421000"/>
            <a:ext cx="466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gualdad de oportunidades para el hombre y la muj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objetivo se ve alcanzado cuando todas las estructuras y procesos de toma de decisiones se dirigen al trato de igualdad de hombres y mujeres con respecto a su condición sexual, forma de vida y asignación de poder, recursos y emple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Ziele-1"/>
          <p:cNvPicPr/>
          <p:nvPr/>
        </p:nvPicPr>
        <p:blipFill>
          <a:blip r:embed="rId1"/>
          <a:stretch/>
        </p:blipFill>
        <p:spPr>
          <a:xfrm>
            <a:off x="6797520" y="2774880"/>
            <a:ext cx="22273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Begriffe-1"/>
          <p:cNvPicPr/>
          <p:nvPr/>
        </p:nvPicPr>
        <p:blipFill>
          <a:blip r:embed="rId1"/>
          <a:stretch/>
        </p:blipFill>
        <p:spPr>
          <a:xfrm>
            <a:off x="7580160" y="3643200"/>
            <a:ext cx="2325960" cy="1317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80760" y="456840"/>
            <a:ext cx="7443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Aclaración de diferentes término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66800" y="1571760"/>
            <a:ext cx="58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gualdad de oportunidades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o objetivo polític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: integración del aspecto de género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mento de la mujer/hombre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sibilidad de ajustar tratamientos desigua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gualdad de trato: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hibición de discriminación directa e indirecta (igualdad de inserción, condiciones de trabajo, acoso sexual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vance de la muj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359280" algn="just"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xtensión del principio de tratamiento de igualdad forma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359280" algn="just"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omoción de medidas para la muj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359280" algn="just"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e dirige al ajuste de la discriminación existente en la mujer por razón de géner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80760" y="152280"/>
            <a:ext cx="7443720" cy="66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Premisas para la realizació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39440" y="1267920"/>
            <a:ext cx="50706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de nivel de geren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 de igualdad de oportunidad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y verificabilid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ocimiento y saber hacer (know-how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fianzamiento en estructuras y proceso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ptación de individuos en funcio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vance interno de igualdad de oportunidad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visión de personal y recursos financier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Umsetzung"/>
          <p:cNvPicPr/>
          <p:nvPr/>
        </p:nvPicPr>
        <p:blipFill>
          <a:blip r:embed="rId1"/>
          <a:stretch/>
        </p:blipFill>
        <p:spPr>
          <a:xfrm>
            <a:off x="7083360" y="2571840"/>
            <a:ext cx="22273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6T11:00:46Z</dcterms:created>
  <dc:creator>Jan W. Bleyl</dc:creator>
  <dc:description/>
  <dc:language>en-US</dc:language>
  <cp:lastModifiedBy>XX</cp:lastModifiedBy>
  <cp:lastPrinted>2001-11-12T14:52:37Z</cp:lastPrinted>
  <dcterms:modified xsi:type="dcterms:W3CDTF">2009-01-27T16:56:34Z</dcterms:modified>
  <cp:revision>549</cp:revision>
  <dc:subject/>
  <dc:title>Energie-Contracting</dc:title>
</cp:coreProperties>
</file>