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25.jpeg" ContentType="image/jpeg"/>
  <Override PartName="/ppt/media/image2.png" ContentType="image/png"/>
  <Override PartName="/ppt/media/image26.png" ContentType="image/png"/>
  <Override PartName="/ppt/media/image3.png" ContentType="image/png"/>
  <Override PartName="/ppt/media/image33.png" ContentType="image/png"/>
  <Override PartName="/ppt/media/image29.jpeg" ContentType="image/jpeg"/>
  <Override PartName="/ppt/media/image37.jpeg" ContentType="image/jpeg"/>
  <Override PartName="/ppt/media/image13.png" ContentType="image/png"/>
  <Override PartName="/ppt/media/image38.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0.png" ContentType="image/png"/>
  <Override PartName="/ppt/media/image42.jpeg" ContentType="image/jpeg"/>
  <Override PartName="/ppt/media/image46.jpeg" ContentType="image/jpeg"/>
  <Override PartName="/ppt/media/image30.jpeg" ContentType="image/jpeg"/>
  <Override PartName="/ppt/media/image47.jpeg" ContentType="image/jpeg"/>
  <Override PartName="/ppt/media/image12.wmf" ContentType="image/x-wmf"/>
  <Override PartName="/ppt/media/image4.png" ContentType="image/png"/>
  <Override PartName="/ppt/media/image31.jpeg" ContentType="image/jpeg"/>
  <Override PartName="/ppt/media/image48.jpeg" ContentType="image/jpeg"/>
  <Override PartName="/ppt/media/image52.wmf" ContentType="image/x-wmf"/>
  <Override PartName="/ppt/media/image39.jpeg" ContentType="image/jpeg"/>
  <Override PartName="/ppt/media/image8.png" ContentType="image/png"/>
  <Override PartName="/ppt/media/image7.png" ContentType="image/png"/>
  <Override PartName="/ppt/media/image34.jpeg" ContentType="image/jpeg"/>
  <Override PartName="/ppt/media/image11.png" ContentType="image/png"/>
  <Override PartName="/ppt/media/image6.png" ContentType="image/png"/>
  <Override PartName="/ppt/media/image10.png" ContentType="image/png"/>
  <Override PartName="/ppt/media/image50.jpeg" ContentType="image/jpeg"/>
  <Override PartName="/ppt/media/image27.jpeg" ContentType="image/jpeg"/>
  <Override PartName="/ppt/media/image43.jpeg" ContentType="image/jpeg"/>
  <Override PartName="/ppt/media/image35.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7099300" cy="10234613"/>
</p:presentation>
</file>

<file path=ppt/commentAuthors.xml><?xml version="1.0" encoding="utf-8"?>
<p:cmAuthorLst xmlns:p="http://schemas.openxmlformats.org/presentationml/2006/main">
  <p:cmAuthor id="0" name="Marcello"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8.xml><?xml version="1.0" encoding="utf-8"?>
<p:cmLst xmlns:p="http://schemas.openxmlformats.org/presentationml/2006/main">
  <p:cm authorId="0" dt="2007-11-13T12:03:15.663000000" idx="1">
    <p:pos x="10" y="10"/>
    <p:text>notes here don't seem to match the contents of the sli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30280" y="204840"/>
            <a:ext cx="6038640" cy="296640"/>
          </a:xfrm>
          <a:prstGeom prst="rect">
            <a:avLst/>
          </a:prstGeom>
          <a:noFill/>
          <a:ln w="0">
            <a:noFill/>
          </a:ln>
        </p:spPr>
        <p:txBody>
          <a:bodyPr lIns="19080" rIns="19080" tIns="0" bIns="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sldNum" idx="1"/>
          </p:nvPr>
        </p:nvSpPr>
        <p:spPr>
          <a:xfrm>
            <a:off x="5511960" y="9880200"/>
            <a:ext cx="1056960" cy="222120"/>
          </a:xfrm>
          <a:prstGeom prst="rect">
            <a:avLst/>
          </a:prstGeom>
          <a:noFill/>
          <a:ln w="0">
            <a:noFill/>
          </a:ln>
        </p:spPr>
        <p:txBody>
          <a:bodyPr lIns="19080" rIns="1908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8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6FDA398C-6B3F-4241-999A-5C3743F6833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1" name="PlaceHolder 3"/>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2" name="PlaceHolder 4"/>
          <p:cNvSpPr>
            <a:spLocks noGrp="1"/>
          </p:cNvSpPr>
          <p:nvPr>
            <p:ph type="sldImg"/>
          </p:nvPr>
        </p:nvSpPr>
        <p:spPr>
          <a:xfrm>
            <a:off x="1141560" y="667800"/>
            <a:ext cx="4814640" cy="333396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1560" y="668160"/>
            <a:ext cx="4814640" cy="3333960"/>
          </a:xfrm>
          <a:prstGeom prst="rect">
            <a:avLst/>
          </a:prstGeom>
          <a:ln w="0">
            <a:noFill/>
          </a:ln>
        </p:spPr>
      </p:sp>
      <p:sp>
        <p:nvSpPr>
          <p:cNvPr id="245" name="PlaceHolder 2"/>
          <p:cNvSpPr>
            <a:spLocks noGrp="1"/>
          </p:cNvSpPr>
          <p:nvPr>
            <p:ph type="body"/>
          </p:nvPr>
        </p:nvSpPr>
        <p:spPr>
          <a:xfrm>
            <a:off x="745920" y="4401720"/>
            <a:ext cx="5661000" cy="518148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Chapter 7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Title: Gas Technology</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Level: </a:t>
            </a:r>
            <a:r>
              <a:rPr b="0" lang="en-US" sz="900" spc="-1" strike="noStrike">
                <a:solidFill>
                  <a:srgbClr val="000000"/>
                </a:solidFill>
                <a:latin typeface="Arial"/>
              </a:rPr>
              <a:t>Basic, intermediat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Requisites:</a:t>
            </a:r>
            <a:r>
              <a:rPr b="0" lang="en-US" sz="900" spc="-1" strike="noStrike">
                <a:solidFill>
                  <a:srgbClr val="000000"/>
                </a:solidFill>
                <a:latin typeface="Arial"/>
              </a:rPr>
              <a:t> Chapter 4,5,6</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Overall aim:</a:t>
            </a:r>
            <a:r>
              <a:rPr b="0" lang="en-US" sz="900" spc="-1" strike="noStrike">
                <a:solidFill>
                  <a:srgbClr val="000000"/>
                </a:solidFill>
                <a:latin typeface="Arial"/>
              </a:rPr>
              <a:t> The chapter gives an overview of the technical and practical aspects of gases used in fuels cell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Conten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1. Handling of compressed gases and deep cold liquid gas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2. Gas cylinder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3. Gas pip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4. Valv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5. Hydrogen sensor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6. Gas pressure regulation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7. Other equipmen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8. Leak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9. Cleaning</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Learning outcomes</a:t>
            </a: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student will be able to</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dentify the properties of gases as used in fuels cells</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dentify the range of equipment used to handle and store gases </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understand the factors that contribute to safe operation</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Methodology:</a:t>
            </a:r>
            <a:r>
              <a:rPr b="0" lang="en-US" sz="900" spc="-1" strike="noStrike">
                <a:solidFill>
                  <a:srgbClr val="000000"/>
                </a:solidFill>
                <a:latin typeface="Arial"/>
              </a:rPr>
              <a:t> Lectures, group work, discussio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Schedule:</a:t>
            </a:r>
            <a:r>
              <a:rPr b="0" lang="en-US" sz="900" spc="-1" strike="noStrike">
                <a:solidFill>
                  <a:srgbClr val="000000"/>
                </a:solidFill>
                <a:latin typeface="Arial"/>
              </a:rPr>
              <a:t> 4 one - hour - unit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5" descr=""/>
          <p:cNvPicPr/>
          <p:nvPr/>
        </p:nvPicPr>
        <p:blipFill>
          <a:blip r:embed="rId1"/>
          <a:stretch/>
        </p:blipFill>
        <p:spPr>
          <a:xfrm>
            <a:off x="1058760" y="577800"/>
            <a:ext cx="4883400" cy="3333960"/>
          </a:xfrm>
          <a:prstGeom prst="rect">
            <a:avLst/>
          </a:prstGeom>
          <a:ln w="12600">
            <a:solidFill>
              <a:srgbClr val="000000"/>
            </a:solidFill>
            <a:miter/>
          </a:ln>
        </p:spPr>
      </p:pic>
      <p:sp>
        <p:nvSpPr>
          <p:cNvPr id="267" name="PlaceHolder 1"/>
          <p:cNvSpPr>
            <a:spLocks noGrp="1"/>
          </p:cNvSpPr>
          <p:nvPr>
            <p:ph type="body"/>
          </p:nvPr>
        </p:nvSpPr>
        <p:spPr>
          <a:xfrm>
            <a:off x="757080" y="4223880"/>
            <a:ext cx="5661360" cy="521028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ylinder marking and inspect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cylinders shall be legibly marked for the purpose of identifying the gas content with either the chemical or the trade name of the gas.  These markings shall be by means of stencilling, stamping or labelling and shall not be readily removable.  Whenever practical, the markings shall be located on the shoulder of the cylind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cylinders will be inspected twice per calendar year in accordance with  the following guidelines.  Any cylinders failing to meet these guidelines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ents - Dents are deformations caused by the cylinder coming in contact with a blunt object in such a way that the thickness of metal is not normally impaired.  Only cylinders that have major dents that do impair the metal wall will be removed for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uts - gouges and digs - These are deformations caused by contact with a sharp object in such a way as to cut into or upset the metal of the cylinder, decreasing the wall of thickness at that point</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that have cuts, gouges and digs that decrease the thickness of the metal wall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rrosion and pitting - Cylinder that have corrosion and pitting in the cylinder involving the loss of wall thickness caused by a corrosive media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Bulges - Cylinders which have definite bulges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ck - The cylinder neck will be examined for serious cracks, folds and flows.  Neck cracks are determined by testing with a soap solution.  Cylinders found to have a serious neck crack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ot-Ring and Head-Ring - Cylinders will be removed from service when the head-ring and/or foot-ring becomes so distorted that they no longer 1) maintain the cylinder in a normal upright position or 2) when the head-ring becomes so distorted it no longer adequately protects the valve and the neck area of the cylinder.</a:t>
            </a:r>
            <a:endParaRPr b="0" lang="en-US" sz="900" spc="-1" strike="noStrike">
              <a:solidFill>
                <a:srgbClr val="000000"/>
              </a:solidFill>
              <a:latin typeface="Arial"/>
            </a:endParaRPr>
          </a:p>
          <a:p>
            <a:pPr indent="0" algn="just">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valves, couplings, regulators, hoses and other apparatuses shall be kept free from oily or greasy substances.</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1560" y="668160"/>
            <a:ext cx="4814640" cy="3333960"/>
          </a:xfrm>
          <a:prstGeom prst="rect">
            <a:avLst/>
          </a:prstGeom>
          <a:ln w="0">
            <a:noFill/>
          </a:ln>
        </p:spPr>
      </p:sp>
      <p:sp>
        <p:nvSpPr>
          <p:cNvPr id="26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Gas cylinder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day's state-of-the-art for hydrogen storage includes 5000- and 10,000-psi compressed gas tanks and cryogenic liquid hydrogen tanks for on-board hydrogen stora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ompressed Hydrogen Gas Tan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energy density of gaseous hydrogen can be improved by storing hydrogen at higher pressures. This requires material and design improvements in order to ensure tank integrity. Advances in compression technologies are also required to improve efficiencies and reduce the cost of producing high-pressure hydro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sues with compressed hydrogen gas tanks revolve around high pressure, weight, volume, conformability and cost. The cost of high-pressure compressed gas tanks is essentially dictated by the cost of the carbon fibre that must be used for light-weight structural reinforcement. Efforts are underway to identify lower-cost carbon fibre that can meet the required high pressure and safety specifications for hydrogen gas tanks. However, lower-cost carbon fibres must still be capable of meeting tank thickness constraints in order to help meet volumetric capacity targets. Thus lowering cost without compromising weight and volume is a key challen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wo approaches are being pursued to increase the gravimetric and volumetric storage capacities of compressed gas tanks from their current levels. The first approach involves cryo-compressed tanks. This is based on the fact that, at fixed pressure and volume, gas tank volumetric capacity increases as the tank temperature decreases. Thus, by cooling a tank from room temperature to liquid nitrogen temperature (77°K), its volumetric capacity will increase by a factor of four, although system volumetric capacity will be less than this due to the increased volume required for the cooling system.</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second approach involves the development of conformable tanks. Present liquid gasoline tanks in vehicles are highly conformable in order to take maximum advantage of available vehicle space. Concepts for conformable tank structures are based on the location of structural supporting walls. Internal cellular-type load bearing structures may also be a possibility for greater degrees of conformability.</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hydrogen tanks [5000 psi (~35 MPa) and 10,000 psi (~70 MPa)] have been certified worldwide according to ISO 11439 (Europe), NGV-2 (U.S.), and Reijikijun Betten (Iceland) standards and approved by TUV (Germany) and The High-Pressure Gas Safety Institute of Japan (KHK).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1560" y="668160"/>
            <a:ext cx="4814640" cy="3333960"/>
          </a:xfrm>
          <a:prstGeom prst="rect">
            <a:avLst/>
          </a:prstGeom>
          <a:ln w="0">
            <a:noFill/>
          </a:ln>
        </p:spPr>
      </p:sp>
      <p:sp>
        <p:nvSpPr>
          <p:cNvPr id="27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Liquid Hydrogen Tanks</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energy density of hydrogen can be improved by storing hydrogen in a liquid state. However, the issues with LH2 tanks are hydrogen boil-off, the energy required for hydrogen liquefaction, volume, weight, and tank cost. The energy requirement for hydrogen liquefaction is high; typically 30% of the heating value of hydrogen is required for liquefaction. New approaches that can lower these energy requirements and thus the cost of liquefaction are needed. Hydrogen boil-off must be minimized or eliminated for cost, efficiency and vehicle range considerations, as well as for safety considerations when vehicles are parked in confined spaces. Insulation is required for LH2 tanks and this reduces system gravimetric and volumetric capacity.</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iquid hydrogen (LH2) tanks can store more hydrogen in a given volume than compressed gas tanks. The volumetric capacity of liquid hydrogen is 0.070 kg/L, compared to 0.030 kg/L for 10,000 psi gas tanks.</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1560" y="668160"/>
            <a:ext cx="4814640" cy="3333960"/>
          </a:xfrm>
          <a:prstGeom prst="rect">
            <a:avLst/>
          </a:prstGeom>
          <a:ln w="0">
            <a:noFill/>
          </a:ln>
        </p:spPr>
      </p:sp>
      <p:sp>
        <p:nvSpPr>
          <p:cNvPr id="27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irective 1999/36/EC regulate the free movement of transportable pressure equipment. An existing cylinder fulfils certain conditions may be marked with the letter “II”.</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t>
            </a:r>
            <a:r>
              <a:rPr b="0" lang="en-GB" sz="900" spc="-1" strike="noStrike">
                <a:solidFill>
                  <a:srgbClr val="000000"/>
                </a:solidFill>
                <a:latin typeface="Arial"/>
              </a:rPr>
              <a:t>Negative Cylinder Lists”: some countries within the European Union have established lists of specific cylinder types which are not considered safe for the original design conditions and need either to be withdrawn from further service or have limitations placed on their continued use.</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following European Standards cover the Periodic Inspection, Testing and Re-qualification of gas contain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802: Transportable Gas Cylinders-Periodic Inspection and Testing of seamless aluminium gas cylind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803: Transportable Gas Cylinders-Periodic Inspection and Testing of welded carbon steel gas cylinders (excluding LPG).</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968: Transportable Gas Cylinders-Periodic Inspection and Testing of seamless steel gas cylind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2863: Transportable Gas Cylinders-Periodic Inspection and Maintenance of dissolved acetylene cylinders.</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rking and labelling of new static cryogenic vessels shall be in accordance with EN 13458-1:2002. Directive 97/23/EC and Harmonised Standard EN 13458 will provide framework requirements for pressure protection of cryogenic storage tank system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O/TC 58: Standardization of gas cylinders, their fittings and characteristics relating to their manufacture and use. The scope does not include cryogenic vessels, aerosol cartridges and large transportable gas containers (The primary responsibility of TC 58 is administrative oversight for the subcommitte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1560" y="668160"/>
            <a:ext cx="4814640" cy="3333960"/>
          </a:xfrm>
          <a:prstGeom prst="rect">
            <a:avLst/>
          </a:prstGeom>
          <a:ln w="0">
            <a:noFill/>
          </a:ln>
        </p:spPr>
      </p:sp>
      <p:sp>
        <p:nvSpPr>
          <p:cNvPr id="27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ylinder storage</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cedures for compressed gases include the following:</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cylinders only in a definite, designated, labeled storage area.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compressed gas cylinders must be properly stored in compliance with OSHA and others requirements. All cylinders whether empty or full must be stored upright and secured by chains, straps or in racks to prevent them from falling.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as cylinders must be secured to prevent falling due to accidental contact, vibration, or earthquakes.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must be secured in one of the following way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cylinders uprigh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ways keep the steel protective cap screwed on. This step reduces the chance that a blow to the valve will allow gas to escap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roup cylinders by types of g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full and empty cylinders apar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abel empty cylinders and those meant for return to the suppli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gases so that old stock is removed and used firs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cure cylinders with chains or cables to keep them from falling ov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compressed gas containers in dry, well-ventilated areas away from exits and stairways. If stored outdoors, containers should be off the ground and out of extremely hot or cold environment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a cylinder valve cannot be opened, the valve should never be forced. If a valve cannot be opened by hand, the cylinder should be returned and another obtained. Employees must not attempt to repair cylinders or cylinder valves, or to force stuck or frozen cylinder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 not store compressed gas containers in high pedestrian and vehicle traffic are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oxygen cylinders at least 20 feet from flammables or combustibles or separate them by a 5-foot, fire-resistant barri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Keep oil and grease away from oxygen cylinders, valves, and hos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 your hands, gloves, or clothing are oily, do not handle oxygen cylinder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ke sure fire extinguishers near the storage area are appropriate for gases stored ther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st signs stating the name(s) of gas present and NO SMOKING signs where gases are stored.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1560" y="668160"/>
            <a:ext cx="4814640" cy="3333960"/>
          </a:xfrm>
          <a:prstGeom prst="rect">
            <a:avLst/>
          </a:prstGeom>
          <a:ln w="0">
            <a:noFill/>
          </a:ln>
        </p:spPr>
      </p:sp>
      <p:sp>
        <p:nvSpPr>
          <p:cNvPr id="27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transporting cylinders by a crane or derrick, a cradle, boat or suitable platform shall be used.  Slings or electric magnets shall not be used for this purpose.  Valve protection caps (where cylinder is designed to accept a cap) shall always be in plac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ould be moved by tilting and rolling them on their bottom edges.  Dragging and sliding cylinders should be avoided.  When cylinders are transported by vehicle, they must be secured in position.  Cylinders shall not be dropped or struck or permitted to strike each other violently.</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protection caps shall not be used for lifting cylinders from one vertical position to another.  Bars shall not be used under valves or valve protection caps to pry cylinders loose when frozen to the ground or otherwise fixed; the use of warm (not boiling) water is recommended.  Valve protection caps are designed to protect cylinder valves from damage.  Before raising cylinders provided with valve protection caps from a horizontal to a vertical position, the cap should be properly in place.  The cap should be turned clockwise to insure that the cap is hand tight.</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suitable cylinder truck, chain or other steadying device shall be used to keep cylinders from being knocked over while in us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nless cylinders are secured on a special truck, regulators shall be removed and valve protection caps, when provided for, shall be put in place before cylinders are mov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not having fixed hand wheels shall have keys, handles or non adjustable wrenches on valve stems while these cylinders are in service.  In multiple cylinder installations, only one key or handle is required for each manifol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valves shall be closed before moving cylinder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valves shall be closed when work is finish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s of empty cylinders shall be clos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all not be placed in an area where they might come in contact with or become part of an electric circuit.  Contacts with third rails, trolley wires, etc. shall also be avoided.  Cylinders shall be kept away from radiators, piping systems, layout tables, etc. that may be used for grounding electric circuits such as the tapping of an electrode against a cylinder to strike an arc.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all never be used as rollers or supports, whether full or empty.</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mpty cylinders should be marked "Empty" or "MT" segregated from full cylinders and promptly returned to the supplier with valve protection caps in place.  All valves shall be clos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o one shall tamper with or remove cylinder or valve safety devices.</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1560" y="668160"/>
            <a:ext cx="4814640" cy="3333960"/>
          </a:xfrm>
          <a:prstGeom prst="rect">
            <a:avLst/>
          </a:prstGeom>
          <a:ln w="0">
            <a:noFill/>
          </a:ln>
        </p:spPr>
      </p:sp>
      <p:sp>
        <p:nvSpPr>
          <p:cNvPr id="27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Training requirements and competency assessmen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personnel engaged in the operation and/or maintenance of hydrogen stations/systems shall have received training suitable for the work on which they are engag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uch personnel shall be suitable for the duties they are expected to perform, and shall have satisfied their supervisors that they have understood the training given and are capable of taking any appropriate actions in the event of an emergenc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ersonnel should wear conductive footwear and clothing from non-synthetic materials, thus avoiding the build up of static electricit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raining shall be arranged to cover all the aspects and potential hazards that the particular operator is likely to encounter.</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shall cover, but not necessarily be confined to, the following subjects for all personne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potential hazards of hydro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Site safety regulation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Emergency procedure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use of fire fighting equipmen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use of protective clothing/apparatus including breathing sets where appropriate.</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addition individuals shall receive specific training in the activities for which they are employ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is recommended that the training be carried out under a formalised system and that records be kept of the training given and, where possible, some indication of the results obtained, in order to show where further training is requir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training programme should make provision for refresher courses on a periodic basi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 training elements include the following:</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es and equipment at the College.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s of compressed gases and equipment.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ersonal protective equipment.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spection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ndling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age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age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as-specific safety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emergency procedures.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1560" y="668160"/>
            <a:ext cx="4814640" cy="3333960"/>
          </a:xfrm>
          <a:prstGeom prst="rect">
            <a:avLst/>
          </a:prstGeom>
          <a:ln w="0">
            <a:noFill/>
          </a:ln>
        </p:spPr>
      </p:sp>
      <p:sp>
        <p:nvSpPr>
          <p:cNvPr id="281" name="PlaceHolder 2"/>
          <p:cNvSpPr>
            <a:spLocks noGrp="1"/>
          </p:cNvSpPr>
          <p:nvPr>
            <p:ph type="body"/>
          </p:nvPr>
        </p:nvSpPr>
        <p:spPr>
          <a:xfrm>
            <a:off x="757080" y="4149360"/>
            <a:ext cx="5661360" cy="5730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Before the cylinder is first used the following precautions should be tak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ke sure the cylinder is equipped with the correct regulator. Always use the regulator designed for the material in use, and be especially careful that under no circumstances is grease or oil used on regulator or cylinder valves because these substances may cause an adverse, dangerous reaction within the cylind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cylinder should be placed so that the valve handle at the top is easily accessible at all time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pen the valve slowly and only with the proper regulator in place - the valve should be opened all the way. Never leave a valve part way open - either open it all the way or close it all the way.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valve should never be left open when equipment is not in use, even when empty; air and moisture may diffuse through an open valve, causing contamination and corrosion within the cylind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using a toxic or irritating gas, the valve should be opened only while the cylinder is in a working fume hood and even so, it would also be prudent to direct the valve and potential gas flow away from lab personnel.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cylinders are in use consider the followin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heat the cylinder to raise the pressure of the gas - this may defeat the safety mechanisms built in by the suppli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keep the cylinder clear of all sparks, flames and electrical circuit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rely on the colour coding to identify the gas! Different manufacturers may use different coding system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refill a cylinder - mixing of residual gases in a confined area may result in a serious and devastating reactio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n't use oxygen in place of compressed ai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n't use copper fittings or tubing on acetylene tanks - explosion may resul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ear safety equipment appropriate for the hazard potential of the material you are working with.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1560" y="668160"/>
            <a:ext cx="4814640" cy="3333960"/>
          </a:xfrm>
          <a:prstGeom prst="rect">
            <a:avLst/>
          </a:prstGeom>
          <a:ln w="0">
            <a:noFill/>
          </a:ln>
        </p:spPr>
      </p:sp>
      <p:sp>
        <p:nvSpPr>
          <p:cNvPr id="28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Cryogenic Liquid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cryogenic liquids should be used with caution due to the potential for skin or eye damage due to the low temperature, and the hazards associated with pressure buildups in enclosed piping or container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full face shield, loose fitting cryogenic handling gloves, apron, and cuffless pants are the recommended equipment for transferring cryogenic fluid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rtable containers should only be used where there is sufficient ventilation. Do not place containers in a closet or other enclosed space where there is no ventilation supply to the area. The buildup of inert gas in such an area could generate an oxygen deficient atmospher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pecial vacuum jacket containers with loose fitting lids should be used to handle small quantities. Vacuum jacketed containers provided by the gas supplier will have overpressure relief devices in plac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y space where cryogenic fluids may accumulate (consider leakage into enclosed equipment) must be vented or protected by overpressure relief devices. Tremendous pressures can result in enclosed spaces as the liquid converts to gas. For example, one cubic centimeter of liquid nitrogen will expand to 700 times this volume as it converts (warms) to its gaseous stat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tainers to be filled with cryogenic liquids should be filled slowly to avoid splashin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ryogenic containers showing evidence of loss of vacuum in their outer jacket (ice buildup on the outside of the container) should not be accepted from the gas supplier. Contact with air (or gases with a higher boiling point) can cause an ice plug in a cryogenic container.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1560" y="668160"/>
            <a:ext cx="4814640" cy="3333960"/>
          </a:xfrm>
          <a:prstGeom prst="rect">
            <a:avLst/>
          </a:prstGeom>
          <a:ln w="0">
            <a:noFill/>
          </a:ln>
        </p:spPr>
      </p:sp>
      <p:sp>
        <p:nvSpPr>
          <p:cNvPr id="28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design hydrogen piping transmission or distribution system safely, take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cal condi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pplicable piping codes for mechanical design and install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ditions of service (fluid composition, gas velocity, pressure, temperature and dew poi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lection of the metallic material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lection of non metallic material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ational laws and regula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andards of cleanliness for servic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dustry codes of practice relating to hydrogen system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 consideration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re are a number of brittle fracture mechanisms or degradation effects. Those that are pertinent to the transmission of hydrogen via pipelines ar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internal corrosion -&gt; Hydrogen Gas Embrittlement (HGE) at ambient temperatur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external corrosion -&gt; Stress Corrosion Cracking (SCC) of line pipe materials in underground environment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general, the following are significant metallurgical considera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e alloys with homogenous fine-grained microstructures is preferre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voidance of excessively hard or high strength alloys (pipeline service  should have a maximum hardness of 22 HRC or 250 HB)</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e of steels with enhanced cleanliness so non-metallic inclusions, which reduce toughness and hydrogen embrittlement resistance are minimize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onents free from significant surface and internal defects</a:t>
            </a:r>
            <a:endParaRPr b="0" lang="en-US" sz="900" spc="-1" strike="noStrike">
              <a:solidFill>
                <a:srgbClr val="000000"/>
              </a:solidFill>
              <a:latin typeface="Arial"/>
            </a:endParaRPr>
          </a:p>
          <a:p>
            <a:pPr indent="0">
              <a:lnSpc>
                <a:spcPct val="90000"/>
              </a:lnSpc>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145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lic Materials: Strength, hardness and microstructure, ASTM G 142-98 “Standard Test Method for Determination of Susceptibility of Metals to Embrittlement in Hydrogen Containing Environments at High Pressure, High Temperature, or Both”.</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1560" y="668160"/>
            <a:ext cx="4814640" cy="3333960"/>
          </a:xfrm>
          <a:prstGeom prst="rect">
            <a:avLst/>
          </a:prstGeom>
          <a:ln w="0">
            <a:noFill/>
          </a:ln>
        </p:spPr>
      </p:sp>
      <p:sp>
        <p:nvSpPr>
          <p:cNvPr id="24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
        <p:nvSpPr>
          <p:cNvPr id="248"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9" name="4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EB13C4A3-5C05-4A62-9123-8797C23DD9D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1560" y="668160"/>
            <a:ext cx="4814640" cy="3333960"/>
          </a:xfrm>
          <a:prstGeom prst="rect">
            <a:avLst/>
          </a:prstGeom>
          <a:ln w="0">
            <a:noFill/>
          </a:ln>
        </p:spPr>
      </p:sp>
      <p:sp>
        <p:nvSpPr>
          <p:cNvPr id="28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ny metallic materials can suffer embrittlement in hydrogen gas environments. These include steels (especially high strength steels), stainless steel, and nickel alloy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eels used in hydrogen pipeline service should have a maximum hardness of approximately 22 HRC (Hardness Rockwell C) or 250 HB (Hardness Brinell). This hardness limit is approximately equivalent to a tensile strength limit of about 116 ksi (800 MPa). Welds should also have a maximum hardness of 22 HRC or 250 HB .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shall be noted that the welded zone is often harder and therefore more susceptible to embrittlement than the base met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ot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valuate the suitability of material to resist hydrogen gas embrittlement (see ISO 11114-4 and B4)</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HP hydrogen is usually transported in electropolished 316L stainless steel pip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esign, fabrication, inspection, examination and testing shall be in accordance with national or international standards, such as ASME B31.3 and B31.8.</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1560" y="668160"/>
            <a:ext cx="4814640" cy="3333960"/>
          </a:xfrm>
          <a:prstGeom prst="rect">
            <a:avLst/>
          </a:prstGeom>
          <a:ln w="0">
            <a:noFill/>
          </a:ln>
        </p:spPr>
      </p:sp>
      <p:sp>
        <p:nvSpPr>
          <p:cNvPr id="28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Weld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achieve an acceptable weld zone hardness, it may be necessary to use lower strength steels than indicated above (500 MPa). Special welding procedures and pre or post welding thermal treatments may be another approa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n the pipeline systems, there may be a need for buffers which are usually seamless pressure vessels. Steels used for seamless vessels may have a UTS (Ultimate Tensile Strength) up to 950 MPa (ISO 9809 and ISO 11120).</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engineering alloys used in critical locations should have high toughness levels in the fabricated condition and be relatively insensitive to welding problems, e.g., hard/brittle areas, microcracks, fissures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pipe sections shall be welded together using a recognized welding process. Ultimately, it is essential that the internal weld surfaces are smooth and substantially free of slag, beads or loose debris thereby preserving the internal cleanliness. It is recommended that the root pass of all butt welds be done with a welding technique which uses an inert gas purge since this minimizes the chance of slag deposits on the underside of the weld. Where welded connections are not possible, flanged connections shall be used wherever practical.</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ll pipes welding shall be preformed in accordance with welding procedures and by welders qualified to the procedures in accordance with the piping code as defined in the project specification and as required by local or national regulation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t has to be verified that the weld sample meets the same strength and toughness requirement as the parent metal. The hardness level of welds and the weld heat affected zone (HAZ) should not exceed Rockell C 22 which is equivalent to Vickers 248 or 250 HB. The hardness determination is to be via microhardness traverses on mounted metallographic samples removed from process/operator weld qualification sampl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ydrostatic Tests -&gt; pipe shall be tested between 75 and 100% of the specific minimum yield strength (SMYS) with a holding time at pressure of at least 5-10 seconds depending on the diamet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1560" y="668160"/>
            <a:ext cx="4814640" cy="3333960"/>
          </a:xfrm>
          <a:prstGeom prst="rect">
            <a:avLst/>
          </a:prstGeom>
          <a:ln w="0">
            <a:noFill/>
          </a:ln>
        </p:spPr>
      </p:sp>
      <p:sp>
        <p:nvSpPr>
          <p:cNvPr id="291" name="PlaceHolder 2"/>
          <p:cNvSpPr>
            <a:spLocks noGrp="1"/>
          </p:cNvSpPr>
          <p:nvPr>
            <p:ph type="body"/>
          </p:nvPr>
        </p:nvSpPr>
        <p:spPr>
          <a:xfrm>
            <a:off x="757080" y="4044960"/>
            <a:ext cx="5661360" cy="5433840"/>
          </a:xfrm>
          <a:prstGeom prst="rect">
            <a:avLst/>
          </a:prstGeom>
          <a:noFill/>
          <a:ln w="0">
            <a:noFill/>
          </a:ln>
        </p:spPr>
        <p:txBody>
          <a:bodyPr lIns="0" rIns="0" tIns="0" bIns="0" anchor="t">
            <a:noAutofit/>
          </a:bodyPr>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 recommendations: In general, the concern with most piping and equipment items in pure hydrogen service is no different than for any other flammable gas service except that leaks are more likely to occur. The design, installation, and inspection are quite important.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function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olation valves and  emergency isolation valves,</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trol and pressure reducing valves and regulator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afety relief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nual vent and drain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xcess flow valves (EFV),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heck valves (non-return 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Typ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Ball and plug valves:</a:t>
            </a:r>
            <a:r>
              <a:rPr b="0" lang="en-GB" sz="900" spc="-1" strike="noStrike">
                <a:solidFill>
                  <a:srgbClr val="000000"/>
                </a:solidFill>
                <a:latin typeface="Arial"/>
              </a:rPr>
              <a:t> they are inherently quick opening and good sealing. They are preferred as isolation, excess flow, and vent and drain valves. They can also be used as control valves in certain circumstances although their control characteristics are generally less precise than globe valves or butterfly 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Butterfly valves:</a:t>
            </a:r>
            <a:r>
              <a:rPr b="0" lang="en-GB" sz="900" spc="-1" strike="noStrike">
                <a:solidFill>
                  <a:srgbClr val="000000"/>
                </a:solidFill>
                <a:latin typeface="Arial"/>
              </a:rPr>
              <a:t> eccentric disc wafer valves (high performance butterfly) may be used. They can be used as a control valve when the pressure drop across the valve is no too large. The main disadvantage is that the valve seat is particularly exposed to particulate damage. If these are chosen, they shall be double eccentric and bubble tight shut off. Butterfly valves are not suitable to run a pipeline internal inspection device though since the disc and pin sit permanently in the flow path.</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Gate valves:</a:t>
            </a:r>
            <a:r>
              <a:rPr b="0" lang="en-GB" sz="900" spc="-1" strike="noStrike">
                <a:solidFill>
                  <a:srgbClr val="000000"/>
                </a:solidFill>
                <a:latin typeface="Arial"/>
              </a:rPr>
              <a:t> they are rugged proven valves which are typically used to block flows. The main disadvantage is that, except for certain special designs with soft sealing strips on the disc, they are not as tight sealing as ball, plug, butterfly, or globe valves. To mitigate this they should be specified with flexible wedges (gates). Gate valves are suitable to run a pipeline internal inspection device though them.</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Globe valves:</a:t>
            </a:r>
            <a:r>
              <a:rPr b="0" lang="en-GB" sz="900" spc="-1" strike="noStrike">
                <a:solidFill>
                  <a:srgbClr val="000000"/>
                </a:solidFill>
                <a:latin typeface="Arial"/>
              </a:rPr>
              <a:t> they are commonly used in control applications and where a tight shut off is a pre-eminent concern. They are widely used as control valves because of the precise nature of their control characteristics. They are also used as automatic vent and isolation valves because of their tight shut off. The gas which flows though a globe valve is forced to change direction. This is how its precise control characteristics is created, however, it makes them susceoptible to erosion and abrasion. For this reason the use of hardened plug and seat materials should be considered in applications which have a large pressure drop across the valve. The high sonic velocity of hydrogen means that this problem occurs at lower pressure drops than with most other gas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Pressure relief valves:</a:t>
            </a:r>
            <a:r>
              <a:rPr b="0" lang="en-GB" sz="900" spc="-1" strike="noStrike">
                <a:solidFill>
                  <a:srgbClr val="000000"/>
                </a:solidFill>
                <a:latin typeface="Arial"/>
              </a:rPr>
              <a:t> these are valves which are specifically designed to prevent over pressurization of an item or system by automatically and reliably stopping the increase of internal pressure by venting gas once a pre set pressure has been reached. There are several different types and styles of safety relief valves including direct acting, pilot operated, variable back pressure, etc. Although many materials may be used for the valve body, it is preferable to use either carbon steel or stainless steel since these materials are econimic and avoid some of the potential corrosion issues which could arise if impurities entered the pipe line.</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Check valves (non-return valves):</a:t>
            </a:r>
            <a:r>
              <a:rPr b="0" lang="en-GB" sz="900" spc="-1" strike="noStrike">
                <a:solidFill>
                  <a:srgbClr val="000000"/>
                </a:solidFill>
                <a:latin typeface="Arial"/>
              </a:rPr>
              <a:t> these are valves which are specifically designed to permit flow in one direction and to stop it in the reverse direction. There are numerous types including swing, flapper, ball, poppet, spring loaded, gravity operated, hidroulic assisted, etc. To minimize back leakage when the valve is closed, a soft seat in a metal retainer or specially lapped metal to metal seats are preferred, especially when a small backwards flow would present a significant risk.</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1560" y="668160"/>
            <a:ext cx="4814640" cy="3333960"/>
          </a:xfrm>
          <a:prstGeom prst="rect">
            <a:avLst/>
          </a:prstGeom>
          <a:ln w="0">
            <a:noFill/>
          </a:ln>
        </p:spPr>
      </p:sp>
      <p:sp>
        <p:nvSpPr>
          <p:cNvPr id="29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Hydrogen sensor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sensor is a device which measures or detects a real-world condition, such as motion, heat or light and converts the condition into an analogue or digital representatio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choose the best sensor, the following items have to be taken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as and concentration rang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ixed or portable, point or open path</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vironment (humidity, temperature, pressure, gas velocity, chemical poisons and/or interfering species): temperature, pressure and humidity ranges of commercial products are generally suitable for indoor applications where an acceptable degree of environmental control is in place. Mobile applications and/or sudden changes are a more delicate issu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wer consumption, response time, maintenance interva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at to ask?</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three S of gas detec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 Sensitivi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 Selectivi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 Stabilit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imple System integr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Energy consumption (10 mW)</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nois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ng lifetime and calibration intervals: A long functional life of a detector does not exempt from regular maintenance and calibration. Signal drift due to environmental conditions, degradation due to prolonged exposure to below-alarm level of reducing gas and/or sudden exposures to high concentrations are some factors to take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cross sensitivity: Sensitivity is rarely expressed as Limit of Detection. At least an indication can be drawn from resolution data. Electrochemical sensors couple a high resolution to good repeatability. Wide range systems have, rather logically, the lowest resolu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ast response/recovery: Gate-field, acoustic and combined (gate field + resistor) systems can be quite fast in their response, reaching 90% of the signal within 1 to 3 seconds after exposure. TCDs, MOS and some catalytic sensors are claimed to have a somewhat lower, but still rather fast response (within 5 to 10-20 seconds). Electrochemical sensors have the slowest response, with a minimum of T(90) = 30 s, and a maximum of T(90) = 110 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herent safe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cost</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1560" y="668160"/>
            <a:ext cx="4814640" cy="3333960"/>
          </a:xfrm>
          <a:prstGeom prst="rect">
            <a:avLst/>
          </a:prstGeom>
          <a:ln w="0">
            <a:noFill/>
          </a:ln>
        </p:spPr>
      </p:sp>
      <p:sp>
        <p:nvSpPr>
          <p:cNvPr id="29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Gas pressure regulator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primary function of a gas pressure regulator is to reduce high-pressure gas in a cylinder or process line to a lower, usable level as it passes to another piece of equipment. They can also serve to maintain pressure within a system. However, a regulator is not a flow control device. It is used to control delivery pressure only. </a:t>
            </a:r>
            <a:br>
              <a:rPr sz="900"/>
            </a:br>
            <a:r>
              <a:rPr b="0" lang="en-GB" sz="900" spc="-1" strike="noStrike">
                <a:solidFill>
                  <a:srgbClr val="000000"/>
                </a:solidFill>
                <a:latin typeface="Arial"/>
              </a:rPr>
              <a:t>There are four main types of gas pressure regulators, as determined by their specific application function or the systems in which they function best: line regulator, general-purpose cylinders, high purity cylinders, and special service regulators.</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ine regulators are typically point-of-use regulators serving low-pressure pipelines. They are also used in conjunction with high-pressure cylinder regulators that limit the inlet pressure to 250 to 400 psig.</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purpose regulators are designed for economy and longevity. They are recommended for noncorrosive general plant, pilot plant and maintenance shop applications.</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purity regulators are designed and constructed to provide diffusion resistance and easy cleanup. Metal diaphragms and high-purity seats and seals minimize or eliminate outgassing and inboard diffusio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pecial service regulators are specifically constructed for special applications including oxygen, acetylene and fluorine service and high-pressure, ultra high-pressure and corrosion service.</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1560" y="668160"/>
            <a:ext cx="4814640" cy="3333960"/>
          </a:xfrm>
          <a:prstGeom prst="rect">
            <a:avLst/>
          </a:prstGeom>
          <a:ln w="0">
            <a:noFill/>
          </a:ln>
        </p:spPr>
      </p:sp>
      <p:sp>
        <p:nvSpPr>
          <p:cNvPr id="29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Other equipment</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Strainers and filter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ir installation is recommended to avoid contamination, particularly upstream of pressure control and metering devic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ow measuring devic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rifice palte, venturi and turbine meters are frequently us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selection of flow meter type is normally based on the accuracy requirements for the required range of gas flow to meet customer requirement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Rupture disc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afety relief valves are preferred to rupture discs because rupture discs are more prone to premature failure and once actuated they are not self closing. Overall this means that it is more likely to have an accidental release of hydrogen and that the release will be large and will continue until the source of hydrogen is blocked. In case a rupture disc is unavoidable, the requirements generally follow those for safety relief valv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Insulating joint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sulating joints are essentially two pieces of pipe separated by a material with a high dielectric constant (insulator) so as to electrically isolate two systems or items. Typically this is done to create separate zones of possible corros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exible connections (hose, expansion joint,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piping and equipment warms up it expands putting stress on the system as it changes shape to accommodate the now longer material. A flexible connection is a device to allow for this growth by its inherent flexibility; it expands so the piping does not have to. Flexible connections are significantly less robust in service as pipe, and this presents a significantly increased risk of failure, which would be dangerous with any flammable gas, and even more with hydrogen. The preferred solution is to design flexibility into the piping system by means of expansion loops and this shall be the design used unless there is no practical alternative. In case a flexible connection is unavoidable, it shall be made of corrosion resistant metal, have a liner, and shall be inspected frequently in service to detect early signs of incipient failure. Expansion joints may be in accordance with existing standards, such as of the Expansion Joint Manufacturer's Association (EJMA).</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3240" y="725400"/>
            <a:ext cx="4814640" cy="3333960"/>
          </a:xfrm>
          <a:prstGeom prst="rect">
            <a:avLst/>
          </a:prstGeom>
          <a:ln w="0">
            <a:noFill/>
          </a:ln>
        </p:spPr>
      </p:sp>
      <p:sp>
        <p:nvSpPr>
          <p:cNvPr id="29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Leak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Minor Lea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ccasionally a gas cylinder or one of its component parts may develop a leak. Most of these leaks occur at the top of the cylinder in areas such as the valve threads, pressure safety device, valve stem and valve outlet. The following information applies to the remediation of minor lea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possible, verify suspected leaks using a flammable gas detector or soapy water solution (a flame should not be used for detection). If the leak cannot be stopped by tightening a valve gland or packing nut, emergency action procedures should be initiat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flammable, inert or oxidizing gases, move the cylinder to an isolated, well-ventilated area  away from combustible materials. </a:t>
            </a:r>
            <a:r>
              <a:rPr b="0" lang="es-ES_tradnl" sz="900" spc="-1" strike="noStrike">
                <a:solidFill>
                  <a:srgbClr val="000000"/>
                </a:solidFill>
                <a:latin typeface="Arial"/>
              </a:rPr>
              <a:t>Post signs that describe the hazar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corrosive and toxic gases, move the cylinder to an isolated, well-ventilated area and use suitable means to direct the gas into an appropriate chemical neutralizer. </a:t>
            </a:r>
            <a:r>
              <a:rPr b="0" lang="es-ES_tradnl" sz="900" spc="-1" strike="noStrike">
                <a:solidFill>
                  <a:srgbClr val="000000"/>
                </a:solidFill>
                <a:latin typeface="Arial"/>
              </a:rPr>
              <a:t>Post signs that describe the hazard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it is necessary to move a leaking cylinder through populated portions of the building, place a plastic bag, rubber shroud or similar device over the top and tape it (duct tape preferred) to the cylinder to confine the leaking gas.</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1560" y="668160"/>
            <a:ext cx="4814640" cy="3333960"/>
          </a:xfrm>
          <a:prstGeom prst="rect">
            <a:avLst/>
          </a:prstGeom>
          <a:ln w="0">
            <a:noFill/>
          </a:ln>
        </p:spPr>
      </p:sp>
      <p:sp>
        <p:nvSpPr>
          <p:cNvPr id="30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Major Leak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the event of a large gas release or if an accident takes place in which readily available personal protective equipment (PPE) is inadequate to ensure worker safety, activate the following Emergency Procedure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mmediately phone emergency number and report the inciden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ctivate building and area fire alarms (or chemical safety alarms if applicabl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vacuate the area, securing entrances and providing assistance to others on the way ou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vide emergency response officials with details of the problem upon their arriv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minimize the potential for leaks the following, or equivalent, is recommend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ouble seals or packing</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ach casting to be hydraulically leak test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oft seat in a metal retainer for in-line automatic valves and automatic vent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 to metal seat or soft seat in a retainer for in-line manual valves; these should be combined with a means of positive isolation if used to block flow before attempting maintenance or inspection inside the lin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lic seat with valve outlet block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ferably no though bolting, body flanges or threaded connections in assembly of the body of the valv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inline isolation valves should be full port design, when pipeline pigging for inspection is foreseen</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1560" y="668160"/>
            <a:ext cx="4814640" cy="3333960"/>
          </a:xfrm>
          <a:prstGeom prst="rect">
            <a:avLst/>
          </a:prstGeom>
          <a:ln w="0">
            <a:noFill/>
          </a:ln>
        </p:spPr>
      </p:sp>
      <p:sp>
        <p:nvSpPr>
          <p:cNvPr id="30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leani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piping system design must be compatible with cleaning, construction and pressure testing methods to be used. The claning process shall assure the removal of contaminants from the interior of the pipeline system. Cleaning of an hydrogen pipeline system is normally accomplished by a combination of building clean and final cleaning after construct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cleaning of hydrogen pipelines after construction may be accomplished by any one, or a combination of more than one, of the following method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igging (wire, foam, scraper, dewatering, line-sized, oversize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echanical scrap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velocity gas pur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general, pigs will be fabricated from materials that would be compatible with hydrogen. For this reason, along with the level of cleanliness required, pigging is normally the primary choice for cleaning of hydrogen pipeline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elding: it is recommended that the root pass all butt welds be done with a welding technique which uses an in ert gas purge since this minimizes the chance of slag deposits on the underside of the wel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ssure test should be performed in such a way that cleanliness of the pipe is not compromise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ypical cleaning sequence:</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water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ry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ry clean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nal dryi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llowing the pipeline inspection and acceptance of the standard of cleanliness, the pipeline will be sealed at all open ends with either welded caps or blind flanges and purged with nitrogen.</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1560" y="668160"/>
            <a:ext cx="4814640" cy="3333960"/>
          </a:xfrm>
          <a:prstGeom prst="rect">
            <a:avLst/>
          </a:prstGeom>
          <a:ln w="0">
            <a:noFill/>
          </a:ln>
        </p:spPr>
      </p:sp>
      <p:sp>
        <p:nvSpPr>
          <p:cNvPr id="25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Definition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ompressed Gas:</a:t>
            </a:r>
            <a:r>
              <a:rPr b="0" lang="en-GB" sz="900" spc="-1" strike="noStrike">
                <a:solidFill>
                  <a:srgbClr val="000000"/>
                </a:solidFill>
                <a:latin typeface="Arial"/>
              </a:rPr>
              <a:t> A compressed gas is any gas which when enclosed in a container gives:</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 absolute pressure reading greater than 276 kPa (40 psi) at 21°C (70°F) o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 absolute pressure greater than 717 kPa (104 psi) at 54°C (129.2°F) o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y flammable liquid having a vapor pressure greater than 276 kPa (40 psi) at 38°C (100.4°F).</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Asphyxiant Gas:</a:t>
            </a:r>
            <a:r>
              <a:rPr b="0" lang="en-GB" sz="900" spc="-1" strike="noStrike">
                <a:solidFill>
                  <a:srgbClr val="000000"/>
                </a:solidFill>
                <a:latin typeface="Arial"/>
              </a:rPr>
              <a:t> Any non-toxic gas which displaces atmospheric oxygen below limits required to support life. These gases are usually colourless, odourless and tasteless and include, nitrogen, argon and helium.</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orrosive Gas:</a:t>
            </a:r>
            <a:r>
              <a:rPr b="0" lang="en-GB" sz="900" spc="-1" strike="noStrike">
                <a:solidFill>
                  <a:srgbClr val="000000"/>
                </a:solidFill>
                <a:latin typeface="Arial"/>
              </a:rPr>
              <a:t> A gas that in contact with living tissue causes destruction of the tissue by chemical action.</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Inert Gas:</a:t>
            </a:r>
            <a:r>
              <a:rPr b="0" lang="en-GB" sz="900" spc="-1" strike="noStrike">
                <a:solidFill>
                  <a:srgbClr val="000000"/>
                </a:solidFill>
                <a:latin typeface="Arial"/>
              </a:rPr>
              <a:t> A gas which is chemically inactive.</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Oxidizing Gas:</a:t>
            </a:r>
            <a:r>
              <a:rPr b="0" lang="en-GB" sz="900" spc="-1" strike="noStrike">
                <a:solidFill>
                  <a:srgbClr val="000000"/>
                </a:solidFill>
                <a:latin typeface="Arial"/>
              </a:rPr>
              <a:t> A gas that can support and accelerate combustion of other material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Pyrophoric Gas:</a:t>
            </a:r>
            <a:r>
              <a:rPr b="0" lang="en-GB" sz="900" spc="-1" strike="noStrike">
                <a:solidFill>
                  <a:srgbClr val="000000"/>
                </a:solidFill>
                <a:latin typeface="Arial"/>
              </a:rPr>
              <a:t> A gas that will spontaneously ignite in air at or below 54.4°C (130°F). Examples include silane and phosphine.</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
        <p:nvSpPr>
          <p:cNvPr id="252"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3" name="6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A292AFA3-4072-421E-8448-9447AECC9F6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1560" y="668160"/>
            <a:ext cx="4814640" cy="3333960"/>
          </a:xfrm>
          <a:prstGeom prst="rect">
            <a:avLst/>
          </a:prstGeom>
          <a:ln w="0">
            <a:noFill/>
          </a:ln>
        </p:spPr>
      </p:sp>
      <p:sp>
        <p:nvSpPr>
          <p:cNvPr id="25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ammable Gas:</a:t>
            </a:r>
            <a:r>
              <a:rPr b="0" lang="en-GB" sz="900" spc="-1" strike="noStrike">
                <a:solidFill>
                  <a:srgbClr val="000000"/>
                </a:solidFill>
                <a:latin typeface="Arial"/>
              </a:rPr>
              <a:t> A substance that meets the definition of a compressed gas which:</a:t>
            </a:r>
            <a:endParaRPr b="0" lang="en-US" sz="9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is flammable in a mixture of 13% or less (by volume) with air, or</a:t>
            </a:r>
            <a:endParaRPr b="0" lang="en-US" sz="10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has a flammable range with air wider than 12%, at atmospheric temperature and pressure, regardless of the lower limit.</a:t>
            </a: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Nonflammable Gas:</a:t>
            </a:r>
            <a:r>
              <a:rPr b="0" lang="en-GB" sz="900" spc="-1" strike="noStrike">
                <a:solidFill>
                  <a:srgbClr val="000000"/>
                </a:solidFill>
                <a:latin typeface="Arial"/>
              </a:rPr>
              <a:t> A gas which, within the packaging, exerts an absolute pressure of 280 kPa (40 psi) or greater at 20°C (68°F) but is not a flammable gas as defined previously.</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1560" y="668160"/>
            <a:ext cx="4814640" cy="3333960"/>
          </a:xfrm>
          <a:prstGeom prst="rect">
            <a:avLst/>
          </a:prstGeom>
          <a:ln w="0">
            <a:noFill/>
          </a:ln>
        </p:spPr>
      </p:sp>
      <p:sp>
        <p:nvSpPr>
          <p:cNvPr id="25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ryogenic Liquid:</a:t>
            </a:r>
            <a:r>
              <a:rPr b="0" lang="en-GB" sz="900" spc="-1" strike="noStrike">
                <a:solidFill>
                  <a:srgbClr val="000000"/>
                </a:solidFill>
                <a:latin typeface="Arial"/>
              </a:rPr>
              <a:t> A liquid with a normal boiling point below -150°C (-238°F).</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ryogenic Liquid Cylinder:</a:t>
            </a:r>
            <a:r>
              <a:rPr b="0" lang="en-GB" sz="900" spc="-1" strike="noStrike">
                <a:solidFill>
                  <a:srgbClr val="000000"/>
                </a:solidFill>
                <a:latin typeface="Arial"/>
              </a:rPr>
              <a:t> Pressurized container designed and fabricated to hold cryogenic fluids. There are three common types of liquid cylinders: gas dispensing; liquid dispensing; or gas and liquid dispensing</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u="sng">
                <a:solidFill>
                  <a:srgbClr val="000000"/>
                </a:solidFill>
                <a:uFillTx/>
                <a:latin typeface="Arial"/>
              </a:rPr>
              <a:t>Precautions for Specific Gase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sult the Material Safety Data Sheet for all gases used. Some gases are pyrophoric (phosphine) corrosive (hydrogen chloride), toxic (ethylene oxide), anaesthetic (nitrous oxide), or highly reactive (anhydrous ammonia).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lammable gases such as propane, hydrogen, and acetylene always have a red label. However, the colour of the cylinder itself is not a good indicator of flammability as different distributors may use different colored cylinders for the same gas. </a:t>
            </a:r>
            <a:r>
              <a:rPr b="0" lang="es-ES" sz="900" spc="-1" strike="noStrike">
                <a:solidFill>
                  <a:srgbClr val="000000"/>
                </a:solidFill>
                <a:latin typeface="Arial"/>
              </a:rPr>
              <a:t>Check the label for flammability.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ous gas (arsine, carbon monoxide, hydrogen, phosgene, phosphine, etc.) cylinders should be stored in a suitable exhausted location. If a hazardous gas cylinder develops a leak, evacuate and restrict area access. Remove sources of ignition if the gas is flammabl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ert gases, such as nitrogen and carbon dioxide must be treated with caution. If left to leak into closed space, these gases may displace oxygen and create a risk of asphyxiation.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xidizing gases such as compressed oxygen or nitrous oxide, while not combustible themselves, will cause many materials to burn violently. Never use grease, solvents, or other flammable material on an oxygen valve, regulator, or piping.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xic, corrosive, and pyrophoric gases have special handling and storage requirements. </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1560" y="668160"/>
            <a:ext cx="4814640" cy="3333960"/>
          </a:xfrm>
          <a:prstGeom prst="rect">
            <a:avLst/>
          </a:prstGeom>
          <a:ln w="0">
            <a:noFill/>
          </a:ln>
        </p:spPr>
      </p:sp>
      <p:sp>
        <p:nvSpPr>
          <p:cNvPr id="25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Handli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es shall be handled only by properly trained persons. Training must include the contents of this guideline as well as any specific information relevant to the gas being used and emergency information:</a:t>
            </a:r>
            <a:endParaRPr b="0" lang="en-US" sz="9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afety shoes are required when moving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ould not be dragged or physically carried. Transport cylinders with a handtruck designed for the transport of cylinders. </a:t>
            </a:r>
            <a:r>
              <a:rPr b="0" lang="es-ES_tradnl" sz="1000" spc="-1" strike="noStrike">
                <a:solidFill>
                  <a:srgbClr val="000000"/>
                </a:solidFill>
                <a:latin typeface="Arial"/>
              </a:rPr>
              <a:t>Cylinder caps shall be secured during transpor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revent damage to cylinders. Locate cylinders where they will be protected from physical damage by striking or falling objects, corrosion or damage from public tampering.</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No person other than the gas supplier shall attempt to mix gases in a cylinder.</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all not be subjected to artificially created low temperatures without approval from the supplier.</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ontainers shall not be used for any other purpose than holding the contents as received.</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all not be picked up by the cap.</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Ropes, chains and slings shall not be used to suspend cylinders, unless cylinder was designed for such.</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agnets shall not be used for lifting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Where appropriate lifting attachments have not been provided on the cylinder/container, suitable cradles or platforms to hold the containers shall be used for lifting.</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user shall not paint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Leaking, defective, fire burned and corroded containers shall not be shipped without the approval of the supplier.</a:t>
            </a:r>
            <a:endParaRPr b="0" lang="en-US" sz="1000" spc="-1" strike="noStrike">
              <a:solidFill>
                <a:srgbClr val="000000"/>
              </a:solidFill>
              <a:latin typeface="Arial"/>
            </a:endParaRPr>
          </a:p>
          <a:p>
            <a:pPr lvl="2" marL="31428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1560" y="668160"/>
            <a:ext cx="4814640" cy="3333960"/>
          </a:xfrm>
          <a:prstGeom prst="rect">
            <a:avLst/>
          </a:prstGeom>
          <a:ln w="0">
            <a:noFill/>
          </a:ln>
        </p:spPr>
      </p:sp>
      <p:sp>
        <p:nvSpPr>
          <p:cNvPr id="26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Corrosive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etals become brittle when used in corrosive gas service, check equipment and lines frequently for leak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 diaphragm gauge should be used with corrosive gases that would destroy a steel or bronze gauge. </a:t>
            </a:r>
            <a:r>
              <a:rPr b="0" lang="es-ES_tradnl" sz="1000" spc="-1" strike="noStrike">
                <a:solidFill>
                  <a:srgbClr val="000000"/>
                </a:solidFill>
                <a:latin typeface="Arial"/>
              </a:rPr>
              <a:t>Check with gas supplier for recommended equipmen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Remove regulators after use and flush with dry air or nitrogen.</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Cryogenic Liquids and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se appropriate personal protective equipment (PPE) including insulated gloves and eye protection (goggles and a face shield) during any transfer of cryogenic liquid.</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 the event of skin contact with a cryogenic liquid, do not rub skin, place the affected part of the body in a warm water bath (not to exceed 40°C [105°F]).</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se only equipment, valves and containers designed for the intended product and service pressure and temperat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spect containers for loss of insulating vacuum. If the outside jacket on a container is cold or has frost spots, some vacuum has been lost. Empty the contents into another cryogenic container and remove the damaged unit from service. Repairs should be made by the manufacturer or an authorized company.</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ransfer operations involving open cryogenic containers such as dewars must be conducted slowly to minimize boiling and splashing of the cryogenic fluid.</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ce or other foreign matter should not be allowed to accumulate beneath the vaporizer or the tank. Excessive ice buildup could result in the discharge of excessively cold gas or structural damage to the cryogenic container or surrounding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l cryogenic systems including piping must be equipped with pressure relief devices to prevent excessive pressure build-up. Pressure reliefs must be directed to a safe location. Do not tamper with pressure relief valves or the settings for the valv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Hot air, steam or hot water should be used to thaw frozen equipment. </a:t>
            </a:r>
            <a:r>
              <a:rPr b="0" lang="es-ES_tradnl" sz="1000" spc="-1" strike="noStrike">
                <a:solidFill>
                  <a:srgbClr val="000000"/>
                </a:solidFill>
                <a:latin typeface="Arial"/>
              </a:rPr>
              <a:t>DO NOT USE water to thaw liquid helium equipment.</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Flammable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lammable gases, except for protected fuel gases, shall not be used near ignition sources. Ignition sources include open flames and sparks, sources of heat, oxidizing agents and ungrounded or non-intrinsically safe electrical or electronic equipmen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ortable fire extinguishers shall be available for fire emergencies. The fire extinguisher must be compatible with the apparatus and the materials in us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lames shall not be used for detecting leaks. A compatible leak detection solution shall be used for leak detection.</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park proof tools shall be used when working with or on a flammable compressed gas cylinder or system.</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ccess doors to areas which use or store flammable gases shall be posted "No Open Flam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anifold systems shall be designed and constructed by competent personnel who are thoroughly familiar with the requirements for piping of flammable gases. Manifolds should comply with the standards of a recognized safety authority such as Underwriter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1560" y="668160"/>
            <a:ext cx="4814640" cy="3333960"/>
          </a:xfrm>
          <a:prstGeom prst="rect">
            <a:avLst/>
          </a:prstGeom>
          <a:ln w="0">
            <a:noFill/>
          </a:ln>
        </p:spPr>
      </p:sp>
      <p:sp>
        <p:nvSpPr>
          <p:cNvPr id="26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Toxic and Highly Toxic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nless otherwise indicated, all gases must be stored in a continuously mechanically ventilated gas cabinet, fume hood or other enclos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mall quantities (e.g., lecture cylinders) or dilute concentrations of these gases may be stored outside of a ventilated enclos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udible alarms should be utilized in ventilated hoods that are dedicated to toxic gas usage or storag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tandard Operating Procedures (SOP’s) for processes or procedures which use corrosive, toxic or highly toxic gases shall be developed that include emergency response actions. All affected employees shall be trained on the contents of these procedures.</a:t>
            </a:r>
            <a:endParaRPr b="0" lang="en-US" sz="10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Material Safety Data Sheet (MSDS) is a document that contains information on the potential hazards (health, fire, reactivity and environmental) and how to work safely with the chemical product. It is an essential starting point for the development of a complete health and safety program. It also contains information on the use, storage, handling and emergency procedures all related to the hazards of the material. The MSDS contains much more information about the material than the label. MSDSs are prepared by the supplier or manufacturer of the material. It is intended to tell what the hazards of the product are, how to use the product safely, what to expect if the recommendations are not followed, what to do if accidents occur, how to recognize symptoms of overexposure, and what to do if such incidents occu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re are nine categories of information that must be present on an MSDS. These categories are specified in the Controlled Products Regulations and include: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duct Information: product identifier (name), manufacturer and suppliers names, addresses, and emergency phone numbers</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ous Ingredient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hysical Data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ire or Explosion Hazard Data</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Reactivity Data: information on the chemical instability of a product and the substances it may react with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xicological Properties: health effect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ventive Measures</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irst Aid Measure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paration Information: who is responsible for preparation and date of preparation of MSDS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1560" y="668160"/>
            <a:ext cx="4814640" cy="3333960"/>
          </a:xfrm>
          <a:prstGeom prst="rect">
            <a:avLst/>
          </a:prstGeom>
          <a:ln w="0">
            <a:noFill/>
          </a:ln>
        </p:spPr>
      </p:sp>
      <p:sp>
        <p:nvSpPr>
          <p:cNvPr id="265" name="PlaceHolder 2"/>
          <p:cNvSpPr>
            <a:spLocks noGrp="1"/>
          </p:cNvSpPr>
          <p:nvPr>
            <p:ph type="body"/>
          </p:nvPr>
        </p:nvSpPr>
        <p:spPr>
          <a:xfrm>
            <a:off x="757080" y="4669920"/>
            <a:ext cx="5661360" cy="37213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How often should an MSDS be updat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new, significant information becomes available before the three years has elapsed, the supplier is required to update the product label and MSD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there is no new information on the ingredients by the end of the three-year period, the supplier should review the MSDS and the label for accuracy, revise it where necessary, and revise the preparation date on the MSD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5" descr="LOGO DEFINITIVO"/>
          <p:cNvPicPr/>
          <p:nvPr/>
        </p:nvPicPr>
        <p:blipFill>
          <a:blip r:embed="rId2"/>
          <a:stretch/>
        </p:blipFill>
        <p:spPr>
          <a:xfrm>
            <a:off x="55440" y="50760"/>
            <a:ext cx="1441440" cy="817560"/>
          </a:xfrm>
          <a:prstGeom prst="rect">
            <a:avLst/>
          </a:prstGeom>
          <a:ln w="0">
            <a:noFill/>
          </a:ln>
        </p:spPr>
      </p:pic>
      <p:sp>
        <p:nvSpPr>
          <p:cNvPr id="4" name="Text Box 6"/>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 descr="LOGO DEFINITIVO"/>
          <p:cNvPicPr/>
          <p:nvPr/>
        </p:nvPicPr>
        <p:blipFill>
          <a:blip r:embed="rId2"/>
          <a:stretch/>
        </p:blipFill>
        <p:spPr>
          <a:xfrm>
            <a:off x="55440" y="50760"/>
            <a:ext cx="1441440" cy="817560"/>
          </a:xfrm>
          <a:prstGeom prst="rect">
            <a:avLst/>
          </a:prstGeom>
          <a:ln w="0">
            <a:noFill/>
          </a:ln>
        </p:spPr>
      </p:pic>
      <p:pic>
        <p:nvPicPr>
          <p:cNvPr id="45" name="Picture 8" descr="_SANVALE"/>
          <p:cNvPicPr/>
          <p:nvPr/>
        </p:nvPicPr>
        <p:blipFill>
          <a:blip r:embed="rId3"/>
          <a:stretch/>
        </p:blipFill>
        <p:spPr>
          <a:xfrm>
            <a:off x="200160" y="1467000"/>
            <a:ext cx="1152360" cy="954000"/>
          </a:xfrm>
          <a:prstGeom prst="rect">
            <a:avLst/>
          </a:prstGeom>
          <a:ln w="0">
            <a:noFill/>
          </a:ln>
        </p:spPr>
      </p:pic>
      <p:pic>
        <p:nvPicPr>
          <p:cNvPr id="46" name="Picture 9" descr="Kolping-Sig_2c"/>
          <p:cNvPicPr/>
          <p:nvPr/>
        </p:nvPicPr>
        <p:blipFill>
          <a:blip r:embed="rId4"/>
          <a:stretch/>
        </p:blipFill>
        <p:spPr>
          <a:xfrm>
            <a:off x="6105600" y="5805360"/>
            <a:ext cx="3098880" cy="749520"/>
          </a:xfrm>
          <a:prstGeom prst="rect">
            <a:avLst/>
          </a:prstGeom>
          <a:ln w="0">
            <a:noFill/>
          </a:ln>
        </p:spPr>
      </p:pic>
      <p:pic>
        <p:nvPicPr>
          <p:cNvPr id="47" name="Picture 10" descr="larger_bi-lingual_cmyk"/>
          <p:cNvPicPr/>
          <p:nvPr/>
        </p:nvPicPr>
        <p:blipFill>
          <a:blip r:embed="rId5"/>
          <a:stretch/>
        </p:blipFill>
        <p:spPr>
          <a:xfrm>
            <a:off x="272880" y="4941720"/>
            <a:ext cx="1440000" cy="621000"/>
          </a:xfrm>
          <a:prstGeom prst="rect">
            <a:avLst/>
          </a:prstGeom>
          <a:ln w="0">
            <a:noFill/>
          </a:ln>
        </p:spPr>
      </p:pic>
      <p:pic>
        <p:nvPicPr>
          <p:cNvPr id="48" name="Picture 11" descr="logo4cneupng"/>
          <p:cNvPicPr/>
          <p:nvPr/>
        </p:nvPicPr>
        <p:blipFill>
          <a:blip r:embed="rId6"/>
          <a:stretch/>
        </p:blipFill>
        <p:spPr>
          <a:xfrm>
            <a:off x="200160" y="3789360"/>
            <a:ext cx="1511280" cy="851040"/>
          </a:xfrm>
          <a:prstGeom prst="rect">
            <a:avLst/>
          </a:prstGeom>
          <a:ln w="0">
            <a:noFill/>
          </a:ln>
        </p:spPr>
      </p:pic>
      <p:pic>
        <p:nvPicPr>
          <p:cNvPr id="49" name="Picture 12" descr="Logo_USJ1"/>
          <p:cNvPicPr/>
          <p:nvPr/>
        </p:nvPicPr>
        <p:blipFill>
          <a:blip r:embed="rId7"/>
          <a:stretch/>
        </p:blipFill>
        <p:spPr>
          <a:xfrm>
            <a:off x="272880" y="6021360"/>
            <a:ext cx="2232360" cy="405000"/>
          </a:xfrm>
          <a:prstGeom prst="rect">
            <a:avLst/>
          </a:prstGeom>
          <a:ln w="0">
            <a:noFill/>
          </a:ln>
        </p:spPr>
      </p:pic>
      <p:pic>
        <p:nvPicPr>
          <p:cNvPr id="50" name="Picture 13" descr="Logo_WBZU_RGB-300dpi"/>
          <p:cNvPicPr/>
          <p:nvPr/>
        </p:nvPicPr>
        <p:blipFill>
          <a:blip r:embed="rId8"/>
          <a:stretch/>
        </p:blipFill>
        <p:spPr>
          <a:xfrm>
            <a:off x="201600" y="2781360"/>
            <a:ext cx="1295280" cy="716040"/>
          </a:xfrm>
          <a:prstGeom prst="rect">
            <a:avLst/>
          </a:prstGeom>
          <a:ln w="0">
            <a:noFill/>
          </a:ln>
        </p:spPr>
      </p:pic>
      <p:grpSp>
        <p:nvGrpSpPr>
          <p:cNvPr id="51" name="Group 14"/>
          <p:cNvGrpSpPr/>
          <p:nvPr/>
        </p:nvGrpSpPr>
        <p:grpSpPr>
          <a:xfrm>
            <a:off x="2289240" y="4797360"/>
            <a:ext cx="2016000" cy="866520"/>
            <a:chOff x="2289240" y="4797360"/>
            <a:chExt cx="2016000" cy="866520"/>
          </a:xfrm>
        </p:grpSpPr>
        <p:grpSp>
          <p:nvGrpSpPr>
            <p:cNvPr id="52" name="Group 15"/>
            <p:cNvGrpSpPr/>
            <p:nvPr/>
          </p:nvGrpSpPr>
          <p:grpSpPr>
            <a:xfrm>
              <a:off x="2360520" y="4868640"/>
              <a:ext cx="791280" cy="720720"/>
              <a:chOff x="2360520" y="4868640"/>
              <a:chExt cx="791280" cy="720720"/>
            </a:xfrm>
          </p:grpSpPr>
          <p:sp>
            <p:nvSpPr>
              <p:cNvPr id="53" name="Oval 1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17"/>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18" descr="LogoFunda"/>
            <p:cNvPicPr/>
            <p:nvPr/>
          </p:nvPicPr>
          <p:blipFill>
            <a:blip r:embed="rId9"/>
            <a:stretch/>
          </p:blipFill>
          <p:spPr>
            <a:xfrm>
              <a:off x="2289240" y="4797360"/>
              <a:ext cx="2016000" cy="866520"/>
            </a:xfrm>
            <a:prstGeom prst="rect">
              <a:avLst/>
            </a:prstGeom>
            <a:ln w="0">
              <a:noFill/>
            </a:ln>
          </p:spPr>
        </p:pic>
      </p:grpSp>
      <p:pic>
        <p:nvPicPr>
          <p:cNvPr id="56" name="Picture 19" descr="marchio_EP_300_rgb"/>
          <p:cNvPicPr/>
          <p:nvPr/>
        </p:nvPicPr>
        <p:blipFill>
          <a:blip r:embed="rId10"/>
          <a:stretch/>
        </p:blipFill>
        <p:spPr>
          <a:xfrm>
            <a:off x="5168880" y="5013360"/>
            <a:ext cx="2376360" cy="522360"/>
          </a:xfrm>
          <a:prstGeom prst="rect">
            <a:avLst/>
          </a:prstGeom>
          <a:ln w="0">
            <a:noFill/>
          </a:ln>
        </p:spPr>
      </p:pic>
      <p:pic>
        <p:nvPicPr>
          <p:cNvPr id="57" name="Picture 20" descr="new-logo-large"/>
          <p:cNvPicPr/>
          <p:nvPr/>
        </p:nvPicPr>
        <p:blipFill>
          <a:blip r:embed="rId11"/>
          <a:stretch/>
        </p:blipFill>
        <p:spPr>
          <a:xfrm>
            <a:off x="8553600" y="4797360"/>
            <a:ext cx="877680" cy="936720"/>
          </a:xfrm>
          <a:prstGeom prst="rect">
            <a:avLst/>
          </a:prstGeom>
          <a:ln w="0">
            <a:noFill/>
          </a:ln>
        </p:spPr>
      </p:pic>
      <p:pic>
        <p:nvPicPr>
          <p:cNvPr id="58" name="Picture 21" descr="logo-eco4ward"/>
          <p:cNvPicPr/>
          <p:nvPr/>
        </p:nvPicPr>
        <p:blipFill>
          <a:blip r:embed="rId12"/>
          <a:stretch/>
        </p:blipFill>
        <p:spPr>
          <a:xfrm>
            <a:off x="3513240" y="5805360"/>
            <a:ext cx="1944720" cy="895320"/>
          </a:xfrm>
          <a:prstGeom prst="rect">
            <a:avLst/>
          </a:prstGeom>
          <a:ln w="0">
            <a:noFill/>
          </a:ln>
        </p:spPr>
      </p:pic>
      <p:sp>
        <p:nvSpPr>
          <p:cNvPr id="59" name="Text Box 22"/>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mages.google.es/imgres?imgurl=http://www.micro-vett.it/H2/imagesh2/bombole.gif&amp;imgrefurl=http://www.micro-vett.it/H2/ing/vehicle.html&amp;h=332&amp;w=349&amp;sz=60&amp;hl=es&amp;start=22&amp;um=1&amp;tbnid=VCkqQppl58AAzM:&amp;tbnh=114&amp;tbnw=120&amp;prev=/images%3Fq%3Dgas%2Bcompressed%2Btank%2Bhydrogen%26start%3D18%26ndsp%3D18%26svnum%3D10%26um%3D1%26hl%3Des%26sa%3DN"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pn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99800" y="2639880"/>
            <a:ext cx="6993000" cy="7891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a1e31"/>
                </a:solidFill>
                <a:latin typeface="Arial"/>
              </a:rPr>
              <a:t>Chapter :</a:t>
            </a:r>
            <a:br>
              <a:rPr sz="4400"/>
            </a:br>
            <a:r>
              <a:rPr b="1" lang="en-GB" sz="4400" spc="-1" strike="noStrike">
                <a:solidFill>
                  <a:srgbClr val="ba1e31"/>
                </a:solidFill>
                <a:latin typeface="SwitzerlandCondBlack"/>
              </a:rPr>
              <a:t>GAS TECHNOLOGY</a:t>
            </a:r>
            <a:br>
              <a:rPr sz="4400"/>
            </a:br>
            <a:endParaRPr b="1" lang="en-US" sz="44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E:\Pantallazo-5.png"/>
          <p:cNvPicPr/>
          <p:nvPr/>
        </p:nvPicPr>
        <p:blipFill>
          <a:blip r:embed="rId1"/>
          <a:stretch/>
        </p:blipFill>
        <p:spPr>
          <a:xfrm>
            <a:off x="1666800" y="428760"/>
            <a:ext cx="4140360" cy="5857920"/>
          </a:xfrm>
          <a:prstGeom prst="rect">
            <a:avLst/>
          </a:prstGeom>
          <a:ln w="0">
            <a:noFill/>
          </a:ln>
        </p:spPr>
      </p:pic>
      <p:pic>
        <p:nvPicPr>
          <p:cNvPr id="129" name="Picture 3" descr="E:\Pantallazo-6.png"/>
          <p:cNvPicPr/>
          <p:nvPr/>
        </p:nvPicPr>
        <p:blipFill>
          <a:blip r:embed="rId2"/>
          <a:stretch/>
        </p:blipFill>
        <p:spPr>
          <a:xfrm>
            <a:off x="5738760" y="428760"/>
            <a:ext cx="4140360" cy="5857920"/>
          </a:xfrm>
          <a:prstGeom prst="rect">
            <a:avLst/>
          </a:prstGeom>
          <a:ln w="0">
            <a:noFill/>
          </a:ln>
        </p:spPr>
      </p:pic>
      <p:sp>
        <p:nvSpPr>
          <p:cNvPr id="130" name="Rectangle 6"/>
          <p:cNvSpPr/>
          <p:nvPr/>
        </p:nvSpPr>
        <p:spPr>
          <a:xfrm>
            <a:off x="1640160" y="87480"/>
            <a:ext cx="57571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Material Safety Data Sheet (MSDS)</a:t>
            </a:r>
            <a:endParaRPr b="1" lang="en-US" sz="2400" spc="-1" strike="noStrike">
              <a:solidFill>
                <a:srgbClr val="000000"/>
              </a:solidFill>
              <a:latin typeface="Colonna MT"/>
            </a:endParaRPr>
          </a:p>
        </p:txBody>
      </p:sp>
      <p:sp>
        <p:nvSpPr>
          <p:cNvPr id="13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GAS CYLINDERS</a:t>
            </a:r>
            <a:br>
              <a:rPr sz="3200"/>
            </a:br>
            <a:endParaRPr b="1" lang="en-US" sz="3200" spc="-1" strike="noStrike">
              <a:solidFill>
                <a:srgbClr val="ba1e31"/>
              </a:solidFill>
              <a:latin typeface="SwitzerlandCondBlack"/>
            </a:endParaRPr>
          </a:p>
        </p:txBody>
      </p:sp>
      <p:sp>
        <p:nvSpPr>
          <p:cNvPr id="133" name=""/>
          <p:cNvSpPr txBox="1"/>
          <p:nvPr/>
        </p:nvSpPr>
        <p:spPr>
          <a:xfrm>
            <a:off x="1595160" y="1071360"/>
            <a:ext cx="8064360" cy="5173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 Compressed Hydrogen Gas Tanks</a:t>
            </a:r>
            <a:endParaRPr b="1" lang="en-US" sz="2400" spc="-1" strike="noStrike">
              <a:solidFill>
                <a:srgbClr val="000000"/>
              </a:solidFill>
              <a:latin typeface="Arial"/>
            </a:endParaRPr>
          </a:p>
        </p:txBody>
      </p:sp>
      <p:pic>
        <p:nvPicPr>
          <p:cNvPr id="134" name="Picture 2" descr=""/>
          <p:cNvPicPr/>
          <p:nvPr/>
        </p:nvPicPr>
        <p:blipFill>
          <a:blip r:embed="rId1"/>
          <a:stretch/>
        </p:blipFill>
        <p:spPr>
          <a:xfrm>
            <a:off x="1784520" y="2565360"/>
            <a:ext cx="3671640" cy="2514600"/>
          </a:xfrm>
          <a:prstGeom prst="rect">
            <a:avLst/>
          </a:prstGeom>
          <a:ln w="0">
            <a:noFill/>
          </a:ln>
        </p:spPr>
      </p:pic>
      <p:pic>
        <p:nvPicPr>
          <p:cNvPr id="135" name="Picture 10" descr="bombole">
            <a:hlinkClick r:id="rId2"/>
          </p:cNvPr>
          <p:cNvPicPr/>
          <p:nvPr/>
        </p:nvPicPr>
        <p:blipFill>
          <a:blip r:embed="rId3"/>
          <a:stretch/>
        </p:blipFill>
        <p:spPr>
          <a:xfrm>
            <a:off x="6176880" y="2495520"/>
            <a:ext cx="2592360" cy="2463840"/>
          </a:xfrm>
          <a:prstGeom prst="rect">
            <a:avLst/>
          </a:prstGeom>
          <a:ln w="0">
            <a:noFill/>
          </a:ln>
        </p:spPr>
      </p:pic>
      <p:sp>
        <p:nvSpPr>
          <p:cNvPr id="136"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GAS CYLINDERS</a:t>
            </a:r>
            <a:br>
              <a:rPr sz="3200"/>
            </a:br>
            <a:endParaRPr b="1" lang="en-US" sz="3200" spc="-1" strike="noStrike">
              <a:solidFill>
                <a:srgbClr val="ba1e31"/>
              </a:solidFill>
              <a:latin typeface="SwitzerlandCondBlack"/>
            </a:endParaRPr>
          </a:p>
        </p:txBody>
      </p:sp>
      <p:sp>
        <p:nvSpPr>
          <p:cNvPr id="138" name="5 Rectángulo"/>
          <p:cNvSpPr/>
          <p:nvPr/>
        </p:nvSpPr>
        <p:spPr>
          <a:xfrm>
            <a:off x="1952640" y="1071720"/>
            <a:ext cx="4952880" cy="49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 Liquid Hydrogen Tanks</a:t>
            </a:r>
            <a:endParaRPr b="1" lang="en-US" sz="2400" spc="-1" strike="noStrike">
              <a:solidFill>
                <a:srgbClr val="000000"/>
              </a:solidFill>
              <a:latin typeface="Colonna MT"/>
            </a:endParaRPr>
          </a:p>
        </p:txBody>
      </p:sp>
      <p:pic>
        <p:nvPicPr>
          <p:cNvPr id="139" name="Picture 3" descr=""/>
          <p:cNvPicPr/>
          <p:nvPr/>
        </p:nvPicPr>
        <p:blipFill>
          <a:blip r:embed="rId1"/>
          <a:stretch/>
        </p:blipFill>
        <p:spPr>
          <a:xfrm>
            <a:off x="2289240" y="2349360"/>
            <a:ext cx="5111640" cy="3759480"/>
          </a:xfrm>
          <a:prstGeom prst="rect">
            <a:avLst/>
          </a:prstGeom>
          <a:ln w="0">
            <a:noFill/>
          </a:ln>
        </p:spPr>
      </p:pic>
      <p:sp>
        <p:nvSpPr>
          <p:cNvPr id="14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41"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12520" y="0"/>
            <a:ext cx="8193240" cy="6524640"/>
          </a:xfrm>
          <a:prstGeom prst="rect">
            <a:avLst/>
          </a:prstGeom>
          <a:noFill/>
          <a:ln w="0">
            <a:noFill/>
          </a:ln>
        </p:spPr>
        <p:txBody>
          <a:bodyPr lIns="92160" rIns="92160" tIns="46080" bIns="46080" anchor="t">
            <a:normAutofit/>
          </a:bodyPr>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n-GB" sz="2400" spc="-1" strike="noStrike">
                <a:solidFill>
                  <a:srgbClr val="000000"/>
                </a:solidFill>
                <a:latin typeface="Arial"/>
              </a:rPr>
              <a:t>2.3. Regulation</a:t>
            </a:r>
            <a:endParaRPr b="1" lang="en-US" sz="24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Directive 1999/36/EC.</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3458-1:2002, Directive 97/23/EC and Harmonised Standard EN 134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ISO/TC 58.</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The following European Standards cover the Periodic Inspection, Testing and Re-qualification of gas container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802.</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803.</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968.</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2863.</a:t>
            </a:r>
            <a:endParaRPr b="1" lang="en-US" sz="1600" spc="-1" strike="noStrike">
              <a:solidFill>
                <a:srgbClr val="000000"/>
              </a:solidFill>
              <a:latin typeface="Arial"/>
            </a:endParaRPr>
          </a:p>
        </p:txBody>
      </p:sp>
      <p:sp>
        <p:nvSpPr>
          <p:cNvPr id="14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1712880" y="0"/>
            <a:ext cx="409752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4. Cylinder Storage</a:t>
            </a:r>
            <a:endParaRPr b="1" lang="en-US" sz="24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Do</a:t>
            </a:r>
            <a:endParaRPr b="1" lang="en-US" sz="1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eck your fire cod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early identified, dry, well-ventilated storage are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No smoking" signs in the are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ore cylinders in the upright position and secur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cure the protective cap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sure that the area is well ventilated.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tect cylinders from contac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ore oxygen and fuel gases separately.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 name="2 Marcador de contenido"/>
          <p:cNvSpPr/>
          <p:nvPr/>
        </p:nvSpPr>
        <p:spPr>
          <a:xfrm>
            <a:off x="5667480" y="642960"/>
            <a:ext cx="400212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Don't do</a:t>
            </a:r>
            <a:endParaRPr b="1" lang="en-US" sz="18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use a cylinder as an electrical ground connection.</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fasten cylinders to a work table or to structures where they could become part of an electrical circuit.</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strike an arc on a cylinder.</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use a flame or boiling water to thaw a frozen valve. Valves or cylinders may contain fusible plugs which can melt at temperatures below the boiling point of water. </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146" name="Picture 2" descr=""/>
          <p:cNvPicPr/>
          <p:nvPr/>
        </p:nvPicPr>
        <p:blipFill>
          <a:blip r:embed="rId1"/>
          <a:stretch/>
        </p:blipFill>
        <p:spPr>
          <a:xfrm>
            <a:off x="1809720" y="5286240"/>
            <a:ext cx="2351160" cy="798480"/>
          </a:xfrm>
          <a:prstGeom prst="rect">
            <a:avLst/>
          </a:prstGeom>
          <a:ln w="0">
            <a:noFill/>
          </a:ln>
        </p:spPr>
      </p:pic>
      <p:pic>
        <p:nvPicPr>
          <p:cNvPr id="147" name="Picture 3" descr=""/>
          <p:cNvPicPr/>
          <p:nvPr/>
        </p:nvPicPr>
        <p:blipFill>
          <a:blip r:embed="rId2"/>
          <a:stretch/>
        </p:blipFill>
        <p:spPr>
          <a:xfrm>
            <a:off x="4452840" y="4714920"/>
            <a:ext cx="2484360" cy="1960560"/>
          </a:xfrm>
          <a:prstGeom prst="rect">
            <a:avLst/>
          </a:prstGeom>
          <a:ln w="0">
            <a:noFill/>
          </a:ln>
        </p:spPr>
      </p:pic>
      <p:pic>
        <p:nvPicPr>
          <p:cNvPr id="148" name="Picture 4" descr=""/>
          <p:cNvPicPr/>
          <p:nvPr/>
        </p:nvPicPr>
        <p:blipFill>
          <a:blip r:embed="rId3"/>
          <a:stretch/>
        </p:blipFill>
        <p:spPr>
          <a:xfrm>
            <a:off x="7095960" y="4572000"/>
            <a:ext cx="2286000" cy="1963800"/>
          </a:xfrm>
          <a:prstGeom prst="rect">
            <a:avLst/>
          </a:prstGeom>
          <a:ln w="0">
            <a:noFill/>
          </a:ln>
        </p:spPr>
      </p:pic>
      <p:sp>
        <p:nvSpPr>
          <p:cNvPr id="14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1712880" y="0"/>
            <a:ext cx="5526000" cy="71424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5. </a:t>
            </a:r>
            <a:r>
              <a:rPr b="1" lang="en-US" sz="2400" spc="-1" strike="noStrike">
                <a:solidFill>
                  <a:srgbClr val="000000"/>
                </a:solidFill>
                <a:latin typeface="Arial"/>
              </a:rPr>
              <a:t>Transporting cylinders </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51" name="Picture 3" descr=""/>
          <p:cNvPicPr/>
          <p:nvPr/>
        </p:nvPicPr>
        <p:blipFill>
          <a:blip r:embed="rId1"/>
          <a:stretch/>
        </p:blipFill>
        <p:spPr>
          <a:xfrm>
            <a:off x="4881600" y="785880"/>
            <a:ext cx="2244600" cy="3581280"/>
          </a:xfrm>
          <a:prstGeom prst="rect">
            <a:avLst/>
          </a:prstGeom>
          <a:ln w="0">
            <a:noFill/>
          </a:ln>
        </p:spPr>
      </p:pic>
      <p:pic>
        <p:nvPicPr>
          <p:cNvPr id="152" name="Picture 4" descr=""/>
          <p:cNvPicPr/>
          <p:nvPr/>
        </p:nvPicPr>
        <p:blipFill>
          <a:blip r:embed="rId2"/>
          <a:stretch/>
        </p:blipFill>
        <p:spPr>
          <a:xfrm>
            <a:off x="7238880" y="214200"/>
            <a:ext cx="1976400" cy="1600200"/>
          </a:xfrm>
          <a:prstGeom prst="rect">
            <a:avLst/>
          </a:prstGeom>
          <a:ln w="0">
            <a:noFill/>
          </a:ln>
        </p:spPr>
      </p:pic>
      <p:pic>
        <p:nvPicPr>
          <p:cNvPr id="153" name="Picture 6" descr=""/>
          <p:cNvPicPr/>
          <p:nvPr/>
        </p:nvPicPr>
        <p:blipFill>
          <a:blip r:embed="rId3"/>
          <a:stretch/>
        </p:blipFill>
        <p:spPr>
          <a:xfrm>
            <a:off x="4809960" y="4621320"/>
            <a:ext cx="3092760" cy="2236680"/>
          </a:xfrm>
          <a:prstGeom prst="rect">
            <a:avLst/>
          </a:prstGeom>
          <a:ln w="0">
            <a:noFill/>
          </a:ln>
        </p:spPr>
      </p:pic>
      <p:pic>
        <p:nvPicPr>
          <p:cNvPr id="154" name="Picture 5" descr=""/>
          <p:cNvPicPr/>
          <p:nvPr/>
        </p:nvPicPr>
        <p:blipFill>
          <a:blip r:embed="rId4"/>
          <a:srcRect l="26297" t="17540" r="14135" b="7356"/>
          <a:stretch/>
        </p:blipFill>
        <p:spPr>
          <a:xfrm>
            <a:off x="7059600" y="1916280"/>
            <a:ext cx="2846520" cy="2830320"/>
          </a:xfrm>
          <a:prstGeom prst="rect">
            <a:avLst/>
          </a:prstGeom>
          <a:ln w="0">
            <a:noFill/>
          </a:ln>
        </p:spPr>
      </p:pic>
      <p:sp>
        <p:nvSpPr>
          <p:cNvPr id="155" name="Text Box 9"/>
          <p:cNvSpPr/>
          <p:nvPr/>
        </p:nvSpPr>
        <p:spPr>
          <a:xfrm>
            <a:off x="1712880" y="765000"/>
            <a:ext cx="324000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hydrogen cylinders are assembled in bundles or on trailers, certain mounting stresses in combination with other stresses may affect the safe performance of the cylinders. Take into account:</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ct between cylinders.</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amping devices.</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acers.</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l to metal contact.</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tic loadi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ansio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rnal corrosio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ving and manifoldi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hicle desig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rthi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ndle design (EN 13769).</a:t>
            </a:r>
            <a:endParaRPr b="1" lang="en-US" sz="1600" spc="-1" strike="noStrike">
              <a:solidFill>
                <a:srgbClr val="000000"/>
              </a:solidFill>
              <a:latin typeface="Colonna MT"/>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5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1712520" y="0"/>
            <a:ext cx="8193240" cy="1285920"/>
          </a:xfrm>
          <a:prstGeom prst="rect">
            <a:avLst/>
          </a:prstGeom>
          <a:noFill/>
          <a:ln w="0">
            <a:noFill/>
          </a:ln>
        </p:spPr>
        <p:txBody>
          <a:bodyPr lIns="92160" rIns="92160" tIns="46080" bIns="46080" anchor="t">
            <a:normAutofit fontScale="26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6. </a:t>
            </a:r>
            <a:r>
              <a:rPr b="1" lang="en-GB" sz="2400" spc="-1" strike="noStrike" u="sng">
                <a:solidFill>
                  <a:srgbClr val="000000"/>
                </a:solidFill>
                <a:uFillTx/>
                <a:latin typeface="Arial"/>
              </a:rPr>
              <a:t>Training requirements and competency assessment</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sonnel should wear </a:t>
            </a:r>
            <a:r>
              <a:rPr b="0" i="1" lang="en-GB" sz="1600" spc="-1" strike="noStrike" u="sng">
                <a:solidFill>
                  <a:srgbClr val="000000"/>
                </a:solidFill>
                <a:uFillTx/>
                <a:latin typeface="Arial"/>
              </a:rPr>
              <a:t>conductive footwear</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a:t>
            </a:r>
            <a:r>
              <a:rPr b="0" i="1" lang="en-GB" sz="1600" spc="-1" strike="noStrike" u="sng">
                <a:solidFill>
                  <a:srgbClr val="000000"/>
                </a:solidFill>
                <a:uFillTx/>
                <a:latin typeface="Arial"/>
              </a:rPr>
              <a:t>clothing from non-synthetic material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ining shall cover:</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otential hazards of hydrog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te safety regulation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ergency procedure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 of fire fighting equipmen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 of protective clothing/apparatu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s shall receive specific training in the activities for which they are employed.</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58" name="Picture 3" descr="E:\training_page_photo_12.jpg"/>
          <p:cNvPicPr/>
          <p:nvPr/>
        </p:nvPicPr>
        <p:blipFill>
          <a:blip r:embed="rId1"/>
          <a:stretch/>
        </p:blipFill>
        <p:spPr>
          <a:xfrm>
            <a:off x="6238800" y="1428840"/>
            <a:ext cx="3238560" cy="2428920"/>
          </a:xfrm>
          <a:prstGeom prst="rect">
            <a:avLst/>
          </a:prstGeom>
          <a:ln w="0">
            <a:noFill/>
          </a:ln>
        </p:spPr>
      </p:pic>
      <p:sp>
        <p:nvSpPr>
          <p:cNvPr id="15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1712520" y="0"/>
            <a:ext cx="8193240" cy="62150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7. Good practice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sure that regulator pressure control valve is reliev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ose valves on gas cylinders when a system is not in us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ove all pressure from regulators not currently us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ut-off valves must not be installed between pressure relief devices and the equipment they are to protect.</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pressure relief valve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ef valves should be vent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allow flames or concentrated heat source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allow a gas cylinder to become part of an electrical circuit.</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partially open a tank valve to remove dust or debris from the cylinder inlet.</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use cylinder gas as compressed air.</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ize regulators slowly and ensure that valve outlets and regulators are pointed away from all personnel when cylinder valves are open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ylinders which require a wrench to open the main valve shall have the wrench left in place on the cylinder valve while it is open.</a:t>
            </a:r>
            <a:endParaRPr b="1" lang="en-US" sz="1600" spc="-1" strike="noStrike">
              <a:solidFill>
                <a:srgbClr val="000000"/>
              </a:solidFill>
              <a:latin typeface="Arial"/>
            </a:endParaRPr>
          </a:p>
        </p:txBody>
      </p:sp>
      <p:sp>
        <p:nvSpPr>
          <p:cNvPr id="16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1712520" y="-360"/>
            <a:ext cx="8193240" cy="578628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7. Good practice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attempt to open a corroded valv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ves should only be opened to the point where gas can flow into the system at the necessary pressure.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a cylinder cap hook to loosen tight cylinder caps. Never apply excessive force or pry off caps. Return to supplier to remove “stuck” cap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 piping, regulators and other apparatus gas tight to prevent gas leakag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 gas tightness by using compatible leak test solutions or leak test instrument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ease pressure from systems before connections are tightened or loosened and before any repair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use Teflon™ tape on CGA fittings (straight thread) where the seal is made by metal-to-metal contact. Use of Teflon™ tape causes the threads to spread and weaken, increasing the likelihood of leak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use adapters or exchange fittings between tanks and regulator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luorescent light can be used to check for grease or oil in regulators and valve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6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s-ES" sz="2600" spc="-1" strike="noStrike">
                <a:solidFill>
                  <a:srgbClr val="ba1e31"/>
                </a:solidFill>
                <a:latin typeface="SwitzerlandCondBlack"/>
              </a:rPr>
              <a:t>3. GAS PIPES</a:t>
            </a:r>
            <a:endParaRPr b="1" lang="en-US" sz="2600" spc="-1" strike="noStrike">
              <a:solidFill>
                <a:srgbClr val="ba1e31"/>
              </a:solidFill>
              <a:latin typeface="SwitzerlandCondBlack"/>
            </a:endParaRPr>
          </a:p>
        </p:txBody>
      </p:sp>
      <p:pic>
        <p:nvPicPr>
          <p:cNvPr id="165" name="5 Imagen" descr="pipeline.jpg"/>
          <p:cNvPicPr/>
          <p:nvPr/>
        </p:nvPicPr>
        <p:blipFill>
          <a:blip r:embed="rId1"/>
          <a:stretch/>
        </p:blipFill>
        <p:spPr>
          <a:xfrm>
            <a:off x="7095960" y="1071720"/>
            <a:ext cx="2481480" cy="2419200"/>
          </a:xfrm>
          <a:prstGeom prst="rect">
            <a:avLst/>
          </a:prstGeom>
          <a:ln w="0">
            <a:noFill/>
          </a:ln>
        </p:spPr>
      </p:pic>
      <p:sp>
        <p:nvSpPr>
          <p:cNvPr id="166" name="8 CuadroTexto"/>
          <p:cNvSpPr/>
          <p:nvPr/>
        </p:nvSpPr>
        <p:spPr>
          <a:xfrm>
            <a:off x="1881360" y="1143000"/>
            <a:ext cx="4357440" cy="301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f alloys with homogenous fine-grained microstructures is preferred.</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ance of excessively hard or high strength alloys (pipeline service  should have a maximum hardness of 22 HRC or 250 HB).</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f steels with enhanced cleanliness so non-metallic inclusions, which reduce toughness and hydrogen embrittlement resistance are minimized.</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onents free from significant surface and internal defects.</a:t>
            </a:r>
            <a:endParaRPr b="1" lang="en-US" sz="1600" spc="-1" strike="noStrike">
              <a:solidFill>
                <a:srgbClr val="000000"/>
              </a:solidFill>
              <a:latin typeface="Colonna MT"/>
            </a:endParaRPr>
          </a:p>
        </p:txBody>
      </p:sp>
      <p:sp>
        <p:nvSpPr>
          <p:cNvPr id="167" name="10 CuadroTexto"/>
          <p:cNvSpPr/>
          <p:nvPr/>
        </p:nvSpPr>
        <p:spPr>
          <a:xfrm>
            <a:off x="1881360" y="4357800"/>
            <a:ext cx="77882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a number of brittle fracture mechanisms or degradation effects. Those that are pertinent to the transmission of hydrogen via pipelines are:</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internal corrosion </a:t>
            </a:r>
            <a:r>
              <a:rPr b="0" lang="en-GB" sz="1600" spc="-1" strike="noStrike">
                <a:solidFill>
                  <a:srgbClr val="000000"/>
                </a:solidFill>
                <a:latin typeface="Arial"/>
              </a:rPr>
              <a:t>	</a:t>
            </a:r>
            <a:r>
              <a:rPr b="0" lang="en-GB" sz="1600" spc="-1" strike="noStrike">
                <a:solidFill>
                  <a:srgbClr val="000000"/>
                </a:solidFill>
                <a:latin typeface="Arial"/>
              </a:rPr>
              <a:t>Hydrogen Gas Embrittlement (HGE) at ambien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emperature.</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xternal corrosion              Stress Corrosion Cracking (SCC) of line pipe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materials in underground environments.</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68" name="11 Flecha derecha"/>
          <p:cNvSpPr/>
          <p:nvPr/>
        </p:nvSpPr>
        <p:spPr>
          <a:xfrm>
            <a:off x="4024440" y="5143680"/>
            <a:ext cx="428400" cy="214200"/>
          </a:xfrm>
          <a:prstGeom prst="rightArrow">
            <a:avLst>
              <a:gd name="adj1" fmla="val 50000"/>
              <a:gd name="adj2" fmla="val 5000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 name="12 Flecha derecha"/>
          <p:cNvSpPr/>
          <p:nvPr/>
        </p:nvSpPr>
        <p:spPr>
          <a:xfrm>
            <a:off x="4097160" y="5643720"/>
            <a:ext cx="427320" cy="214200"/>
          </a:xfrm>
          <a:prstGeom prst="rightArrow">
            <a:avLst>
              <a:gd name="adj1" fmla="val 50000"/>
              <a:gd name="adj2" fmla="val 49874"/>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41400" y="142560"/>
            <a:ext cx="8064720" cy="5540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ENTS</a:t>
            </a:r>
            <a:endParaRPr b="1" lang="en-US" sz="3200" spc="-1" strike="noStrike">
              <a:solidFill>
                <a:srgbClr val="ba1e31"/>
              </a:solidFill>
              <a:latin typeface="SwitzerlandCondBlack"/>
            </a:endParaRPr>
          </a:p>
        </p:txBody>
      </p:sp>
      <p:sp>
        <p:nvSpPr>
          <p:cNvPr id="105" name=""/>
          <p:cNvSpPr txBox="1"/>
          <p:nvPr/>
        </p:nvSpPr>
        <p:spPr>
          <a:xfrm>
            <a:off x="1712520" y="642600"/>
            <a:ext cx="8064360" cy="5667480"/>
          </a:xfrm>
          <a:prstGeom prst="rect">
            <a:avLst/>
          </a:prstGeom>
          <a:noFill/>
          <a:ln w="0">
            <a:noFill/>
          </a:ln>
        </p:spPr>
        <p:txBody>
          <a:bodyPr lIns="92160" rIns="92160" tIns="46080" bIns="46080" anchor="t">
            <a:normAutofit fontScale="92000"/>
          </a:bodyPr>
          <a:p>
            <a:pPr marL="334440" indent="-334440">
              <a:lnSpc>
                <a:spcPct val="100000"/>
              </a:lnSpc>
              <a:spcBef>
                <a:spcPts val="7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ndling of compressed gases and deep cold liquid gase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rPr>
              <a:t>1.1. </a:t>
            </a:r>
            <a:r>
              <a:rPr b="0" lang="en-GB" sz="1200" spc="-1" strike="noStrike">
                <a:solidFill>
                  <a:srgbClr val="000000"/>
                </a:solidFill>
                <a:latin typeface="Arial"/>
              </a:rPr>
              <a:t>Definition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rPr>
              <a:t>1.2.</a:t>
            </a:r>
            <a:r>
              <a:rPr b="0" lang="en-GB" sz="1200" spc="-1" strike="noStrike">
                <a:solidFill>
                  <a:srgbClr val="000000"/>
                </a:solidFill>
                <a:latin typeface="Arial"/>
              </a:rPr>
              <a:t> Handling.</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rPr>
              <a:t>1.3.</a:t>
            </a:r>
            <a:r>
              <a:rPr b="0" lang="en-GB" sz="1200" spc="-1" strike="noStrike">
                <a:solidFill>
                  <a:srgbClr val="000000"/>
                </a:solidFill>
                <a:latin typeface="Arial"/>
              </a:rPr>
              <a:t> Material Safety Data Sheet (MSD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as Cylinder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Arial"/>
              </a:rPr>
              <a:t>	</a:t>
            </a:r>
            <a:r>
              <a:rPr b="0" lang="en-GB" sz="1200" spc="-1" strike="noStrike">
                <a:solidFill>
                  <a:srgbClr val="c00000"/>
                </a:solidFill>
                <a:latin typeface="Arial"/>
              </a:rPr>
              <a:t>2.1.</a:t>
            </a:r>
            <a:r>
              <a:rPr b="0" lang="en-GB" sz="1200" spc="-1" strike="noStrike">
                <a:solidFill>
                  <a:srgbClr val="000000"/>
                </a:solidFill>
                <a:latin typeface="Arial"/>
              </a:rPr>
              <a:t> Compressed Hydrogen Gas Tank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2.</a:t>
            </a:r>
            <a:r>
              <a:rPr b="0" lang="en-GB" sz="1200" spc="-1" strike="noStrike">
                <a:solidFill>
                  <a:srgbClr val="000000"/>
                </a:solidFill>
                <a:latin typeface="Arial"/>
              </a:rPr>
              <a:t> </a:t>
            </a:r>
            <a:r>
              <a:rPr b="0" lang="en-GB" sz="1200" spc="-1" strike="noStrike">
                <a:solidFill>
                  <a:srgbClr val="000000"/>
                </a:solidFill>
                <a:latin typeface="Arial"/>
              </a:rPr>
              <a:t>Liquid Hydrogen Tank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3.</a:t>
            </a:r>
            <a:r>
              <a:rPr b="0" lang="en-GB" sz="1200" spc="-1" strike="noStrike">
                <a:solidFill>
                  <a:srgbClr val="000000"/>
                </a:solidFill>
                <a:latin typeface="Arial"/>
              </a:rPr>
              <a:t> </a:t>
            </a:r>
            <a:r>
              <a:rPr b="0" lang="en-GB" sz="1200" spc="-1" strike="noStrike">
                <a:solidFill>
                  <a:srgbClr val="000000"/>
                </a:solidFill>
                <a:latin typeface="Arial"/>
              </a:rPr>
              <a:t>Regulatio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4.</a:t>
            </a:r>
            <a:r>
              <a:rPr b="0" lang="en-GB" sz="1200" spc="-1" strike="noStrike">
                <a:solidFill>
                  <a:srgbClr val="000000"/>
                </a:solidFill>
                <a:latin typeface="Arial"/>
              </a:rPr>
              <a:t> Cylinder Storage.</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5.</a:t>
            </a:r>
            <a:r>
              <a:rPr b="0" lang="en-GB" sz="1200" spc="-1" strike="noStrike">
                <a:solidFill>
                  <a:srgbClr val="000000"/>
                </a:solidFill>
                <a:latin typeface="Arial"/>
              </a:rPr>
              <a:t> Transporting cylinder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6.</a:t>
            </a:r>
            <a:r>
              <a:rPr b="0" lang="en-GB" sz="1200" spc="-1" strike="noStrike">
                <a:solidFill>
                  <a:srgbClr val="000000"/>
                </a:solidFill>
                <a:latin typeface="Arial"/>
              </a:rPr>
              <a:t> Training requirements and competency assessment.</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7. </a:t>
            </a:r>
            <a:r>
              <a:rPr b="0" lang="en-GB" sz="1200" spc="-1" strike="noStrike">
                <a:solidFill>
                  <a:srgbClr val="000000"/>
                </a:solidFill>
                <a:latin typeface="Arial"/>
              </a:rPr>
              <a:t>Good practice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as Pipe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c00000"/>
                </a:solidFill>
                <a:latin typeface="Arial"/>
              </a:rPr>
              <a:t>3.1. </a:t>
            </a:r>
            <a:r>
              <a:rPr b="0" lang="en-GB" sz="1200" spc="-1" strike="noStrike">
                <a:solidFill>
                  <a:srgbClr val="000000"/>
                </a:solidFill>
                <a:latin typeface="Arial"/>
              </a:rPr>
              <a:t>Weld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ve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ydrogen Sensor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as Pressure Regulator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ther Equipment. </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ak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Arial"/>
              </a:rPr>
              <a:t>	</a:t>
            </a:r>
            <a:r>
              <a:rPr b="0" lang="en-GB" sz="1200" spc="-1" strike="noStrike">
                <a:solidFill>
                  <a:srgbClr val="c00000"/>
                </a:solidFill>
                <a:latin typeface="Arial"/>
              </a:rPr>
              <a:t>8.1. </a:t>
            </a:r>
            <a:r>
              <a:rPr b="0" lang="en-GB" sz="1200" spc="-1" strike="noStrike">
                <a:solidFill>
                  <a:srgbClr val="000000"/>
                </a:solidFill>
                <a:latin typeface="Arial"/>
              </a:rPr>
              <a:t>Minor leak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8.2. </a:t>
            </a:r>
            <a:r>
              <a:rPr b="0" lang="en-GB" sz="1200" spc="-1" strike="noStrike">
                <a:solidFill>
                  <a:srgbClr val="000000"/>
                </a:solidFill>
                <a:latin typeface="Arial"/>
              </a:rPr>
              <a:t>Major leak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eaning.</a:t>
            </a:r>
            <a:endParaRPr b="1" lang="en-US" sz="1400" spc="-1" strike="noStrike">
              <a:solidFill>
                <a:srgbClr val="000000"/>
              </a:solidFill>
              <a:latin typeface="Arial"/>
            </a:endParaRPr>
          </a:p>
          <a:p>
            <a:pPr marL="334440" indent="-33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1712520" y="1267920"/>
            <a:ext cx="8064360" cy="5256360"/>
          </a:xfrm>
          <a:prstGeom prst="rect">
            <a:avLst/>
          </a:prstGeom>
          <a:noFill/>
          <a:ln w="0">
            <a:noFill/>
          </a:ln>
        </p:spPr>
        <p:txBody>
          <a:bodyPr lIns="92160" rIns="92160" tIns="46080" bIns="4608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a number of variables, which can affect the severity of the embrittlement mechanisms encountered such as hydrogen purity, temperature and pressure. It is generally recognised that the tendency for embrittlement in hydrogen atmospheres increases with increasing pressure.</a:t>
            </a:r>
            <a:endParaRPr b="1" lang="en-US" sz="1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general, the following are significant metallurgical considerations:</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f alloys with homogenous fine-grained microstructures is preferred.</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ance of excessively hard or high strength alloys , see above.</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f steels with enhanced cleanliness so non-metallic inclusions, which reduce toughness and hydrogen embrittlement resistance are minimized.</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onents free from significant surface and internal defect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 name="1 Título"/>
          <p:cNvSpPr/>
          <p:nvPr/>
        </p:nvSpPr>
        <p:spPr>
          <a:xfrm>
            <a:off x="1666800" y="142920"/>
            <a:ext cx="4357800" cy="6969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s-ES" sz="3200" spc="-1" strike="noStrike">
                <a:solidFill>
                  <a:srgbClr val="ba1e31"/>
                </a:solidFill>
                <a:latin typeface="SwitzerlandCondBlack"/>
              </a:rPr>
              <a:t>3. GAS PIPES</a:t>
            </a:r>
            <a:endParaRPr b="1" lang="en-US" sz="3200" spc="-1" strike="noStrike">
              <a:solidFill>
                <a:srgbClr val="000000"/>
              </a:solidFill>
              <a:latin typeface="Colonna MT"/>
            </a:endParaRPr>
          </a:p>
        </p:txBody>
      </p:sp>
      <p:sp>
        <p:nvSpPr>
          <p:cNvPr id="17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712520" y="0"/>
            <a:ext cx="4597560" cy="2928960"/>
          </a:xfrm>
          <a:prstGeom prst="rect">
            <a:avLst/>
          </a:prstGeom>
          <a:noFill/>
          <a:ln w="0">
            <a:noFill/>
          </a:ln>
        </p:spPr>
        <p:txBody>
          <a:bodyPr lIns="92160" rIns="92160" tIns="46080" bIns="46080" anchor="t">
            <a:normAutofit fontScale="99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1. Weld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nternal weld surfaces</a:t>
            </a:r>
            <a:r>
              <a:rPr b="0" lang="en-GB" sz="1600" spc="-1" strike="noStrike">
                <a:solidFill>
                  <a:srgbClr val="000000"/>
                </a:solidFill>
                <a:latin typeface="Arial"/>
              </a:rPr>
              <a:t>            smooth and free of slag, beads or loose debris.</a:t>
            </a:r>
            <a:endParaRPr b="1"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ardness level of welds and the weld heat affected zone (HAZ) should not exceed Rockell C 22 which is equivalent to Vickers 248 or 250 HB. </a:t>
            </a: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75" name="Picture 5" descr="E:\home.jpg"/>
          <p:cNvPicPr/>
          <p:nvPr/>
        </p:nvPicPr>
        <p:blipFill>
          <a:blip r:embed="rId1"/>
          <a:stretch/>
        </p:blipFill>
        <p:spPr>
          <a:xfrm>
            <a:off x="6381720" y="1143000"/>
            <a:ext cx="3235320" cy="2643120"/>
          </a:xfrm>
          <a:prstGeom prst="rect">
            <a:avLst/>
          </a:prstGeom>
          <a:ln w="0">
            <a:noFill/>
          </a:ln>
        </p:spPr>
      </p:pic>
      <p:sp>
        <p:nvSpPr>
          <p:cNvPr id="176" name="12 Flecha derecha"/>
          <p:cNvSpPr/>
          <p:nvPr/>
        </p:nvSpPr>
        <p:spPr>
          <a:xfrm>
            <a:off x="3952800" y="1000080"/>
            <a:ext cx="428760" cy="214200"/>
          </a:xfrm>
          <a:prstGeom prst="rightArrow">
            <a:avLst>
              <a:gd name="adj1" fmla="val 50000"/>
              <a:gd name="adj2" fmla="val 50042"/>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 name="8 CuadroTexto"/>
          <p:cNvSpPr/>
          <p:nvPr/>
        </p:nvSpPr>
        <p:spPr>
          <a:xfrm>
            <a:off x="1881360" y="4857840"/>
            <a:ext cx="75722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pipes welding shall be preformed in accordance with welding procedures and by welders qualified to the procedures in accordance with the piping code as defined in the project specification and as required by local or national regulations.</a:t>
            </a:r>
            <a:endParaRPr b="1" lang="en-US" sz="1600" spc="-1" strike="noStrike">
              <a:solidFill>
                <a:srgbClr val="000000"/>
              </a:solidFill>
              <a:latin typeface="Colonna MT"/>
            </a:endParaRPr>
          </a:p>
        </p:txBody>
      </p:sp>
      <p:sp>
        <p:nvSpPr>
          <p:cNvPr id="178" name="10 CuadroTexto"/>
          <p:cNvSpPr/>
          <p:nvPr/>
        </p:nvSpPr>
        <p:spPr>
          <a:xfrm>
            <a:off x="1738440" y="3214800"/>
            <a:ext cx="45003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Hydrostatic Tests</a:t>
            </a:r>
            <a:r>
              <a:rPr b="0" lang="en-GB" sz="1600" spc="-1" strike="noStrike">
                <a:solidFill>
                  <a:srgbClr val="000000"/>
                </a:solidFill>
                <a:latin typeface="Arial"/>
              </a:rPr>
              <a:t>             pipe shall be tested between 75 and 100% of the specific minimum yield strength (SMYS) with a holding time at pressure of at least 5-10 seconds depending on the diameter.</a:t>
            </a:r>
            <a:endParaRPr b="1" lang="en-US" sz="1600" spc="-1" strike="noStrike">
              <a:solidFill>
                <a:srgbClr val="000000"/>
              </a:solidFill>
              <a:latin typeface="Colonna MT"/>
            </a:endParaRPr>
          </a:p>
        </p:txBody>
      </p:sp>
      <p:sp>
        <p:nvSpPr>
          <p:cNvPr id="179" name="12 Flecha derecha"/>
          <p:cNvSpPr/>
          <p:nvPr/>
        </p:nvSpPr>
        <p:spPr>
          <a:xfrm>
            <a:off x="3666960" y="3286080"/>
            <a:ext cx="430200" cy="214200"/>
          </a:xfrm>
          <a:prstGeom prst="rightArrow">
            <a:avLst>
              <a:gd name="adj1" fmla="val 50000"/>
              <a:gd name="adj2" fmla="val 5021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6 Imagen" descr="Gate-valve9.jpg"/>
          <p:cNvPicPr/>
          <p:nvPr/>
        </p:nvPicPr>
        <p:blipFill>
          <a:blip r:embed="rId1"/>
          <a:stretch/>
        </p:blipFill>
        <p:spPr>
          <a:xfrm>
            <a:off x="5524560" y="4357800"/>
            <a:ext cx="1695240" cy="1714320"/>
          </a:xfrm>
          <a:prstGeom prst="rect">
            <a:avLst/>
          </a:prstGeom>
          <a:ln w="0">
            <a:noFill/>
          </a:ln>
        </p:spPr>
      </p:pic>
      <p:sp>
        <p:nvSpPr>
          <p:cNvPr id="182" name=""/>
          <p:cNvSpPr txBox="1"/>
          <p:nvPr/>
        </p:nvSpPr>
        <p:spPr>
          <a:xfrm>
            <a:off x="1712520" y="0"/>
            <a:ext cx="8193240" cy="6143760"/>
          </a:xfrm>
          <a:prstGeom prst="rect">
            <a:avLst/>
          </a:prstGeom>
          <a:noFill/>
          <a:ln w="0">
            <a:noFill/>
          </a:ln>
        </p:spPr>
        <p:txBody>
          <a:bodyPr lIns="92160" rIns="92160" tIns="46080" bIns="46080" anchor="t">
            <a:normAutofit fontScale="98000"/>
          </a:bodyPr>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24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Valve function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Isolation valves and  emergency isolation valve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Control and pressure reducing valves and regulator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Safety relief valve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Manual vent and drain valve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xcess flow valves (EFV),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Check valves (non-return valves) </a:t>
            </a:r>
            <a:r>
              <a:rPr b="0" lang="en-GB" sz="1200" spc="-1" strike="noStrike">
                <a:solidFill>
                  <a:srgbClr val="000000"/>
                </a:solidFill>
                <a:latin typeface="Arial"/>
              </a:rPr>
              <a:t>(1)</a:t>
            </a:r>
            <a:endParaRPr b="1" lang="en-US" sz="1200" spc="-1" strike="noStrike">
              <a:solidFill>
                <a:srgbClr val="000000"/>
              </a:solidFill>
              <a:latin typeface="Arial"/>
            </a:endParaRPr>
          </a:p>
          <a:p>
            <a:pPr marL="163080" indent="-1630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n-GB" sz="1600" spc="-1" strike="noStrike">
                <a:solidFill>
                  <a:srgbClr val="000000"/>
                </a:solidFill>
                <a:latin typeface="Arial"/>
              </a:rPr>
              <a:t> </a:t>
            </a:r>
            <a:r>
              <a:rPr b="0" lang="en-GB" sz="1600" spc="-1" strike="noStrike">
                <a:solidFill>
                  <a:srgbClr val="000000"/>
                </a:solidFill>
                <a:latin typeface="Arial"/>
              </a:rPr>
              <a:t>Valve Types: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Ball </a:t>
            </a:r>
            <a:r>
              <a:rPr b="0" lang="en-GB" sz="1200" spc="-1" strike="noStrike">
                <a:solidFill>
                  <a:srgbClr val="000000"/>
                </a:solidFill>
                <a:latin typeface="Arial"/>
              </a:rPr>
              <a:t>(2)</a:t>
            </a:r>
            <a:r>
              <a:rPr b="0" lang="en-GB" sz="1600" spc="-1" strike="noStrike">
                <a:solidFill>
                  <a:srgbClr val="000000"/>
                </a:solidFill>
                <a:latin typeface="Arial"/>
              </a:rPr>
              <a:t> and plug valves </a:t>
            </a:r>
            <a:r>
              <a:rPr b="0" lang="en-GB" sz="1200" spc="-1" strike="noStrike">
                <a:solidFill>
                  <a:srgbClr val="000000"/>
                </a:solidFill>
                <a:latin typeface="Arial"/>
              </a:rPr>
              <a:t>(3)</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Butterfly valves </a:t>
            </a:r>
            <a:r>
              <a:rPr b="0" lang="en-GB" sz="1200" spc="-1" strike="noStrike">
                <a:solidFill>
                  <a:srgbClr val="000000"/>
                </a:solidFill>
                <a:latin typeface="Arial"/>
              </a:rPr>
              <a:t>(4)</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Gate valves </a:t>
            </a:r>
            <a:r>
              <a:rPr b="0" lang="en-GB" sz="1200" spc="-1" strike="noStrike">
                <a:solidFill>
                  <a:srgbClr val="000000"/>
                </a:solidFill>
                <a:latin typeface="Arial"/>
              </a:rPr>
              <a:t>(5)</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Globe valves </a:t>
            </a:r>
            <a:r>
              <a:rPr b="0" lang="en-GB" sz="1200" spc="-1" strike="noStrike">
                <a:solidFill>
                  <a:srgbClr val="000000"/>
                </a:solidFill>
                <a:latin typeface="Arial"/>
              </a:rPr>
              <a:t>(6)</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Pressure relief valves </a:t>
            </a:r>
            <a:r>
              <a:rPr b="0" lang="en-GB" sz="1200" spc="-1" strike="noStrike">
                <a:solidFill>
                  <a:srgbClr val="000000"/>
                </a:solidFill>
                <a:latin typeface="Arial"/>
              </a:rPr>
              <a:t>(7)</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Check valves (non-return valves).</a:t>
            </a:r>
            <a:endParaRPr b="1" lang="en-US" sz="1600" spc="-1" strike="noStrike">
              <a:solidFill>
                <a:srgbClr val="000000"/>
              </a:solidFill>
              <a:latin typeface="Arial"/>
            </a:endParaRPr>
          </a:p>
        </p:txBody>
      </p:sp>
      <p:pic>
        <p:nvPicPr>
          <p:cNvPr id="183" name="9 Imagen" descr="Watts%20174A%20Valve.jpg"/>
          <p:cNvPicPr/>
          <p:nvPr/>
        </p:nvPicPr>
        <p:blipFill>
          <a:blip r:embed="rId2"/>
          <a:stretch/>
        </p:blipFill>
        <p:spPr>
          <a:xfrm>
            <a:off x="8381880" y="3643200"/>
            <a:ext cx="1381320" cy="1943280"/>
          </a:xfrm>
          <a:prstGeom prst="rect">
            <a:avLst/>
          </a:prstGeom>
          <a:ln w="0">
            <a:noFill/>
          </a:ln>
        </p:spPr>
      </p:pic>
      <p:pic>
        <p:nvPicPr>
          <p:cNvPr id="184" name="8 Imagen" descr="Plug_Valve.jpg"/>
          <p:cNvPicPr/>
          <p:nvPr/>
        </p:nvPicPr>
        <p:blipFill>
          <a:blip r:embed="rId3"/>
          <a:stretch/>
        </p:blipFill>
        <p:spPr>
          <a:xfrm>
            <a:off x="7977240" y="500040"/>
            <a:ext cx="1928880" cy="1928880"/>
          </a:xfrm>
          <a:prstGeom prst="rect">
            <a:avLst/>
          </a:prstGeom>
          <a:ln w="0">
            <a:noFill/>
          </a:ln>
        </p:spPr>
      </p:pic>
      <p:pic>
        <p:nvPicPr>
          <p:cNvPr id="185" name="3 Imagen" descr="BallValves1900.gif"/>
          <p:cNvPicPr/>
          <p:nvPr/>
        </p:nvPicPr>
        <p:blipFill>
          <a:blip r:embed="rId4"/>
          <a:stretch/>
        </p:blipFill>
        <p:spPr>
          <a:xfrm>
            <a:off x="6024600" y="2071800"/>
            <a:ext cx="1571760" cy="1828800"/>
          </a:xfrm>
          <a:prstGeom prst="rect">
            <a:avLst/>
          </a:prstGeom>
          <a:ln w="0">
            <a:noFill/>
          </a:ln>
        </p:spPr>
      </p:pic>
      <p:pic>
        <p:nvPicPr>
          <p:cNvPr id="186" name="4 Imagen" descr="ButtValve1Ver2.jpg"/>
          <p:cNvPicPr/>
          <p:nvPr/>
        </p:nvPicPr>
        <p:blipFill>
          <a:blip r:embed="rId5"/>
          <a:stretch/>
        </p:blipFill>
        <p:spPr>
          <a:xfrm>
            <a:off x="4873680" y="4286160"/>
            <a:ext cx="936720" cy="1285920"/>
          </a:xfrm>
          <a:prstGeom prst="rect">
            <a:avLst/>
          </a:prstGeom>
          <a:ln w="0">
            <a:noFill/>
          </a:ln>
        </p:spPr>
      </p:pic>
      <p:pic>
        <p:nvPicPr>
          <p:cNvPr id="187" name="5 Imagen" descr="check-valve-3116.gif"/>
          <p:cNvPicPr/>
          <p:nvPr/>
        </p:nvPicPr>
        <p:blipFill>
          <a:blip r:embed="rId6"/>
          <a:stretch/>
        </p:blipFill>
        <p:spPr>
          <a:xfrm>
            <a:off x="7238880" y="2214720"/>
            <a:ext cx="1862280" cy="1738080"/>
          </a:xfrm>
          <a:prstGeom prst="rect">
            <a:avLst/>
          </a:prstGeom>
          <a:ln w="0">
            <a:noFill/>
          </a:ln>
        </p:spPr>
      </p:pic>
      <p:pic>
        <p:nvPicPr>
          <p:cNvPr id="188" name="7 Imagen" descr="globe-valve.jpg"/>
          <p:cNvPicPr/>
          <p:nvPr/>
        </p:nvPicPr>
        <p:blipFill>
          <a:blip r:embed="rId7"/>
          <a:stretch/>
        </p:blipFill>
        <p:spPr>
          <a:xfrm>
            <a:off x="6953400" y="4214880"/>
            <a:ext cx="1581120" cy="2100240"/>
          </a:xfrm>
          <a:prstGeom prst="rect">
            <a:avLst/>
          </a:prstGeom>
          <a:ln w="0">
            <a:noFill/>
          </a:ln>
        </p:spPr>
      </p:pic>
      <p:sp>
        <p:nvSpPr>
          <p:cNvPr id="189"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s-ES" sz="2600" spc="-1" strike="noStrike">
                <a:solidFill>
                  <a:srgbClr val="ba1e31"/>
                </a:solidFill>
                <a:latin typeface="SwitzerlandCondBlack"/>
              </a:rPr>
              <a:t>4. VALVES</a:t>
            </a:r>
            <a:endParaRPr b="1" lang="en-US" sz="2600" spc="-1" strike="noStrike">
              <a:solidFill>
                <a:srgbClr val="ba1e31"/>
              </a:solidFill>
              <a:latin typeface="SwitzerlandCondBlack"/>
            </a:endParaRPr>
          </a:p>
        </p:txBody>
      </p:sp>
      <p:sp>
        <p:nvSpPr>
          <p:cNvPr id="19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91" name="11 CuadroTexto"/>
          <p:cNvSpPr/>
          <p:nvPr/>
        </p:nvSpPr>
        <p:spPr>
          <a:xfrm>
            <a:off x="723888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endParaRPr b="1" lang="en-US" sz="1200" spc="-1" strike="noStrike">
              <a:solidFill>
                <a:srgbClr val="000000"/>
              </a:solidFill>
              <a:latin typeface="Colonna MT"/>
            </a:endParaRPr>
          </a:p>
        </p:txBody>
      </p:sp>
      <p:sp>
        <p:nvSpPr>
          <p:cNvPr id="192" name="12 CuadroTexto"/>
          <p:cNvSpPr/>
          <p:nvPr/>
        </p:nvSpPr>
        <p:spPr>
          <a:xfrm>
            <a:off x="5238720" y="4143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193" name="13 CuadroTexto"/>
          <p:cNvSpPr/>
          <p:nvPr/>
        </p:nvSpPr>
        <p:spPr>
          <a:xfrm>
            <a:off x="8167680" y="3643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194" name="15 CuadroTexto"/>
          <p:cNvSpPr/>
          <p:nvPr/>
        </p:nvSpPr>
        <p:spPr>
          <a:xfrm>
            <a:off x="6238800" y="5929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195" name="16 CuadroTexto"/>
          <p:cNvSpPr/>
          <p:nvPr/>
        </p:nvSpPr>
        <p:spPr>
          <a:xfrm>
            <a:off x="9239400" y="20718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196" name="17 CuadroTexto"/>
          <p:cNvSpPr/>
          <p:nvPr/>
        </p:nvSpPr>
        <p:spPr>
          <a:xfrm>
            <a:off x="6453360" y="3786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197" name="18 CuadroTexto"/>
          <p:cNvSpPr/>
          <p:nvPr/>
        </p:nvSpPr>
        <p:spPr>
          <a:xfrm>
            <a:off x="9096480" y="55720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66800" y="142920"/>
            <a:ext cx="62150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GB" sz="2600" spc="-1" strike="noStrike">
                <a:solidFill>
                  <a:srgbClr val="ba1e31"/>
                </a:solidFill>
                <a:latin typeface="SwitzerlandCondBlack"/>
              </a:rPr>
              <a:t>5. HYDROGEN SENSORS</a:t>
            </a:r>
            <a:endParaRPr b="1" lang="en-US" sz="2600" spc="-1" strike="noStrike">
              <a:solidFill>
                <a:srgbClr val="ba1e31"/>
              </a:solidFill>
              <a:latin typeface="SwitzerlandCondBlack"/>
            </a:endParaRPr>
          </a:p>
        </p:txBody>
      </p:sp>
      <p:sp>
        <p:nvSpPr>
          <p:cNvPr id="199" name="7 CuadroTexto"/>
          <p:cNvSpPr/>
          <p:nvPr/>
        </p:nvSpPr>
        <p:spPr>
          <a:xfrm>
            <a:off x="1809720" y="1071720"/>
            <a:ext cx="73580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choose the best sensor:</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 </a:t>
            </a:r>
            <a:r>
              <a:rPr b="0" lang="en-GB" sz="1600" spc="-1" strike="noStrike">
                <a:solidFill>
                  <a:srgbClr val="000000"/>
                </a:solidFill>
                <a:latin typeface="Arial"/>
              </a:rPr>
              <a:t>Gas and concentration rang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Fixed or portable, point or open path.</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Environment.</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Power consumption, response time, maintenance interval.</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What to ask?</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hree S of gas detectio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Sensitivit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Selectivit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Stability.</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Simple System integratio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w Energy consumption (10 mW).</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w noise.</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ng lifetime and calibration interval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w cross sensitivit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Fast response/recover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Inherent safet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w cost.</a:t>
            </a:r>
            <a:endParaRPr b="1" lang="en-US" sz="1600" spc="-1" strike="noStrike">
              <a:solidFill>
                <a:srgbClr val="000000"/>
              </a:solidFill>
              <a:latin typeface="Colonna MT"/>
            </a:endParaRPr>
          </a:p>
        </p:txBody>
      </p:sp>
      <p:pic>
        <p:nvPicPr>
          <p:cNvPr id="200" name="9 Imagen" descr="147438.jpg"/>
          <p:cNvPicPr/>
          <p:nvPr/>
        </p:nvPicPr>
        <p:blipFill>
          <a:blip r:embed="rId1"/>
          <a:stretch/>
        </p:blipFill>
        <p:spPr>
          <a:xfrm>
            <a:off x="5738760" y="4572000"/>
            <a:ext cx="1819440" cy="1928880"/>
          </a:xfrm>
          <a:prstGeom prst="rect">
            <a:avLst/>
          </a:prstGeom>
          <a:ln w="0">
            <a:noFill/>
          </a:ln>
        </p:spPr>
      </p:pic>
      <p:pic>
        <p:nvPicPr>
          <p:cNvPr id="201" name="Picture 3" descr=""/>
          <p:cNvPicPr/>
          <p:nvPr/>
        </p:nvPicPr>
        <p:blipFill>
          <a:blip r:embed="rId2"/>
          <a:stretch/>
        </p:blipFill>
        <p:spPr>
          <a:xfrm>
            <a:off x="7095960" y="2500200"/>
            <a:ext cx="2173320" cy="2143080"/>
          </a:xfrm>
          <a:prstGeom prst="rect">
            <a:avLst/>
          </a:prstGeom>
          <a:ln w="0">
            <a:noFill/>
          </a:ln>
        </p:spPr>
      </p:pic>
      <p:sp>
        <p:nvSpPr>
          <p:cNvPr id="20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1" lang="en-US" sz="4000" spc="-1" strike="noStrike">
              <a:solidFill>
                <a:srgbClr val="000000"/>
              </a:solidFill>
              <a:latin typeface="Colonna MT"/>
            </a:endParaRPr>
          </a:p>
        </p:txBody>
      </p:sp>
      <p:sp>
        <p:nvSpPr>
          <p:cNvPr id="203" name="6 CuadroTexto"/>
          <p:cNvSpPr/>
          <p:nvPr/>
        </p:nvSpPr>
        <p:spPr>
          <a:xfrm>
            <a:off x="7453440" y="471492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sensors</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66440" y="142920"/>
            <a:ext cx="69296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GB" sz="2600" spc="-1" strike="noStrike">
                <a:solidFill>
                  <a:srgbClr val="ba1e31"/>
                </a:solidFill>
                <a:latin typeface="SwitzerlandCondBlack"/>
              </a:rPr>
              <a:t>6. GAS PRESSURE REGULATORS</a:t>
            </a:r>
            <a:endParaRPr b="1" lang="en-US" sz="2600" spc="-1" strike="noStrike">
              <a:solidFill>
                <a:srgbClr val="ba1e31"/>
              </a:solidFill>
              <a:latin typeface="SwitzerlandCondBlack"/>
            </a:endParaRPr>
          </a:p>
        </p:txBody>
      </p:sp>
      <p:grpSp>
        <p:nvGrpSpPr>
          <p:cNvPr id="205" name="9 Grupo"/>
          <p:cNvGrpSpPr/>
          <p:nvPr/>
        </p:nvGrpSpPr>
        <p:grpSpPr>
          <a:xfrm>
            <a:off x="5310360" y="928800"/>
            <a:ext cx="4238280" cy="5619600"/>
            <a:chOff x="5310360" y="928800"/>
            <a:chExt cx="4238280" cy="5619600"/>
          </a:xfrm>
        </p:grpSpPr>
        <p:pic>
          <p:nvPicPr>
            <p:cNvPr id="206" name="6 Imagen" descr="high_purity.jpg"/>
            <p:cNvPicPr/>
            <p:nvPr/>
          </p:nvPicPr>
          <p:blipFill>
            <a:blip r:embed="rId1"/>
            <a:stretch/>
          </p:blipFill>
          <p:spPr>
            <a:xfrm>
              <a:off x="7167600" y="2928960"/>
              <a:ext cx="2381040" cy="2276280"/>
            </a:xfrm>
            <a:prstGeom prst="rect">
              <a:avLst/>
            </a:prstGeom>
            <a:ln w="0">
              <a:noFill/>
            </a:ln>
          </p:spPr>
        </p:pic>
        <p:pic>
          <p:nvPicPr>
            <p:cNvPr id="207" name="5 Imagen" descr="general_purpose.gif"/>
            <p:cNvPicPr/>
            <p:nvPr/>
          </p:nvPicPr>
          <p:blipFill>
            <a:blip r:embed="rId2"/>
            <a:stretch/>
          </p:blipFill>
          <p:spPr>
            <a:xfrm>
              <a:off x="7953480" y="928800"/>
              <a:ext cx="1532520" cy="2176200"/>
            </a:xfrm>
            <a:prstGeom prst="rect">
              <a:avLst/>
            </a:prstGeom>
            <a:ln w="0">
              <a:noFill/>
            </a:ln>
          </p:spPr>
        </p:pic>
        <p:pic>
          <p:nvPicPr>
            <p:cNvPr id="208" name="8 Imagen" descr="special_service.jpg"/>
            <p:cNvPicPr/>
            <p:nvPr/>
          </p:nvPicPr>
          <p:blipFill>
            <a:blip r:embed="rId3"/>
            <a:stretch/>
          </p:blipFill>
          <p:spPr>
            <a:xfrm>
              <a:off x="6095880" y="1000080"/>
              <a:ext cx="1838160" cy="1990440"/>
            </a:xfrm>
            <a:prstGeom prst="rect">
              <a:avLst/>
            </a:prstGeom>
            <a:ln w="0">
              <a:noFill/>
            </a:ln>
          </p:spPr>
        </p:pic>
        <p:pic>
          <p:nvPicPr>
            <p:cNvPr id="209" name="7 Imagen" descr="line_regulator.jpg"/>
            <p:cNvPicPr/>
            <p:nvPr/>
          </p:nvPicPr>
          <p:blipFill>
            <a:blip r:embed="rId4"/>
            <a:stretch/>
          </p:blipFill>
          <p:spPr>
            <a:xfrm>
              <a:off x="5310360" y="4357800"/>
              <a:ext cx="2190600" cy="2190600"/>
            </a:xfrm>
            <a:prstGeom prst="rect">
              <a:avLst/>
            </a:prstGeom>
            <a:ln w="0">
              <a:noFill/>
            </a:ln>
          </p:spPr>
        </p:pic>
      </p:grpSp>
      <p:sp>
        <p:nvSpPr>
          <p:cNvPr id="210" name="10 CuadroTexto"/>
          <p:cNvSpPr/>
          <p:nvPr/>
        </p:nvSpPr>
        <p:spPr>
          <a:xfrm>
            <a:off x="1809720" y="3286080"/>
            <a:ext cx="4286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91b2c"/>
                </a:solidFill>
                <a:latin typeface="Arial"/>
              </a:rPr>
              <a:t> </a:t>
            </a:r>
            <a:r>
              <a:rPr b="0" lang="en-GB" sz="1600" spc="-1" strike="noStrike">
                <a:solidFill>
                  <a:srgbClr val="000000"/>
                </a:solidFill>
                <a:latin typeface="Arial"/>
              </a:rPr>
              <a:t>Type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ine regulators </a:t>
            </a:r>
            <a:r>
              <a:rPr b="0" lang="en-GB" sz="1200" spc="-1" strike="noStrike">
                <a:solidFill>
                  <a:srgbClr val="000000"/>
                </a:solidFill>
                <a:latin typeface="Arial"/>
              </a:rPr>
              <a:t>(1).</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General-purpose regulators </a:t>
            </a:r>
            <a:r>
              <a:rPr b="0" lang="en-GB" sz="1200" spc="-1" strike="noStrike">
                <a:solidFill>
                  <a:srgbClr val="000000"/>
                </a:solidFill>
                <a:latin typeface="Arial"/>
              </a:rPr>
              <a:t>(2).</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High purity regulators </a:t>
            </a:r>
            <a:r>
              <a:rPr b="0" lang="en-GB" sz="1200" spc="-1" strike="noStrike">
                <a:solidFill>
                  <a:srgbClr val="000000"/>
                </a:solidFill>
                <a:latin typeface="Arial"/>
              </a:rPr>
              <a:t>(3).</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Special service regulators </a:t>
            </a:r>
            <a:r>
              <a:rPr b="0" lang="en-GB" sz="1200" spc="-1" strike="noStrike">
                <a:solidFill>
                  <a:srgbClr val="000000"/>
                </a:solidFill>
                <a:latin typeface="Arial"/>
              </a:rPr>
              <a:t>(4).</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11" name="11 CuadroTexto"/>
          <p:cNvSpPr/>
          <p:nvPr/>
        </p:nvSpPr>
        <p:spPr>
          <a:xfrm>
            <a:off x="1881360" y="1357200"/>
            <a:ext cx="4073400" cy="1554120"/>
          </a:xfrm>
          <a:prstGeom prst="rect">
            <a:avLst/>
          </a:prstGeom>
          <a:noFill/>
          <a:ln w="0">
            <a:noFill/>
          </a:ln>
        </p:spPr>
        <p:style>
          <a:lnRef idx="0"/>
          <a:fillRef idx="0"/>
          <a:effectRef idx="0"/>
          <a:fontRef idx="minor"/>
        </p:style>
        <p:txBody>
          <a:bodyPr lIns="90000" rIns="90000" tIns="46800" bIns="46800" anchor="t">
            <a:spAutoFit/>
          </a:bodyPr>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To reduce high-pressure gas in a             cylinder or process line to a lower, usable level as it passes to another piece of equipment.</a:t>
            </a:r>
            <a:endParaRPr b="1" lang="en-US" sz="1600" spc="-1" strike="noStrike">
              <a:solidFill>
                <a:srgbClr val="000000"/>
              </a:solidFill>
              <a:latin typeface="Colonna MT"/>
            </a:endParaRPr>
          </a:p>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y can also serve to maintain pressure within a system. </a:t>
            </a:r>
            <a:endParaRPr b="1" lang="en-US" sz="1600" spc="-1" strike="noStrike">
              <a:solidFill>
                <a:srgbClr val="000000"/>
              </a:solidFill>
              <a:latin typeface="Colonna MT"/>
            </a:endParaRPr>
          </a:p>
        </p:txBody>
      </p:sp>
      <p:sp>
        <p:nvSpPr>
          <p:cNvPr id="21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1" lang="en-US" sz="4000" spc="-1" strike="noStrike">
              <a:solidFill>
                <a:srgbClr val="000000"/>
              </a:solidFill>
              <a:latin typeface="Colonna MT"/>
            </a:endParaRPr>
          </a:p>
        </p:txBody>
      </p:sp>
      <p:sp>
        <p:nvSpPr>
          <p:cNvPr id="213" name="12 CuadroTexto"/>
          <p:cNvSpPr/>
          <p:nvPr/>
        </p:nvSpPr>
        <p:spPr>
          <a:xfrm>
            <a:off x="666756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1" lang="en-US" sz="1200" spc="-1" strike="noStrike">
              <a:solidFill>
                <a:srgbClr val="000000"/>
              </a:solidFill>
              <a:latin typeface="Colonna MT"/>
            </a:endParaRPr>
          </a:p>
        </p:txBody>
      </p:sp>
      <p:sp>
        <p:nvSpPr>
          <p:cNvPr id="214" name="13 CuadroTexto"/>
          <p:cNvSpPr/>
          <p:nvPr/>
        </p:nvSpPr>
        <p:spPr>
          <a:xfrm>
            <a:off x="8381880" y="5072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1" lang="en-US" sz="1200" spc="-1" strike="noStrike">
              <a:solidFill>
                <a:srgbClr val="000000"/>
              </a:solidFill>
              <a:latin typeface="Colonna MT"/>
            </a:endParaRPr>
          </a:p>
        </p:txBody>
      </p:sp>
      <p:sp>
        <p:nvSpPr>
          <p:cNvPr id="215" name="14 CuadroTexto"/>
          <p:cNvSpPr/>
          <p:nvPr/>
        </p:nvSpPr>
        <p:spPr>
          <a:xfrm>
            <a:off x="9167760" y="3000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1" lang="en-US" sz="1200" spc="-1" strike="noStrike">
              <a:solidFill>
                <a:srgbClr val="000000"/>
              </a:solidFill>
              <a:latin typeface="Colonna MT"/>
            </a:endParaRPr>
          </a:p>
        </p:txBody>
      </p:sp>
      <p:sp>
        <p:nvSpPr>
          <p:cNvPr id="216" name="15 CuadroTexto"/>
          <p:cNvSpPr/>
          <p:nvPr/>
        </p:nvSpPr>
        <p:spPr>
          <a:xfrm>
            <a:off x="6667560" y="28576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s-ES" sz="2600" spc="-1" strike="noStrike">
                <a:solidFill>
                  <a:srgbClr val="ba1e31"/>
                </a:solidFill>
                <a:latin typeface="SwitzerlandCondBlack"/>
              </a:rPr>
              <a:t>7. OTHER EQUIPMENT</a:t>
            </a:r>
            <a:endParaRPr b="1" lang="en-US" sz="2600" spc="-1" strike="noStrike">
              <a:solidFill>
                <a:srgbClr val="ba1e31"/>
              </a:solidFill>
              <a:latin typeface="SwitzerlandCondBlack"/>
            </a:endParaRPr>
          </a:p>
        </p:txBody>
      </p:sp>
      <p:sp>
        <p:nvSpPr>
          <p:cNvPr id="218" name=""/>
          <p:cNvSpPr txBox="1"/>
          <p:nvPr/>
        </p:nvSpPr>
        <p:spPr>
          <a:xfrm>
            <a:off x="1712520" y="714240"/>
            <a:ext cx="8193240" cy="54295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Strainers and filters </a:t>
            </a:r>
            <a:r>
              <a:rPr b="0" lang="en-GB"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Flow measuring devices </a:t>
            </a:r>
            <a:r>
              <a:rPr b="0" lang="en-GB" sz="1200" spc="-1" strike="noStrike">
                <a:solidFill>
                  <a:srgbClr val="000000"/>
                </a:solidFill>
                <a:latin typeface="Arial"/>
              </a:rPr>
              <a:t>(2).</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Rupture discs </a:t>
            </a:r>
            <a:r>
              <a:rPr b="0" lang="en-GB" sz="1200" spc="-1" strike="noStrike">
                <a:solidFill>
                  <a:srgbClr val="000000"/>
                </a:solidFill>
                <a:latin typeface="Arial"/>
              </a:rPr>
              <a:t>(3).</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Insulating joints </a:t>
            </a:r>
            <a:r>
              <a:rPr b="0" lang="en-GB" sz="1200" spc="-1" strike="noStrike">
                <a:solidFill>
                  <a:srgbClr val="000000"/>
                </a:solidFill>
                <a:latin typeface="Arial"/>
              </a:rPr>
              <a:t>(4).</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Flexible connections </a:t>
            </a:r>
            <a:r>
              <a:rPr b="0" lang="en-GB" sz="1200" spc="-1" strike="noStrike">
                <a:solidFill>
                  <a:srgbClr val="000000"/>
                </a:solidFill>
                <a:latin typeface="Arial"/>
              </a:rPr>
              <a:t>(5).</a:t>
            </a:r>
            <a:endParaRPr b="1" lang="en-US" sz="1200" spc="-1" strike="noStrike">
              <a:solidFill>
                <a:srgbClr val="000000"/>
              </a:solidFill>
              <a:latin typeface="Arial"/>
            </a:endParaRPr>
          </a:p>
        </p:txBody>
      </p:sp>
      <p:grpSp>
        <p:nvGrpSpPr>
          <p:cNvPr id="219" name="9 Grupo"/>
          <p:cNvGrpSpPr/>
          <p:nvPr/>
        </p:nvGrpSpPr>
        <p:grpSpPr>
          <a:xfrm>
            <a:off x="2309760" y="857160"/>
            <a:ext cx="6929640" cy="5634000"/>
            <a:chOff x="2309760" y="857160"/>
            <a:chExt cx="6929640" cy="5634000"/>
          </a:xfrm>
        </p:grpSpPr>
        <p:pic>
          <p:nvPicPr>
            <p:cNvPr id="220" name="4 Imagen" descr="03-b.jpg"/>
            <p:cNvPicPr/>
            <p:nvPr/>
          </p:nvPicPr>
          <p:blipFill>
            <a:blip r:embed="rId1"/>
            <a:stretch/>
          </p:blipFill>
          <p:spPr>
            <a:xfrm>
              <a:off x="6881760" y="857160"/>
              <a:ext cx="2143080" cy="2143080"/>
            </a:xfrm>
            <a:prstGeom prst="rect">
              <a:avLst/>
            </a:prstGeom>
            <a:ln w="0">
              <a:noFill/>
            </a:ln>
          </p:spPr>
        </p:pic>
        <p:pic>
          <p:nvPicPr>
            <p:cNvPr id="221" name="5 Imagen" descr="hayward1.jpg"/>
            <p:cNvPicPr/>
            <p:nvPr/>
          </p:nvPicPr>
          <p:blipFill>
            <a:blip r:embed="rId2"/>
            <a:stretch/>
          </p:blipFill>
          <p:spPr>
            <a:xfrm>
              <a:off x="4738680" y="857160"/>
              <a:ext cx="2143080" cy="3546360"/>
            </a:xfrm>
            <a:prstGeom prst="rect">
              <a:avLst/>
            </a:prstGeom>
            <a:ln w="0">
              <a:noFill/>
            </a:ln>
          </p:spPr>
        </p:pic>
        <p:pic>
          <p:nvPicPr>
            <p:cNvPr id="222" name="6 Imagen" descr="icd.jpg"/>
            <p:cNvPicPr/>
            <p:nvPr/>
          </p:nvPicPr>
          <p:blipFill>
            <a:blip r:embed="rId3"/>
            <a:stretch/>
          </p:blipFill>
          <p:spPr>
            <a:xfrm>
              <a:off x="2309760" y="3286080"/>
              <a:ext cx="2286000" cy="1698480"/>
            </a:xfrm>
            <a:prstGeom prst="rect">
              <a:avLst/>
            </a:prstGeom>
            <a:ln w="0">
              <a:noFill/>
            </a:ln>
          </p:spPr>
        </p:pic>
        <p:pic>
          <p:nvPicPr>
            <p:cNvPr id="223" name="7 Imagen" descr="magflux_A.jpg"/>
            <p:cNvPicPr/>
            <p:nvPr/>
          </p:nvPicPr>
          <p:blipFill>
            <a:blip r:embed="rId4"/>
            <a:stretch/>
          </p:blipFill>
          <p:spPr>
            <a:xfrm>
              <a:off x="7151760" y="2571480"/>
              <a:ext cx="2087640" cy="2722320"/>
            </a:xfrm>
            <a:prstGeom prst="rect">
              <a:avLst/>
            </a:prstGeom>
            <a:ln w="0">
              <a:noFill/>
            </a:ln>
          </p:spPr>
        </p:pic>
        <p:pic>
          <p:nvPicPr>
            <p:cNvPr id="224" name="8 Imagen" descr="pic6_large.jpg"/>
            <p:cNvPicPr/>
            <p:nvPr/>
          </p:nvPicPr>
          <p:blipFill>
            <a:blip r:embed="rId5"/>
            <a:stretch/>
          </p:blipFill>
          <p:spPr>
            <a:xfrm>
              <a:off x="4095720" y="4357800"/>
              <a:ext cx="2443680" cy="2133360"/>
            </a:xfrm>
            <a:prstGeom prst="rect">
              <a:avLst/>
            </a:prstGeom>
            <a:ln w="0">
              <a:noFill/>
            </a:ln>
          </p:spPr>
        </p:pic>
      </p:grpSp>
      <p:sp>
        <p:nvSpPr>
          <p:cNvPr id="22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26" name="10 CuadroTexto"/>
          <p:cNvSpPr/>
          <p:nvPr/>
        </p:nvSpPr>
        <p:spPr>
          <a:xfrm>
            <a:off x="2666880" y="4929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27" name="11 CuadroTexto"/>
          <p:cNvSpPr/>
          <p:nvPr/>
        </p:nvSpPr>
        <p:spPr>
          <a:xfrm>
            <a:off x="8953560" y="12142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28" name="12 CuadroTexto"/>
          <p:cNvSpPr/>
          <p:nvPr/>
        </p:nvSpPr>
        <p:spPr>
          <a:xfrm>
            <a:off x="659592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29" name="13 CuadroTexto"/>
          <p:cNvSpPr/>
          <p:nvPr/>
        </p:nvSpPr>
        <p:spPr>
          <a:xfrm>
            <a:off x="8096400" y="53578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30" name="14 CuadroTexto"/>
          <p:cNvSpPr/>
          <p:nvPr/>
        </p:nvSpPr>
        <p:spPr>
          <a:xfrm>
            <a:off x="6167520" y="581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841040" y="142920"/>
            <a:ext cx="23972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8. LEAKS</a:t>
            </a:r>
            <a:endParaRPr b="1" lang="en-US" sz="3200" spc="-1" strike="noStrike">
              <a:solidFill>
                <a:srgbClr val="ba1e31"/>
              </a:solidFill>
              <a:latin typeface="SwitzerlandCondBlack"/>
            </a:endParaRPr>
          </a:p>
        </p:txBody>
      </p:sp>
      <p:sp>
        <p:nvSpPr>
          <p:cNvPr id="232" name=""/>
          <p:cNvSpPr txBox="1"/>
          <p:nvPr/>
        </p:nvSpPr>
        <p:spPr>
          <a:xfrm>
            <a:off x="1712520" y="785880"/>
            <a:ext cx="8064360" cy="392904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1. Minor leaks</a:t>
            </a:r>
            <a:endParaRPr b="1" lang="en-US" sz="24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rify suspected leaks using a flammable gas detector or soapy water solution. If the leak cannot be stopped by tightening a valve gland or packing nut, emergency action procedures should be initiat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flammable, inert or oxidizing gases, move the cylinder to an isolated, well-ventilated area  away from combustible materials. </a:t>
            </a:r>
            <a:r>
              <a:rPr b="0" lang="es-ES_tradnl" sz="1600" spc="-1" strike="noStrike">
                <a:solidFill>
                  <a:srgbClr val="000000"/>
                </a:solidFill>
                <a:latin typeface="Arial"/>
              </a:rPr>
              <a:t>Post signs that describe the hazar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corrosive and toxic gases, move the cylinder to an isolated, well-ventilated area and use suitable means to direct the gas into an appropriate chemical neutralizer. </a:t>
            </a:r>
            <a:r>
              <a:rPr b="0" lang="es-ES_tradnl" sz="1600" spc="-1" strike="noStrike">
                <a:solidFill>
                  <a:srgbClr val="000000"/>
                </a:solidFill>
                <a:latin typeface="Arial"/>
              </a:rPr>
              <a:t>Post signs that describe the hazard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it is necessary to move a leaking cylinder through populated portions of the building, place a plastic bag, rubber shroud or similar device over the top and tape it (duct tape preferred) to the cylinder to confine the leaking ga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33" name="4 Imagen" descr="Leaks.jpg"/>
          <p:cNvPicPr/>
          <p:nvPr/>
        </p:nvPicPr>
        <p:blipFill>
          <a:blip r:embed="rId1"/>
          <a:stretch/>
        </p:blipFill>
        <p:spPr>
          <a:xfrm>
            <a:off x="4376880" y="4941720"/>
            <a:ext cx="1866600" cy="1400400"/>
          </a:xfrm>
          <a:prstGeom prst="rect">
            <a:avLst/>
          </a:prstGeom>
          <a:ln w="0">
            <a:noFill/>
          </a:ln>
        </p:spPr>
      </p:pic>
      <p:sp>
        <p:nvSpPr>
          <p:cNvPr id="23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1738080" y="356760"/>
            <a:ext cx="5097240" cy="24289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2. Major leak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hone emergency number.</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tivate building and area fire alarm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acuate the are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emergency response officials with details of the problem upon their arrival.</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 name="2 Marcador de contenido"/>
          <p:cNvSpPr/>
          <p:nvPr/>
        </p:nvSpPr>
        <p:spPr>
          <a:xfrm>
            <a:off x="1809720" y="3143160"/>
            <a:ext cx="7715160" cy="32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 minimize the potential for leaks</a:t>
            </a:r>
            <a:endParaRPr b="1" lang="en-US" sz="18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uble seals or packing.</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casting to be hydraulically leak tested.</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ft seat in a metal retainer for in-line automatic valves and automatic vents.</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l to metal seat or soft seat in a retainer for in-line manual valves.</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llic seat with valve outlet blocked.</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ferably no though bolting, body flanges or threaded connections.</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inline isolation valves should be full port design.</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237" name="6 Imagen" descr="HAZMAT_05.jpg"/>
          <p:cNvPicPr/>
          <p:nvPr/>
        </p:nvPicPr>
        <p:blipFill>
          <a:blip r:embed="rId1"/>
          <a:stretch/>
        </p:blipFill>
        <p:spPr>
          <a:xfrm>
            <a:off x="6667560" y="857160"/>
            <a:ext cx="3095640" cy="2286000"/>
          </a:xfrm>
          <a:prstGeom prst="rect">
            <a:avLst/>
          </a:prstGeom>
          <a:ln w="0">
            <a:noFill/>
          </a:ln>
        </p:spPr>
      </p:pic>
      <p:sp>
        <p:nvSpPr>
          <p:cNvPr id="23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5 Imagen" descr="a_pig_front_1.jpg"/>
          <p:cNvPicPr/>
          <p:nvPr/>
        </p:nvPicPr>
        <p:blipFill>
          <a:blip r:embed="rId1"/>
          <a:stretch/>
        </p:blipFill>
        <p:spPr>
          <a:xfrm>
            <a:off x="4881600" y="4714920"/>
            <a:ext cx="1828800" cy="1828800"/>
          </a:xfrm>
          <a:prstGeom prst="rect">
            <a:avLst/>
          </a:prstGeom>
          <a:ln w="0">
            <a:noFill/>
          </a:ln>
        </p:spPr>
      </p:pic>
      <p:sp>
        <p:nvSpPr>
          <p:cNvPr id="240" name="PlaceHolder 1"/>
          <p:cNvSpPr>
            <a:spLocks noGrp="1"/>
          </p:cNvSpPr>
          <p:nvPr>
            <p:ph type="title"/>
          </p:nvPr>
        </p:nvSpPr>
        <p:spPr>
          <a:xfrm>
            <a:off x="1738080" y="0"/>
            <a:ext cx="350028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9. CLEANING</a:t>
            </a:r>
            <a:endParaRPr b="1" lang="en-US" sz="3200" spc="-1" strike="noStrike">
              <a:solidFill>
                <a:srgbClr val="ba1e31"/>
              </a:solidFill>
              <a:latin typeface="SwitzerlandCondBlack"/>
            </a:endParaRPr>
          </a:p>
        </p:txBody>
      </p:sp>
      <p:sp>
        <p:nvSpPr>
          <p:cNvPr id="241" name=""/>
          <p:cNvSpPr txBox="1"/>
          <p:nvPr/>
        </p:nvSpPr>
        <p:spPr>
          <a:xfrm>
            <a:off x="1584360" y="907560"/>
            <a:ext cx="8121600" cy="5667480"/>
          </a:xfrm>
          <a:prstGeom prst="rect">
            <a:avLst/>
          </a:prstGeom>
          <a:noFill/>
          <a:ln w="0">
            <a:noFill/>
          </a:ln>
        </p:spPr>
        <p:txBody>
          <a:bodyPr lIns="92160" rIns="92160" tIns="46080" bIns="46080" anchor="t">
            <a:norm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cleaning process shall assure the removal of contaminants from the interior of the pipeline system. Cleaning of an hydrogen pipeline system is normally accomplished by a combination of building clean and final cleaning after construction.</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cleaning of hydrogen pipelines after construction may be accomplished by any one, or a combination of more than one, of the following methods:</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c00000"/>
                </a:solidFill>
                <a:latin typeface="Arial"/>
                <a:ea typeface="Arial"/>
              </a:rPr>
              <a:t>-</a:t>
            </a:r>
            <a:r>
              <a:rPr b="0" lang="en-GB" sz="1600" spc="-1" strike="noStrike">
                <a:solidFill>
                  <a:srgbClr val="000000"/>
                </a:solidFill>
                <a:latin typeface="Arial"/>
                <a:ea typeface="Arial"/>
              </a:rPr>
              <a:t>  Pigging. </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c00000"/>
                </a:solidFill>
                <a:latin typeface="Arial"/>
                <a:ea typeface="Arial"/>
              </a:rPr>
              <a:t>-</a:t>
            </a:r>
            <a:r>
              <a:rPr b="0" lang="en-GB" sz="1600" spc="-1" strike="noStrike">
                <a:solidFill>
                  <a:srgbClr val="000000"/>
                </a:solidFill>
                <a:latin typeface="Arial"/>
                <a:ea typeface="Arial"/>
              </a:rPr>
              <a:t>  Mechanical scraping.</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c00000"/>
                </a:solidFill>
                <a:latin typeface="Arial"/>
                <a:ea typeface="Arial"/>
              </a:rPr>
              <a:t>-</a:t>
            </a:r>
            <a:r>
              <a:rPr b="0" lang="en-GB" sz="1600" spc="-1" strike="noStrike">
                <a:solidFill>
                  <a:srgbClr val="000000"/>
                </a:solidFill>
                <a:latin typeface="Arial"/>
                <a:ea typeface="Arial"/>
              </a:rPr>
              <a:t>  High velocity gas purge.</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ical cleaning sequence:</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1.</a:t>
            </a:r>
            <a:r>
              <a:rPr b="0" lang="en-GB" sz="1600" spc="-1" strike="noStrike">
                <a:solidFill>
                  <a:srgbClr val="000000"/>
                </a:solidFill>
                <a:latin typeface="Arial"/>
              </a:rPr>
              <a:t> Dewatering.</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2. </a:t>
            </a:r>
            <a:r>
              <a:rPr b="0" lang="en-GB" sz="1600" spc="-1" strike="noStrike">
                <a:solidFill>
                  <a:srgbClr val="000000"/>
                </a:solidFill>
                <a:latin typeface="Arial"/>
              </a:rPr>
              <a:t>Drying.</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3. </a:t>
            </a:r>
            <a:r>
              <a:rPr b="0" lang="en-GB" sz="1600" spc="-1" strike="noStrike">
                <a:solidFill>
                  <a:srgbClr val="000000"/>
                </a:solidFill>
                <a:latin typeface="Arial"/>
              </a:rPr>
              <a:t>Dry cleaning.</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4. </a:t>
            </a:r>
            <a:r>
              <a:rPr b="0" lang="en-GB" sz="1600" spc="-1" strike="noStrike">
                <a:solidFill>
                  <a:srgbClr val="000000"/>
                </a:solidFill>
                <a:latin typeface="Arial"/>
              </a:rPr>
              <a:t>Final drying.</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42" name="4 Imagen" descr="450px-Pigging-inserting_pig_into_line.jpg"/>
          <p:cNvPicPr/>
          <p:nvPr/>
        </p:nvPicPr>
        <p:blipFill>
          <a:blip r:embed="rId2"/>
          <a:stretch/>
        </p:blipFill>
        <p:spPr>
          <a:xfrm>
            <a:off x="6667560" y="2516040"/>
            <a:ext cx="2143080" cy="2857680"/>
          </a:xfrm>
          <a:prstGeom prst="rect">
            <a:avLst/>
          </a:prstGeom>
          <a:ln w="0">
            <a:noFill/>
          </a:ln>
        </p:spPr>
      </p:pic>
      <p:sp>
        <p:nvSpPr>
          <p:cNvPr id="24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1. HANDLING OF COMPRESSED GASES AND DEEP COLD LIQUID GASES</a:t>
            </a:r>
            <a:endParaRPr b="1" lang="en-US" sz="2800" spc="-1" strike="noStrike">
              <a:solidFill>
                <a:srgbClr val="ba1e31"/>
              </a:solidFill>
              <a:latin typeface="SwitzerlandCondBlack"/>
            </a:endParaRPr>
          </a:p>
        </p:txBody>
      </p:sp>
      <p:sp>
        <p:nvSpPr>
          <p:cNvPr id="107" name=""/>
          <p:cNvSpPr txBox="1"/>
          <p:nvPr/>
        </p:nvSpPr>
        <p:spPr>
          <a:xfrm>
            <a:off x="1712880" y="1267920"/>
            <a:ext cx="7956720" cy="5256360"/>
          </a:xfrm>
          <a:prstGeom prst="rect">
            <a:avLst/>
          </a:prstGeom>
          <a:noFill/>
          <a:ln w="0">
            <a:noFill/>
          </a:ln>
        </p:spPr>
        <p:txBody>
          <a:bodyPr lIns="92160" rIns="92160" tIns="46080" bIns="46080" anchor="t">
            <a:normAutofit/>
          </a:bodyPr>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Definitions </a:t>
            </a:r>
            <a:endParaRPr b="1" lang="en-US" sz="24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Compressed Gas:</a:t>
            </a:r>
            <a:r>
              <a:rPr b="0" lang="en-GB" sz="1600" spc="-1" strike="noStrike">
                <a:solidFill>
                  <a:srgbClr val="000000"/>
                </a:solidFill>
                <a:latin typeface="Arial"/>
              </a:rPr>
              <a:t> when enclosed in a container gives:</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 </a:t>
            </a:r>
            <a:r>
              <a:rPr b="0" lang="en-GB" sz="1600" spc="-1" strike="noStrike">
                <a:solidFill>
                  <a:srgbClr val="000000"/>
                </a:solidFill>
                <a:latin typeface="Arial"/>
              </a:rPr>
              <a:t>an absolute pressure reading greater than 276 kPa (40 psi) at 21°C (70°F) </a:t>
            </a:r>
            <a:r>
              <a:rPr b="0" lang="en-GB" sz="1600" spc="-1" strike="noStrike">
                <a:solidFill>
                  <a:srgbClr val="000000"/>
                </a:solidFill>
                <a:latin typeface="Arial"/>
              </a:rPr>
              <a:t>	</a:t>
            </a:r>
            <a:r>
              <a:rPr b="0" lang="en-GB" sz="1600" spc="-1" strike="noStrike">
                <a:solidFill>
                  <a:srgbClr val="000000"/>
                </a:solidFill>
                <a:latin typeface="Arial"/>
              </a:rPr>
              <a:t>  or</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an absolute pressure greater than 717 kPa (104 psi) at 54°C (129.2°F) or</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any flammable liquid having a vapor pressure greater than 276 kPa (40 </a:t>
            </a:r>
            <a:r>
              <a:rPr b="0" lang="en-GB" sz="1600" spc="-1" strike="noStrike">
                <a:solidFill>
                  <a:srgbClr val="000000"/>
                </a:solidFill>
                <a:latin typeface="Arial"/>
              </a:rPr>
              <a:t>	</a:t>
            </a:r>
            <a:r>
              <a:rPr b="0" lang="en-GB" sz="1600" spc="-1" strike="noStrike">
                <a:solidFill>
                  <a:srgbClr val="000000"/>
                </a:solidFill>
                <a:latin typeface="Arial"/>
              </a:rPr>
              <a:t>   psi) at 38°C (100.4°F).</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Asphyxiant Gas:</a:t>
            </a:r>
            <a:r>
              <a:rPr b="0" lang="en-GB" sz="1600" spc="-1" strike="noStrike">
                <a:solidFill>
                  <a:srgbClr val="000000"/>
                </a:solidFill>
                <a:latin typeface="Arial"/>
              </a:rPr>
              <a:t> Any non-toxic gas which displaces atmospheric oxygen below limits required to</a:t>
            </a:r>
            <a:r>
              <a:rPr b="0" lang="es-ES" sz="1600" spc="-1" strike="noStrike">
                <a:solidFill>
                  <a:srgbClr val="000000"/>
                </a:solidFill>
                <a:latin typeface="Arial"/>
              </a:rPr>
              <a:t> </a:t>
            </a:r>
            <a:r>
              <a:rPr b="0" lang="en-GB" sz="1600" spc="-1" strike="noStrike">
                <a:solidFill>
                  <a:srgbClr val="000000"/>
                </a:solidFill>
                <a:latin typeface="Arial"/>
              </a:rPr>
              <a:t>support life. </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Corrosive Gas:</a:t>
            </a:r>
            <a:r>
              <a:rPr b="0" lang="en-GB" sz="1600" spc="-1" strike="noStrike">
                <a:solidFill>
                  <a:srgbClr val="000000"/>
                </a:solidFill>
                <a:latin typeface="Arial"/>
              </a:rPr>
              <a:t> in contact with living tissue causes destruction of the tissue by chemical</a:t>
            </a:r>
            <a:r>
              <a:rPr b="0" lang="es-ES" sz="1600" spc="-1" strike="noStrike">
                <a:solidFill>
                  <a:srgbClr val="000000"/>
                </a:solidFill>
                <a:latin typeface="Arial"/>
              </a:rPr>
              <a:t> </a:t>
            </a:r>
            <a:r>
              <a:rPr b="0" lang="en-GB" sz="1600" spc="-1" strike="noStrike">
                <a:solidFill>
                  <a:srgbClr val="000000"/>
                </a:solidFill>
                <a:latin typeface="Arial"/>
              </a:rPr>
              <a:t>action.</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Inert Gas:</a:t>
            </a:r>
            <a:r>
              <a:rPr b="0" lang="en-GB" sz="1600" spc="-1" strike="noStrike">
                <a:solidFill>
                  <a:srgbClr val="000000"/>
                </a:solidFill>
                <a:latin typeface="Arial"/>
              </a:rPr>
              <a:t> chemically inactive.</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Oxidizing Gas: </a:t>
            </a:r>
            <a:r>
              <a:rPr b="0" lang="en-GB" sz="1600" spc="-1" strike="noStrike">
                <a:solidFill>
                  <a:srgbClr val="000000"/>
                </a:solidFill>
                <a:latin typeface="Arial"/>
              </a:rPr>
              <a:t>can support and accelerate combustion of other materials.</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Pyrophoric Gas:</a:t>
            </a:r>
            <a:r>
              <a:rPr b="0" lang="en-GB" sz="1600" spc="-1" strike="noStrike">
                <a:solidFill>
                  <a:srgbClr val="000000"/>
                </a:solidFill>
                <a:latin typeface="Arial"/>
              </a:rPr>
              <a:t> spontaneously ignite in air at or below 54.4°C (130°F). </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666800" y="213840"/>
            <a:ext cx="8002800" cy="1428840"/>
          </a:xfrm>
          <a:prstGeom prst="rect">
            <a:avLst/>
          </a:prstGeom>
          <a:noFill/>
          <a:ln w="0">
            <a:noFill/>
          </a:ln>
        </p:spPr>
        <p:txBody>
          <a:bodyPr lIns="92160" rIns="92160" tIns="46080" bIns="46080" anchor="t">
            <a:normAutofit fontScale="93000"/>
          </a:bodyPr>
          <a:p>
            <a:pPr indent="4176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Flammable Gas:</a:t>
            </a:r>
            <a:r>
              <a:rPr b="0" lang="en-GB" sz="1600" spc="-1" strike="noStrike">
                <a:solidFill>
                  <a:srgbClr val="000000"/>
                </a:solidFill>
                <a:latin typeface="Arial"/>
              </a:rPr>
              <a:t> A substance that meets the definition of a compressed gas which:</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is flammable in a mixture of 13% or less (by volume) with air, or</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has a flammable range with air wider than 12%, at atmospheric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temperature and pressure, regardless of the lower limit.</a:t>
            </a:r>
            <a:endParaRPr b="1" lang="en-US" sz="1600" spc="-1" strike="noStrike">
              <a:solidFill>
                <a:srgbClr val="000000"/>
              </a:solidFill>
              <a:latin typeface="Arial"/>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0" name="Object 4"/>
          <p:cNvGraphicFramePr/>
          <p:nvPr/>
        </p:nvGraphicFramePr>
        <p:xfrm>
          <a:off x="3309840" y="1827360"/>
          <a:ext cx="4416480" cy="3244680"/>
        </p:xfrm>
        <a:graphic>
          <a:graphicData uri="http://schemas.openxmlformats.org/presentationml/2006/ole">
            <p:oleObj progId="Excel.Sheet.12" r:id="rId1" spid="">
              <p:embed/>
              <p:pic>
                <p:nvPicPr>
                  <p:cNvPr id="111" name="Object 4" descr=""/>
                  <p:cNvPicPr/>
                  <p:nvPr/>
                </p:nvPicPr>
                <p:blipFill>
                  <a:blip r:embed="rId2"/>
                  <a:stretch/>
                </p:blipFill>
                <p:spPr>
                  <a:xfrm>
                    <a:off x="3309840" y="1827360"/>
                    <a:ext cx="4416480" cy="3244680"/>
                  </a:xfrm>
                  <a:prstGeom prst="rect">
                    <a:avLst/>
                  </a:prstGeom>
                  <a:ln w="0">
                    <a:noFill/>
                  </a:ln>
                </p:spPr>
              </p:pic>
            </p:oleObj>
          </a:graphicData>
        </a:graphic>
      </p:graphicFrame>
      <p:sp>
        <p:nvSpPr>
          <p:cNvPr id="112" name="5 CuadroTexto"/>
          <p:cNvSpPr/>
          <p:nvPr/>
        </p:nvSpPr>
        <p:spPr>
          <a:xfrm>
            <a:off x="1738440" y="5143680"/>
            <a:ext cx="7931160" cy="82404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Nonflammable Gas:</a:t>
            </a:r>
            <a:r>
              <a:rPr b="0" lang="en-GB" sz="1600" spc="-1" strike="noStrike">
                <a:solidFill>
                  <a:srgbClr val="000000"/>
                </a:solidFill>
                <a:latin typeface="Arial"/>
              </a:rPr>
              <a:t> within the packaging, exerts an absolute pressure of 280 kPa (40</a:t>
            </a:r>
            <a:r>
              <a:rPr b="0" lang="es-ES" sz="1600" spc="-1" strike="noStrike">
                <a:solidFill>
                  <a:srgbClr val="000000"/>
                </a:solidFill>
                <a:latin typeface="Arial"/>
              </a:rPr>
              <a:t> </a:t>
            </a:r>
            <a:r>
              <a:rPr b="0" lang="en-GB" sz="1600" spc="-1" strike="noStrike">
                <a:solidFill>
                  <a:srgbClr val="000000"/>
                </a:solidFill>
                <a:latin typeface="Arial"/>
              </a:rPr>
              <a:t>psi) or greater at 20°C (68°F) but is not a flammable gas as defined previously.</a:t>
            </a:r>
            <a:endParaRPr b="1" lang="en-US" sz="1600" spc="-1" strike="noStrike">
              <a:solidFill>
                <a:srgbClr val="000000"/>
              </a:solidFill>
              <a:latin typeface="Colonna MT"/>
            </a:endParaRPr>
          </a:p>
        </p:txBody>
      </p:sp>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595160" y="428760"/>
            <a:ext cx="8310600" cy="1428480"/>
          </a:xfrm>
          <a:prstGeom prst="rect">
            <a:avLst/>
          </a:prstGeom>
          <a:noFill/>
          <a:ln w="0">
            <a:noFill/>
          </a:ln>
        </p:spPr>
        <p:txBody>
          <a:bodyPr lIns="92160" rIns="92160" tIns="46080" bIns="46080" anchor="t">
            <a:normAutofit/>
          </a:bodyPr>
          <a:p>
            <a:pPr indent="4492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Cryogenic Liquid:</a:t>
            </a:r>
            <a:r>
              <a:rPr b="0" lang="en-GB" sz="1600" spc="-1" strike="noStrike">
                <a:solidFill>
                  <a:srgbClr val="000000"/>
                </a:solidFill>
                <a:latin typeface="Arial"/>
              </a:rPr>
              <a:t> A liquid with a normal boiling point below -150°C (-238°F).</a:t>
            </a:r>
            <a:endParaRPr b="1" lang="en-US" sz="1600" spc="-1" strike="noStrike">
              <a:solidFill>
                <a:srgbClr val="000000"/>
              </a:solidFill>
              <a:latin typeface="Arial"/>
            </a:endParaRPr>
          </a:p>
          <a:p>
            <a:pPr indent="4492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Cryogenic Liquid Cylinder:</a:t>
            </a:r>
            <a:r>
              <a:rPr b="0" lang="en-GB" sz="1600" spc="-1" strike="noStrike">
                <a:solidFill>
                  <a:srgbClr val="000000"/>
                </a:solidFill>
                <a:latin typeface="Arial"/>
              </a:rPr>
              <a:t> Pressurized container designed and fabricated to hold cryogenic fluids.</a:t>
            </a:r>
            <a:r>
              <a:rPr b="0" lang="es-ES" sz="1600" spc="-1" strike="noStrike">
                <a:solidFill>
                  <a:srgbClr val="000000"/>
                </a:solidFill>
                <a:latin typeface="Arial"/>
              </a:rPr>
              <a:t> </a:t>
            </a:r>
            <a:r>
              <a:rPr b="0" lang="en-GB" sz="1600" spc="-1" strike="noStrike">
                <a:solidFill>
                  <a:srgbClr val="000000"/>
                </a:solidFill>
                <a:latin typeface="Arial"/>
              </a:rPr>
              <a:t>There are three common types of liquid cylinders: gas dispensing; liquid dispensing; or gas and liquid dispensing.</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15" name=""/>
          <p:cNvGraphicFramePr/>
          <p:nvPr/>
        </p:nvGraphicFramePr>
        <p:xfrm>
          <a:off x="1650960" y="2143080"/>
          <a:ext cx="8088480" cy="3857760"/>
        </p:xfrm>
        <a:graphic>
          <a:graphicData uri="http://schemas.openxmlformats.org/drawingml/2006/table">
            <a:tbl>
              <a:tblPr/>
              <a:tblGrid>
                <a:gridCol w="743040"/>
                <a:gridCol w="557280"/>
                <a:gridCol w="509400"/>
                <a:gridCol w="446040"/>
                <a:gridCol w="528840"/>
                <a:gridCol w="734760"/>
                <a:gridCol w="723960"/>
                <a:gridCol w="538200"/>
                <a:gridCol w="633600"/>
                <a:gridCol w="583920"/>
                <a:gridCol w="698760"/>
                <a:gridCol w="620640"/>
                <a:gridCol w="770040"/>
              </a:tblGrid>
              <a:tr h="57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ctr" marL="5760" marR="5760">
                    <a:lnL>
                      <a:noFill/>
                    </a:lnL>
                    <a:lnR w="2880">
                      <a:solidFill>
                        <a:srgbClr val="000000"/>
                      </a:solidFill>
                    </a:lnR>
                    <a:lnT>
                      <a:no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Molecular weigh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Melting point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Boiling point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ritical temperature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Relative density, gas (air=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Relative density, liquid (water=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Vapour pressure, 20ºC (ba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Solubulity in water [mg/l]</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Odou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uto-ignition temperature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lammability range [vol% in ai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r>
              <a:tr h="3859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Hydrog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5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5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4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07</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07</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n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6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 – 7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Butan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3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5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8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Sweetis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6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5 – 8,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924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arbon dioxid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6,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78,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5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7,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 odour warning propertie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n flamm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81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arbon monoxid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9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4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7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 odour warning propertie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62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2,5 – 7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855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Methan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6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4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n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9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 – 1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859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Oxyg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1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8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1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n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Oxidise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7714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itrogen dioxid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1,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5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 reliable dat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Brownis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or warning properties at low concentration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Oxidise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1595160" y="-360"/>
            <a:ext cx="8310600" cy="635796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Handling</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fety shoe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ylinders should not be dragged or physically carried.</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vent damage to cylinder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person other than the gas supplier shall attempt to mix gases in a cylinder.</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ylinders shall not be subjected to artificially created low temperatures without approval from the supplier.</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iners shall not be used for any other purpose than holding the contents as received.</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ylinders shall not be picked up by the cap.</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opes, chains and slings shall not be used to suspend cylinder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gnets shall not be used for lifting cylinder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re appropriate lifting attachments have not been provided on the cylinder/container, suitable cradles or platforms to hold the containers shall be used for lifting.</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r shall not paint cylinder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king, defective, fire burned and corroded containers shall not be shipped without the approval of the supplier.</a:t>
            </a:r>
            <a:endParaRPr b="1" lang="en-US" sz="1600" spc="-1" strike="noStrike">
              <a:solidFill>
                <a:srgbClr val="000000"/>
              </a:solidFill>
              <a:latin typeface="Arial"/>
            </a:endParaRPr>
          </a:p>
        </p:txBody>
      </p:sp>
      <p:sp>
        <p:nvSpPr>
          <p:cNvPr id="11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9240" y="980640"/>
            <a:ext cx="5805360" cy="4227480"/>
          </a:xfrm>
          <a:prstGeom prst="rect">
            <a:avLst/>
          </a:prstGeom>
          <a:noFill/>
          <a:ln w="0">
            <a:noFill/>
          </a:ln>
        </p:spPr>
        <p:txBody>
          <a:bodyPr lIns="92160" rIns="92160" tIns="46080" bIns="46080" anchor="t">
            <a:normAutofit/>
          </a:bodyPr>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rrosive Gase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yogenic Liquid and Gase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lammable Gase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xic and Highly Toxic Gases.</a:t>
            </a:r>
            <a:endParaRPr b="1" lang="en-US" sz="1800" spc="-1" strike="noStrike">
              <a:solidFill>
                <a:srgbClr val="000000"/>
              </a:solidFill>
              <a:latin typeface="Arial"/>
            </a:endParaRPr>
          </a:p>
        </p:txBody>
      </p:sp>
      <p:sp>
        <p:nvSpPr>
          <p:cNvPr id="120" name="Rectangle 4"/>
          <p:cNvSpPr/>
          <p:nvPr/>
        </p:nvSpPr>
        <p:spPr>
          <a:xfrm>
            <a:off x="1784520" y="333360"/>
            <a:ext cx="20782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Handling</a:t>
            </a:r>
            <a:endParaRPr b="1" lang="en-US" sz="2400" spc="-1" strike="noStrike">
              <a:solidFill>
                <a:srgbClr val="000000"/>
              </a:solidFill>
              <a:latin typeface="Colonna MT"/>
            </a:endParaRPr>
          </a:p>
        </p:txBody>
      </p:sp>
      <p:sp>
        <p:nvSpPr>
          <p:cNvPr id="12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1712520" y="0"/>
            <a:ext cx="819324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3. Material Safety Data Sheet (MSDS)</a:t>
            </a:r>
            <a:endParaRPr b="1" lang="en-US" sz="24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Information: product identifier (name), manufacturer and suppliers names, addresses, and emergency phone number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zardous Ingredient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hysical Data.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e or Explosion Hazard Dat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ctivity Data: information on the chemical instability of a product and the substances it may react with.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xicological Properties: health effect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ventive Measure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st Aid Measure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paration Information: who is responsible for preparation and date of preparation of MSDS.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E:\Pantallazo-3.png"/>
          <p:cNvPicPr/>
          <p:nvPr/>
        </p:nvPicPr>
        <p:blipFill>
          <a:blip r:embed="rId1"/>
          <a:stretch/>
        </p:blipFill>
        <p:spPr>
          <a:xfrm>
            <a:off x="1666800" y="571680"/>
            <a:ext cx="4146480" cy="5867280"/>
          </a:xfrm>
          <a:prstGeom prst="rect">
            <a:avLst/>
          </a:prstGeom>
          <a:ln w="0">
            <a:noFill/>
          </a:ln>
        </p:spPr>
      </p:pic>
      <p:pic>
        <p:nvPicPr>
          <p:cNvPr id="125" name="Picture 3" descr="E:\Pantallazo-4.png"/>
          <p:cNvPicPr/>
          <p:nvPr/>
        </p:nvPicPr>
        <p:blipFill>
          <a:blip r:embed="rId2"/>
          <a:stretch/>
        </p:blipFill>
        <p:spPr>
          <a:xfrm>
            <a:off x="5738760" y="571680"/>
            <a:ext cx="4167360" cy="5897520"/>
          </a:xfrm>
          <a:prstGeom prst="rect">
            <a:avLst/>
          </a:prstGeom>
          <a:ln w="0">
            <a:noFill/>
          </a:ln>
        </p:spPr>
      </p:pic>
      <p:sp>
        <p:nvSpPr>
          <p:cNvPr id="126" name="Rectangle 6"/>
          <p:cNvSpPr/>
          <p:nvPr/>
        </p:nvSpPr>
        <p:spPr>
          <a:xfrm>
            <a:off x="1640160" y="87480"/>
            <a:ext cx="57571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Material Safety Data Sheet (MSDS)</a:t>
            </a:r>
            <a:endParaRPr b="1" lang="en-US" sz="2400" spc="-1" strike="noStrike">
              <a:solidFill>
                <a:srgbClr val="000000"/>
              </a:solidFill>
              <a:latin typeface="Colonna MT"/>
            </a:endParaRPr>
          </a:p>
        </p:txBody>
      </p:sp>
      <p:sp>
        <p:nvSpPr>
          <p:cNvPr id="12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8:53:41Z</dcterms:modified>
  <cp:revision>643</cp:revision>
  <dc:subject/>
  <dc:title>Energie-Contracting</dc:title>
</cp:coreProperties>
</file>