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D89313E-4F83-4F6C-BA31-BE8ED33D206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E8EBE1E-1D60-4FD7-9D9A-81461BBF176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55520" y="646200"/>
            <a:ext cx="4659480" cy="3225600"/>
          </a:xfrm>
          <a:prstGeom prst="rect">
            <a:avLst/>
          </a:prstGeom>
          <a:ln w="0">
            <a:noFill/>
          </a:ln>
        </p:spPr>
      </p:sp>
      <p:sp>
        <p:nvSpPr>
          <p:cNvPr id="1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 purpose of this chapter is to provide an overview of the manual, as well as general advice on the delivery of the contents of the other chapte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55520" y="646200"/>
            <a:ext cx="4659480" cy="3225600"/>
          </a:xfrm>
          <a:prstGeom prst="rect">
            <a:avLst/>
          </a:prstGeom>
          <a:ln w="0">
            <a:noFill/>
          </a:ln>
        </p:spPr>
      </p:sp>
      <p:sp>
        <p:nvSpPr>
          <p:cNvPr id="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se are the four main topics of this chapter.  Each is expanded upon below.</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is manual, by its very nature, must be flexible.  It is a tool that is designed to be used in a variety of settings.  For example, it might be used during an intensive training session across several days.  Or individual chapters might be used for short sessions spread across a long period.  Therefore, the contents and presentation must be flex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expected that this manual will be used as a starting point to build a course that is useful and practical for its intended audience.  Teachers may want to expand on some areas or even change the order.  The manual is not meant to be prescriptiv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contents in this manual should be appropriate for a variety of audiences.  This is a relatively new topic, therefore it should be of interest to all levels of employers within an organisation:  from management to those who will be handling the new technolog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55520" y="646200"/>
            <a:ext cx="4659480" cy="3225600"/>
          </a:xfrm>
          <a:prstGeom prst="rect">
            <a:avLst/>
          </a:prstGeom>
          <a:ln w="0">
            <a:noFill/>
          </a:ln>
        </p:spPr>
      </p:sp>
      <p:sp>
        <p:nvSpPr>
          <p:cNvPr id="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manual is divided into Chapters, each devoted to a general or specific topic.  Some of the chapters provide an overview of topics and others provide the opportunity for more in-depth study of particular aspec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information is present as slides.  Many of the slides have accompanying notes which expand on the points covered.  In general, the slides are for students, whereas the notes provide information for the teacher.  In practice, it is advantageous to give students access to the notes as well, although teaching styles and preferences va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the beginning of each chapter is a Chapter Outline.  This provides information so that the teacher and the student know what to expect  It also provides some helpful clues for planning out a teaching ses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vel </a:t>
            </a:r>
            <a:r>
              <a:rPr b="0" lang="en-GB" sz="1000" spc="-1" strike="noStrike">
                <a:solidFill>
                  <a:srgbClr val="000000"/>
                </a:solidFill>
                <a:latin typeface="Arial"/>
              </a:rPr>
              <a:t>describes the level of the students that the slide would be appropriate for (more information on levels is below).</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quisites </a:t>
            </a:r>
            <a:r>
              <a:rPr b="0" lang="de-DE" sz="1000" spc="-1" strike="noStrike">
                <a:solidFill>
                  <a:srgbClr val="000000"/>
                </a:solidFill>
                <a:latin typeface="Arial"/>
              </a:rPr>
              <a:t>suggests whether or not other chapters need to be complete beforeha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Overall aim </a:t>
            </a:r>
            <a:r>
              <a:rPr b="0" lang="de-DE" sz="1000" spc="-1" strike="noStrike">
                <a:solidFill>
                  <a:srgbClr val="000000"/>
                </a:solidFill>
                <a:latin typeface="Arial"/>
              </a:rPr>
              <a:t>provides a very short description of the chap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Content </a:t>
            </a:r>
            <a:r>
              <a:rPr b="0" lang="de-DE" sz="1000" spc="-1" strike="noStrike">
                <a:solidFill>
                  <a:srgbClr val="000000"/>
                </a:solidFill>
                <a:latin typeface="Arial"/>
              </a:rPr>
              <a:t>provides a listing of the major topics cover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arning Outcome</a:t>
            </a:r>
            <a:r>
              <a:rPr b="0" lang="de-DE" sz="1000" spc="-1" strike="noStrike">
                <a:solidFill>
                  <a:srgbClr val="000000"/>
                </a:solidFill>
                <a:latin typeface="Arial"/>
              </a:rPr>
              <a:t> gives the students an indication of what can be reasonably accomplished if they apply themselv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hodology</a:t>
            </a:r>
            <a:r>
              <a:rPr b="0" lang="de-DE" sz="1000" spc="-1" strike="noStrike">
                <a:solidFill>
                  <a:srgbClr val="000000"/>
                </a:solidFill>
                <a:latin typeface="Arial"/>
              </a:rPr>
              <a:t> gives advice on the teaching methods that may be appropria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Schedule</a:t>
            </a:r>
            <a:r>
              <a:rPr b="0" lang="de-DE" sz="1000" spc="-1" strike="noStrike">
                <a:solidFill>
                  <a:srgbClr val="000000"/>
                </a:solidFill>
                <a:latin typeface="Arial"/>
              </a:rPr>
              <a:t> gives an approximate length of time needed to cover the materia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55520" y="646200"/>
            <a:ext cx="4659480" cy="3225600"/>
          </a:xfrm>
          <a:prstGeom prst="rect">
            <a:avLst/>
          </a:prstGeom>
          <a:ln w="0">
            <a:noFill/>
          </a:ln>
        </p:spPr>
      </p:sp>
      <p:sp>
        <p:nvSpPr>
          <p:cNvPr id="1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important that the teachers assess their audience, so that they may adjust their teaching styles and contents appropriately.  Delivering information that is too conceptual or reliant on specific understanding of higher maths would be counterproductive. Therefore, the manual contains </a:t>
            </a:r>
            <a:r>
              <a:rPr b="0" i="1" lang="en-GB" sz="1000" spc="-1" strike="noStrike">
                <a:solidFill>
                  <a:srgbClr val="000000"/>
                </a:solidFill>
                <a:latin typeface="Arial"/>
              </a:rPr>
              <a:t>suggested</a:t>
            </a:r>
            <a:r>
              <a:rPr b="0" lang="en-GB" sz="1000" spc="-1" strike="noStrike">
                <a:solidFill>
                  <a:srgbClr val="000000"/>
                </a:solidFill>
                <a:latin typeface="Arial"/>
              </a:rPr>
              <a:t> levels in the form of a colour-coded box in the lower left-hand side of each slide.  This allows the teacher to quickly choose slides which they think is appropriate for their class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suggested classification of levels follow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re are many ways of delivering the contents of this module.  The slides can be used as lectures, where the teacher does the talking and the student listens and takes notes.  However, it is also possible (and some would say preferable) to use the slides as a basis for discussion, tasks and activities.  Pedagogic research shows that students learn best by doing things, rather than just listening.  Therefore, the more activities that require their active participation, the more they are likely to learn.  Hands-on practical sessions with real-world equipment will be an experience that the students are more likely to rememb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Of course, the choice of delivery methods will be determined by real-world constraints.  Designing for discussions and group activities does take time.  And the use of specialist facilities and equipment relies on the availability of resour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the very least, the preferred pedagogical approach is one that presents information and periodically stops to assess whether that information was understood.  This requires active participation on the part of both the teacher and student.  Teachers develop their own tools to engage their audiences.  Therefore the best delivery method is one that plays to the strength of the teac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Chapter: Practical Training</a:t>
            </a:r>
            <a:endParaRPr b="1" lang="en-US" sz="3700" spc="-1" strike="noStrike">
              <a:solidFill>
                <a:srgbClr val="ba1e31"/>
              </a:solidFill>
              <a:latin typeface="Arial"/>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verview of the Manual</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d</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actical Advice for Trai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Overview</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Importance of Flexibilit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yout of the Manua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udent Level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livery Method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The Importance of Flexibility</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uses of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inuous training sess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vidual topic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audiences of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ginners to experience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cians to managemen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ultiple time-fram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nsive training sesions, short period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vidual topics, spread over longer perio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yout of the Manual</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pters: Slides and Not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pter Outlin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uisit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verall aim.</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en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arning Outco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olog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edu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	</a:t>
            </a:r>
            <a:r>
              <a:rPr b="1" lang="en-GB" sz="3200" spc="-1" strike="noStrike">
                <a:solidFill>
                  <a:srgbClr val="ba1e31"/>
                </a:solidFill>
                <a:latin typeface="SwitzerlandCondBlack"/>
              </a:rPr>
              <a:t>Student Level</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ssess your audien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evels are suggested, but not prescriptiv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ic, Intermediate, Advanc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Basic</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overview level which requires no specific knowledge of physics, chemistry or mathematics.  A typical student might be one who has not pursued further or higher education, or one who does not feel confident in this particular fiel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Intermediate</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evel for students that have an interest in the theory behind many of the concepts covered in the slides.  They will have some basic knowledge of chemistry, physics and/or mathematics.  A typical student might be one who has pursued some further or higher education, or expresses a strong interest in the field.</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evels – Advanced</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level for those students confident in the theoretical or mathematical concepts covered in the slides.  A typical student is one who has a strong background in chemistry, physics and/or mathematics. </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livery Methods</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riable approach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termining facto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ourc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pertise and confidence of present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ferred pedagog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lay to your strength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36:20Z</dcterms:modified>
  <cp:revision>519</cp:revision>
  <dc:subject/>
  <dc:title>Energie-Contracting</dc:title>
</cp:coreProperties>
</file>