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50616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A25E0DD8-477A-4436-96B1-80B7A1CEAE87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506520" y="9559440"/>
            <a:ext cx="4751280" cy="287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656BEB-A1C3-4E34-AA01-4AE82B826150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Img"/>
          </p:nvPr>
        </p:nvSpPr>
        <p:spPr>
          <a:xfrm>
            <a:off x="936720" y="646200"/>
            <a:ext cx="4897440" cy="32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a1e31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ba1e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54360"/>
            <a:ext cx="9906120" cy="23036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3120600">
            <a:off x="964440" y="2681280"/>
            <a:ext cx="2576520" cy="2376360"/>
          </a:xfrm>
          <a:prstGeom prst="blockArc">
            <a:avLst>
              <a:gd name="adj1" fmla="val 2325127"/>
              <a:gd name="adj2" fmla="val 8474873"/>
              <a:gd name="adj3" fmla="val 22630"/>
            </a:avLst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70120" y="260280"/>
            <a:ext cx="8136000" cy="171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a1e31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ba1e3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00160" y="146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105600" y="5805360"/>
            <a:ext cx="3098880" cy="74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2880" y="4941720"/>
            <a:ext cx="1440000" cy="6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00160" y="3789360"/>
            <a:ext cx="1511280" cy="85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72880" y="6021360"/>
            <a:ext cx="2232360" cy="40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01600" y="2781360"/>
            <a:ext cx="1295280" cy="7160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289240" y="4797360"/>
            <a:ext cx="2016000" cy="866520"/>
            <a:chOff x="2289240" y="4797360"/>
            <a:chExt cx="2016000" cy="866520"/>
          </a:xfrm>
        </p:grpSpPr>
        <p:grpSp>
          <p:nvGrpSpPr>
            <p:cNvPr id="53" name=""/>
            <p:cNvGrpSpPr/>
            <p:nvPr/>
          </p:nvGrpSpPr>
          <p:grpSpPr>
            <a:xfrm>
              <a:off x="2360520" y="4868640"/>
              <a:ext cx="791280" cy="720720"/>
              <a:chOff x="2360520" y="4868640"/>
              <a:chExt cx="791280" cy="720720"/>
            </a:xfrm>
          </p:grpSpPr>
          <p:sp>
            <p:nvSpPr>
              <p:cNvPr id="54" name=""/>
              <p:cNvSpPr/>
              <p:nvPr/>
            </p:nvSpPr>
            <p:spPr>
              <a:xfrm>
                <a:off x="286308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60520" y="4868640"/>
                <a:ext cx="648720" cy="64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6" name="" descr=""/>
            <p:cNvPicPr/>
            <p:nvPr/>
          </p:nvPicPr>
          <p:blipFill>
            <a:blip r:embed="rId9"/>
            <a:stretch/>
          </p:blipFill>
          <p:spPr>
            <a:xfrm>
              <a:off x="2289240" y="4797360"/>
              <a:ext cx="2016000" cy="86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168880" y="5013360"/>
            <a:ext cx="2376360" cy="52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8553600" y="4797360"/>
            <a:ext cx="87768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3513240" y="5805360"/>
            <a:ext cx="1944720" cy="895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49320" algn="ctr">
              <a:lnSpc>
                <a:spcPct val="110000"/>
              </a:lnSpc>
              <a:spcBef>
                <a:spcPts val="751"/>
              </a:spcBef>
              <a:buClr>
                <a:srgbClr val="a91b2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206280" algn="ctr">
              <a:lnSpc>
                <a:spcPct val="110000"/>
              </a:lnSpc>
              <a:spcBef>
                <a:spcPts val="751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lnSpc>
                <a:spcPct val="110000"/>
              </a:lnSpc>
              <a:spcBef>
                <a:spcPts val="675"/>
              </a:spcBef>
              <a:buClr>
                <a:srgbClr val="a91b2c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06920" y="83808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Gender Mainst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21000" y="1811160"/>
            <a:ext cx="1366920" cy="95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13360" y="1523880"/>
            <a:ext cx="101268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703920" y="1595520"/>
            <a:ext cx="11448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620280"/>
            <a:ext cx="7792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-Analy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848720" cy="44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cedure for process-oriented Gender Mainstreaming during a project 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analys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 of ai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meas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rce: Guidelines for the Integration of Gender Mainstreaming (LEONARDO DA VINCI PROJECT New applications for innovation and employment, SME-TIC, PROJECT Nº E/01/B/F/PP-115.56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57920" y="2335320"/>
            <a:ext cx="1656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1557360"/>
            <a:ext cx="7772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1. Gender Mainstreaming 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- Questions concerning basic analy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80760" y="1699920"/>
            <a:ext cx="7443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gender-specific inequalities in the intervention field of the project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the men and women in the target group have different problems and needs?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y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there gender-specific participation barriers?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y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2. Gender Mainstreaming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 – Questions concerning aim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equal opportunity aims have been integrated in the project aims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verifiable aims, or partial aims relating to equal opportunities for men and women been defined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25760" y="691920"/>
            <a:ext cx="7594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3. Gender mainstreaming </a:t>
            </a:r>
            <a:br>
              <a:rPr sz="3000"/>
            </a:b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- Questions concerning development </a:t>
            </a:r>
            <a:br>
              <a:rPr sz="3000"/>
            </a:b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of measures </a:t>
            </a:r>
            <a:endParaRPr b="1" lang="en-US" sz="30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50600" y="2491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will equal access and participation opportunities for men and women be guaranteed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an it be guaranteed that men and women benefit equally from the project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an it be avoided that gender-specific inequalities are reproduced through the project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does the project contribute to the reduction of inequalitie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ossible options for the realisation can be developed on the basis of the results of the analysi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ifficulties can arise during the practical implementation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option is likely to best achieve the aims? Why?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980640"/>
            <a:ext cx="77724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4. Gender Mainstreaming 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- Questions concerning implementation</a:t>
            </a:r>
            <a:r>
              <a:rPr b="1" lang="en-GB" sz="2600" spc="-1" strike="noStrike">
                <a:solidFill>
                  <a:srgbClr val="ba1e31"/>
                </a:solidFill>
                <a:latin typeface="SwitzerlandCondBlack"/>
              </a:rPr>
              <a:t> </a:t>
            </a:r>
            <a:endParaRPr b="1" lang="en-US" sz="26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267920"/>
            <a:ext cx="7444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all of the defined criteria observed during implementati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ifficulties arose during the practical implementati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76240" y="380520"/>
            <a:ext cx="7444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in the European Un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39800" y="1636560"/>
            <a:ext cx="6818400" cy="481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the European Community - Article 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motion of equality between men and women is one of the tasks of the European Communit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the European Community - Article 3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tivities of the European Community shall include the elimination of inequalities and the promotion of equal opportunities of all women and m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Charter of Fundamental Rights – Article 23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ity between men and women must be ensured in all areas, including employment, work and p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 such, equal opportunities amongst women and men has become a special task of the European Community and has been defined as a horizontal objective for all scopes of policy. Promotions and co-financings via the European union are connected to the realization of the gender mainstreaming strateg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55640" y="30456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European Network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80760" y="1828800"/>
            <a:ext cx="63486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80 international networks in an overview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30320" y="2703600"/>
            <a:ext cx="55864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4240" y="1052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Why Gender Mainstreaming for H2-training ?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9120" y="1989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cording to estimates, 80,000 new qualified persons in Europe will be required by 2015 within the field of hydrogen technologi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f course, also the potential of women should not be forgotte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refore it is very important to consider gender mainstreaming aspects in the professional profile, curricula and training program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23414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1324080"/>
            <a:ext cx="4248000" cy="151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0760" y="-30528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irls professional career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880" y="28195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ustria, teenagers have an option of about 270 education professions 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oking at the quantitative sexual distribution, a picture begins to emerge on the selection of education professions which are “typically male” and “typically female”. While the boys have a wide spectrum of  occupations to choose from,  girls tend to favour “traditionally female” occupations in retailing and food.  Up to 50% of the professions chosen by girls fall into the categories of retail, hairdressing and sa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2200" y="25992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Frequent Arguments 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360" y="2278080"/>
            <a:ext cx="59058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Girls are not interested in science and technology. 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e would like to hire women, but there is a lack of qualified young  female researchers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are less suitable  for leadership-positions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are less mobile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represent a higher risk from business management view.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On the basis of private/family obligations, women are only partially available and their workload is limited."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70480" y="1676520"/>
            <a:ext cx="29768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0760" y="2487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– Definit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0760" y="1517760"/>
            <a:ext cx="455940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the fact that </a:t>
            </a: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"/>
              </a:rPr>
              <a:t>all scopes of our society are gender-structur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mplies the consideration of </a:t>
            </a: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"/>
              </a:rPr>
              <a:t>different interests and life situations of women and me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 advance and continuously, in regard to social intention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6000" y="2249640"/>
            <a:ext cx="1461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76723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– Whose responsibility?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0520" y="1700280"/>
            <a:ext cx="696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s the responsibility of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agement le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of an organisation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 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 consider different life situations and interests of women and men in advance, in order to achieve equal opportunities for women and m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the organization of processes and process sequ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results and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communicating and public relations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839000" y="2406600"/>
            <a:ext cx="19144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2200" y="40284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- Objective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44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 for men and wom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jective is reached when all structures and decision-making processes aim at the equal treatment of women and men in regard to their sex, individual shape of life and the allocation of power, resources and employmen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076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Clarification of Different Term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5280" y="2017800"/>
            <a:ext cx="79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 a political objec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ategy to achie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vancement of Women/Men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y to adjust unequal treat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 Treatment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hibition of direct and indirect discrimin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income equality, working conditions, sexual harass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vancement of Wome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tension of the principle of formal equal treat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motion measures for wome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ims at the adjustment of present discrimination of wome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076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Preconditions for Realizat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80760" y="1267920"/>
            <a:ext cx="50706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nagement level responsi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 objectiv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iability and verifia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alys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Knowledge and know-h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chorage in structures and process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ceptance of key playe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ternal equal opportunities advanceme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sion of personal and financial resourc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97520" y="2878200"/>
            <a:ext cx="2227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6T11:00:46Z</dcterms:created>
  <dc:creator>Jan W. Bleyl</dc:creator>
  <dc:description/>
  <dc:language>en-US</dc:language>
  <cp:lastModifiedBy>XX</cp:lastModifiedBy>
  <cp:lastPrinted>2001-11-12T14:52:37Z</cp:lastPrinted>
  <dcterms:modified xsi:type="dcterms:W3CDTF">2009-01-28T08:55:36Z</dcterms:modified>
  <cp:revision>521</cp:revision>
  <dc:subject/>
  <dc:title>Energie-Contracting</dc:title>
</cp:coreProperties>
</file>