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25.jpeg" ContentType="image/jpeg"/>
  <Override PartName="/ppt/media/image2.png" ContentType="image/png"/>
  <Override PartName="/ppt/media/image26.png" ContentType="image/png"/>
  <Override PartName="/ppt/media/image3.png" ContentType="image/png"/>
  <Override PartName="/ppt/media/image33.png" ContentType="image/png"/>
  <Override PartName="/ppt/media/image4.png" ContentType="image/png"/>
  <Override PartName="/ppt/media/image9.png" ContentType="image/png"/>
  <Override PartName="/ppt/media/image38.jpeg" ContentType="image/jpeg"/>
  <Override PartName="/ppt/media/image44.jpeg" ContentType="image/jpeg"/>
  <Override PartName="/ppt/media/image37.jpeg" ContentType="image/jpeg"/>
  <Override PartName="/ppt/media/image13.png" ContentType="image/png"/>
  <Override PartName="/ppt/media/image41.jpeg" ContentType="image/jpeg"/>
  <Override PartName="/ppt/media/image45.jpeg" ContentType="image/jpeg"/>
  <Override PartName="/ppt/media/image40.png" ContentType="image/png"/>
  <Override PartName="/ppt/media/image42.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9.jpeg" ContentType="image/jpeg"/>
  <Override PartName="/ppt/media/image8.png" ContentType="image/png"/>
  <Override PartName="/ppt/media/image52.wmf" ContentType="image/x-wmf"/>
  <Override PartName="/ppt/media/image12.png" ContentType="image/png"/>
  <Override PartName="/ppt/media/image7.png" ContentType="image/png"/>
  <Override PartName="/ppt/media/image34.jpeg" ContentType="image/jpeg"/>
  <Override PartName="/ppt/media/image11.png" ContentType="image/png"/>
  <Override PartName="/ppt/media/image6.png" ContentType="image/png"/>
  <Override PartName="/ppt/media/image10.png" ContentType="image/png"/>
  <Override PartName="/ppt/media/image50.jpeg" ContentType="image/jpeg"/>
  <Override PartName="/ppt/media/image27.jpeg" ContentType="image/jpeg"/>
  <Override PartName="/ppt/media/image43.jpeg" ContentType="image/jpeg"/>
  <Override PartName="/ppt/media/image35.png" ContentType="image/png"/>
  <Override PartName="/ppt/media/image5.png" ContentType="image/png"/>
  <Override PartName="/ppt/media/image2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6858000" cy="9712325"/>
</p:presentation>
</file>

<file path=ppt/commentAuthors.xml><?xml version="1.0" encoding="utf-8"?>
<p:cmAuthorLst xmlns:p="http://schemas.openxmlformats.org/presentationml/2006/main">
  <p:cmAuthor id="0" name="Marcello"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8.xml><?xml version="1.0" encoding="utf-8"?>
<p:cmLst xmlns:p="http://schemas.openxmlformats.org/presentationml/2006/main">
  <p:cm authorId="0" dt="2007-11-13T12:03:15.663000000" idx="1">
    <p:pos x="10" y="10"/>
    <p:text>notes here don't seem to match the contents of the sli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12640" y="193320"/>
            <a:ext cx="5832720" cy="282600"/>
          </a:xfrm>
          <a:prstGeom prst="rect">
            <a:avLst/>
          </a:prstGeom>
          <a:noFill/>
          <a:ln w="0">
            <a:noFill/>
          </a:ln>
        </p:spPr>
        <p:txBody>
          <a:bodyPr lIns="18360" rIns="18360" tIns="0" bIns="0" anchor="b">
            <a:noAutofit/>
          </a:bodyPr>
          <a:p>
            <a:pPr indent="0">
              <a:lnSpc>
                <a:spcPct val="100000"/>
              </a:lnSpc>
              <a:buNone/>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sldNum" idx="1"/>
          </p:nvPr>
        </p:nvSpPr>
        <p:spPr>
          <a:xfrm>
            <a:off x="5324400" y="9376920"/>
            <a:ext cx="1020960" cy="211320"/>
          </a:xfrm>
          <a:prstGeom prst="rect">
            <a:avLst/>
          </a:prstGeom>
          <a:noFill/>
          <a:ln w="0">
            <a:noFill/>
          </a:ln>
        </p:spPr>
        <p:txBody>
          <a:bodyPr lIns="18360" rIns="18360" tIns="0" bIns="0" anchor="t">
            <a:noAutofit/>
          </a:bodyPr>
          <a:lstStyle>
            <a:lvl1pPr indent="0" algn="r">
              <a:lnSpc>
                <a:spcPct val="100000"/>
              </a:lnSpc>
              <a:buNone/>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defRPr b="0" i="1" lang="de-DE" sz="800" spc="-1" strike="noStrike">
                <a:solidFill>
                  <a:srgbClr val="000000"/>
                </a:solidFill>
                <a:latin typeface="Arial"/>
              </a:defRPr>
            </a:lvl1pPr>
          </a:lstStyle>
          <a:p>
            <a:pPr indent="0" algn="r">
              <a:lnSpc>
                <a:spcPct val="100000"/>
              </a:lnSpc>
              <a:buNone/>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de-DE" sz="800" spc="-1" strike="noStrike">
                <a:solidFill>
                  <a:srgbClr val="000000"/>
                </a:solidFill>
                <a:latin typeface="Arial"/>
              </a:rPr>
              <a:t>Page </a:t>
            </a:r>
            <a:fld id="{86996E82-2A1F-4ECE-B3EB-B3DCF3FA3AC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1" name="PlaceHolder 3"/>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2" name="PlaceHolder 4"/>
          <p:cNvSpPr>
            <a:spLocks noGrp="1"/>
          </p:cNvSpPr>
          <p:nvPr>
            <p:ph type="sldImg"/>
          </p:nvPr>
        </p:nvSpPr>
        <p:spPr>
          <a:xfrm>
            <a:off x="1143000" y="635040"/>
            <a:ext cx="4570560" cy="316368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35040"/>
            <a:ext cx="4570560" cy="3163680"/>
          </a:xfrm>
          <a:prstGeom prst="rect">
            <a:avLst/>
          </a:prstGeom>
          <a:ln w="0">
            <a:noFill/>
          </a:ln>
        </p:spPr>
      </p:sp>
      <p:sp>
        <p:nvSpPr>
          <p:cNvPr id="244" name="PlaceHolder 2"/>
          <p:cNvSpPr>
            <a:spLocks noGrp="1"/>
          </p:cNvSpPr>
          <p:nvPr>
            <p:ph type="body"/>
          </p:nvPr>
        </p:nvSpPr>
        <p:spPr>
          <a:xfrm>
            <a:off x="720720" y="4114800"/>
            <a:ext cx="5469120" cy="5105520"/>
          </a:xfrm>
          <a:prstGeom prst="rect">
            <a:avLst/>
          </a:prstGeom>
          <a:noFill/>
          <a:ln w="0">
            <a:noFill/>
          </a:ln>
        </p:spPr>
        <p:txBody>
          <a:bodyPr lIns="0" rIns="0" tIns="0" bIns="0" anchor="t">
            <a:noAutofit/>
          </a:bodyPr>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Titel: Gastechnologi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Level: </a:t>
            </a:r>
            <a:r>
              <a:rPr b="0" lang="de-DE" sz="900" spc="-1" strike="noStrike">
                <a:solidFill>
                  <a:srgbClr val="000000"/>
                </a:solidFill>
                <a:latin typeface="Arial"/>
              </a:rPr>
              <a:t>Anfänger (B), fortgeschrittene Anfänger (I)</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Voraussetzungen:</a:t>
            </a:r>
            <a:r>
              <a:rPr b="0" lang="de-DE" sz="900" spc="-1" strike="noStrike">
                <a:solidFill>
                  <a:srgbClr val="000000"/>
                </a:solidFill>
                <a:latin typeface="Arial"/>
              </a:rPr>
              <a:t> Kapitel 4,5,6</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Überblick:</a:t>
            </a:r>
            <a:r>
              <a:rPr b="0" lang="de-DE" sz="900" spc="-1" strike="noStrike">
                <a:solidFill>
                  <a:srgbClr val="000000"/>
                </a:solidFill>
                <a:latin typeface="Arial"/>
              </a:rPr>
              <a:t> Das Kapitel gibt einen Überblick über die technischen und praktischen Aspekte von Gasen, die in Brennstoffzellen verwendet werd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Inhal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1. Behandlung von Druckgasen und tiefkalten Flüssiggas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2. Gasflasch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3. Gasrohr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4. Ventil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5. Wasserstoffsensor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6. Gasdruckregelung</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7. Sonstige Gerät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8. Undichtheit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9. Reinigung</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Lernziele</a:t>
            </a:r>
            <a:r>
              <a:rPr b="1"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 Schulungsteilnehmer wird in der Lage sein:</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Eigenschaften von Gasen, die in Brennstoffzellen verwendet werden, zu erkennen</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Geräte zu erkennen, die für die Handhabung und Lagerung von Gasen verwendet werden </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Faktoren zu verstehen, die für einen sicheren Betrieb sorgen</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Methodik:</a:t>
            </a:r>
            <a:r>
              <a:rPr b="0" lang="de-DE" sz="900" spc="-1" strike="noStrike">
                <a:solidFill>
                  <a:srgbClr val="000000"/>
                </a:solidFill>
                <a:latin typeface="Arial"/>
              </a:rPr>
              <a:t> Vorträge, Gruppenarbeit, Diskussion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Zeitplan:</a:t>
            </a:r>
            <a:r>
              <a:rPr b="0" lang="de-DE" sz="900" spc="-1" strike="noStrike">
                <a:solidFill>
                  <a:srgbClr val="000000"/>
                </a:solidFill>
                <a:latin typeface="Arial"/>
              </a:rPr>
              <a:t> 4 Stunden à 60 m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
          <p:cNvPicPr/>
          <p:nvPr/>
        </p:nvPicPr>
        <p:blipFill>
          <a:blip r:embed="rId1"/>
          <a:stretch/>
        </p:blipFill>
        <p:spPr>
          <a:xfrm>
            <a:off x="1022400" y="547560"/>
            <a:ext cx="4718160" cy="3165480"/>
          </a:xfrm>
          <a:prstGeom prst="rect">
            <a:avLst/>
          </a:prstGeom>
          <a:ln w="12600">
            <a:solidFill>
              <a:srgbClr val="000000"/>
            </a:solidFill>
            <a:miter/>
          </a:ln>
        </p:spPr>
      </p:pic>
      <p:sp>
        <p:nvSpPr>
          <p:cNvPr id="266" name="PlaceHolder 1"/>
          <p:cNvSpPr>
            <a:spLocks noGrp="1"/>
          </p:cNvSpPr>
          <p:nvPr>
            <p:ph type="body"/>
          </p:nvPr>
        </p:nvSpPr>
        <p:spPr>
          <a:xfrm>
            <a:off x="731520" y="4010040"/>
            <a:ext cx="5468760" cy="494496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Flaschenkennzeichnung- und Prüfu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für komprimierte Gase sollten leserlich gekennzeichnet werden, um den Gasinhalt entweder mit der chemischen Bezeichnung oder mit dem Handelsnamen des Gases anzugeben. Diese Kennzeichnungen sollten durch Schablonenbeschriftung, Prägen oder Etikettieren erfolgen und sollten nicht leicht zu entfernen sein. Sofern möglich, sollten diese Kennzeichnungen auf der Flaschenschulter angebrach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flaschen sind zweimal pro Jahr gemäß den folgenden Richtlinien zu überprüfen. Alle Flaschen, die diese Richtlinien nicht erfüllen,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ulen – Beulen sind Deformationen, die dadurch verursacht werden, dass die Flasche so mit einem stumpfen Gegenstand in Berührung kommt, dass die Stärke des Metalls normalerweise nicht vermindert wird. Nur Flaschen, die größere Beulen aufweisen, die das Metall beeinträchtigen,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chnitte – Rillen und Stöße – Hierbei handelt es sich um Deformationen, die durch den Kontakt mit einem scharfen Gegenstand verursacht werden, der in das Metall der Flasche schneidet und dabei die Wandstärke an dieser Stelle reduziert.</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mit Schnitten, Rillen und Stößen, durch die die Stärke der Metallwand reduziert wird, sollten außer Betrieb genommen werd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Korrosion und  Lochfraß – Flaschen, die durch korrosive Mittel verursachte Korrosion und Lochfraß aufweisen, die mit einem Verlust der Wandstärke verbunden sind,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usbeulungen – Flaschen, die eindeutige Ausbeulungen aufweisen,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als – Der Flaschenhals ist auf starke Risse, Knicke und Verformungen zu überprüfen. Halsrisse werden durch Überprüfung mit einer Seifenlösung festgestellt. Flaschen, bei denen starke Risse festgestellt werden,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ußring und Halsring – Flaschen sind außer Betrieb zu nehmen, wenn der Halsring bzw. der Fußring so verbogen sind, dass sie 1) die Flasche nicht mehr in einer normalen aufrechten Position halten, oder 2) wenn der Halsring so verbogen ist, dass er das Ventil und den Halsbereich der Flasche nicht mehr ausreichend schützt.</a:t>
            </a:r>
            <a:endParaRPr b="0" lang="en-US" sz="900" spc="-1" strike="noStrike">
              <a:solidFill>
                <a:srgbClr val="000000"/>
              </a:solidFill>
              <a:latin typeface="Arial"/>
            </a:endParaRPr>
          </a:p>
          <a:p>
            <a:pPr indent="0" algn="just">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ventile, Anschlussstücke, Regler, Schläuche und andere Geräte sollte frei von öligen und fettigen Substanzen bleiben.</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35040"/>
            <a:ext cx="4570560" cy="3163680"/>
          </a:xfrm>
          <a:prstGeom prst="rect">
            <a:avLst/>
          </a:prstGeom>
          <a:ln w="0">
            <a:noFill/>
          </a:ln>
        </p:spPr>
      </p:sp>
      <p:sp>
        <p:nvSpPr>
          <p:cNvPr id="268"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Gasflasch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ur neuesten Technik bei der Wasserstofflagerung gehören Druckgasbehälter für 5000- und 10.000-psi und Kryo-Behälter für flüssigen Wasserstoff zur On-Board-Lagerung von Wasserstoff.</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Gasbehälter für Druckwasserstoff</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Energiedichte gasförmigen Wasserstoffs kann verbessert werden, indem der Wasserstoff bei höheren Drücken gelagert wird. Hierzu sind Material- und Konstruktionsverbesserungen nötig, um die Unversehrtheit des Behälters sicherzustellen. Dafür sind Fortschritte bei den Drucktechnologien ebenso erforderlich wie die Verbesserung der Effizienz und eine Reduzierung der Herstellungskosten von Hochdruckwasserstoff.</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Probleme bei Hochdruckwasserstoffbehältern sind der Hochdruck, das Gewicht, das Volumen, die Gleichförmigkeit und die Kosten. Die Kosten von Hochdruckgasbehältern hängen im Wesentlichen von den Kosten für die Kohlefasern ab, die für die leichte Verstärkung verwendet werden müssen. Es werden Bemühungen unternommen, kostengünstige Kohlefasern zu finden, die die geforderten Hochdruck- und Sicherheitsbestimmungen für Wasserstoffgasbehälter erfüllen. Allerdings müssten die Kohlefasern immer noch in der Lage sein, die Beschränkungen für die Wandstärke der Behälter zu erfüllen, um dazu beizutragen, die volumetrische Kapazität einzuhalten. Daher ist Kostenreduzierung ohne zusätzliches Gewicht und Volumen eine der größten Herausforderun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zeit werden zwei Ansätze verfolgt, um die gravimetrischen und volumetrischen Lagerkapazitäten von Hochdruckbehältern zu steigern. Der erste Ansatz befasst sich mit Kryo-Druckbehältern. Er basiert auf der Tatsache, dass die volumetrische Kapazität des Behälters bei einem festgelegten Druck und einem festgelegten Volumen ansteigt, wenn die Temperatur sinkt. Somit steigt die volumetrische Kapazität eines Behälters durch das Kühlen eines Behälters von Raumtemperatur auf die Temperatur von flüssigem Wasserstoff (77°K) um einen Faktor vier, obwohl die volumetrische Kapazität des Systems, das zur Kühlung des Systems erforderlich ist, aufgrund des erhöhten Volumens darunter liegen wir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 zweite Ansatz umfasst die Entwicklung verformbarer Behälter. Derzeitige Flüssigbenzintanks in Fahrzeugen sind hochverformbar, um den vorhandenen Fahrzeugraum so gut wie möglich zu nutzen. Konzepte für verformbare Tankstrukturen basieren auf der Anbringung von Strukturstützwänden. Interne tragende Zellenstrukturen können auch eine Möglichkeit sein, um eine höhere Verformbarkeit zu erziel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ruckwasserstofftanks [5000 psi (~35 MPa) und 10.000 psi (~70 MPa)] wurden weltweit gemäß den Normen ISO 11439 (Europa), NGV-2 (USA) und Reijikijun Betten (Island) zertifiziert und vom TÜV (Deutschland) und dem Japanischen Institut für Hochdruckgassicherheit (KHK) geprüft.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35040"/>
            <a:ext cx="4570560" cy="3163680"/>
          </a:xfrm>
          <a:prstGeom prst="rect">
            <a:avLst/>
          </a:prstGeom>
          <a:ln w="0">
            <a:noFill/>
          </a:ln>
        </p:spPr>
      </p:sp>
      <p:sp>
        <p:nvSpPr>
          <p:cNvPr id="270"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Flüssigsauerstofftanks</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Energiedichte von Wasserstoff kann verbessert werden, indem Wasserstoff im flüssigen Zustand gelagert wird. Allerdings gibt es bei Flüssigwasserstofftanks die folgenden Probleme: Das Abdampfen des Wasserstoffs, die für das Verflüssigen des Sauerstoffs benötigte Energie, das Volumen, das Gewicht und die Tankkosten. Der Energiebedarf für das Verflüssigen von Wasserstoff ist groß. Üblicherweise werden 30 % des Heizwertes von Wasserstoff für die Verflüssigung benötigt. Daher sind neue Ansätze erforderlich, die diesen Energiebedarf und damit die Kosten der Verflüssigung senken. Das Abdampfen des Wasserstoffs muss aus Kosten- und Effizienzgründen, aufgrund der Fahrzeugbandbreite sowie aus Sicherheitsgründen, wenn die Fahrzeuge auf eingeschränktem Raum abgestellt werden, minimiert oder beseitigt werden. Tanks für Flüssigwasserstoff (LH2) benötigen eine Isolierung, wodurch sich die gravimetrische und volumetrische Kapazität des Systems reduzieren.</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n LH2-Tanks kann bei einem vorgegebenen Volumen mehr Wasserstoff gelagert werden als in Druckgasbehältern. Die volumetrische Kapazität von Flüssigwasserstoff beträgt 0,070 kg/L gegenüber 0,030 kg/L für 10.000-psi-Gasbehältern.</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35040"/>
            <a:ext cx="4570560" cy="3163680"/>
          </a:xfrm>
          <a:prstGeom prst="rect">
            <a:avLst/>
          </a:prstGeom>
          <a:ln w="0">
            <a:noFill/>
          </a:ln>
        </p:spPr>
      </p:sp>
      <p:sp>
        <p:nvSpPr>
          <p:cNvPr id="27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Richtlinie 1999/36/EG über ortsbewegliche Druckgeräte. Eine vorhandene Flasche, die bestimmte Bedingungen erfüllt, kann mit „II” gekennzeichnet werden.</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t>
            </a:r>
            <a:r>
              <a:rPr b="0" lang="de-DE" sz="900" spc="-1" strike="noStrike">
                <a:solidFill>
                  <a:srgbClr val="000000"/>
                </a:solidFill>
                <a:latin typeface="Arial"/>
              </a:rPr>
              <a:t>Negative Flaschenlisten“: Einige Länder innerhalb der Europäischen Union habe Listen spezieller Flaschen erstellt, die aufgrund der ursprünglichen Konstruktionsbedingungen als nicht sicher gelten und entweder außer Betrieb genommen werden müssen oder deren fortgesetzte Verwendung eingeschränkt werden muss.</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folgenden europäischen Normen decken die wiederkehrende Kontrolle, Kontrolle und Neubewertung von Gasbehältern ab:</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 1802: Ortsbewegliche Gasflaschen - Wiederkehrende Prüfung von nahtlosen Gasflaschen aus Aluminium .</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 1803: Ortsbewegliche Gasflaschen - Wiederkehrende Prüfung von geschweißten Gasflaschen aus Kohlenstoffstahl (ausgenommen LPG).</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 1968: Ortsbewegliche Gasflaschen - Wiederkehrende Prüfung von nahtlosen Gasflaschen aus Stahl .</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 12863: Ortsbewegliche Gasflaschen - Wiederkehrende Prüfung und Instandhaltung von Gasflaschen für gelöstes Acetylen .</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Kennzeichnung und Etikettierung neuer statischer Kryo-Behälter ist gemäß EN 13458-1:2002 durchzuführen. Die Richtlinie 97/23/EG und die Harmonisierte Norm EN 13458 geben die Rahmenbedingungen für den Druckschutz von Kryo-Lagertanksystemen vor.</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SO/TC 58: </a:t>
            </a:r>
            <a:r>
              <a:rPr b="0" i="1" lang="de-DE" sz="900" spc="-1" strike="noStrike">
                <a:solidFill>
                  <a:srgbClr val="000000"/>
                </a:solidFill>
                <a:latin typeface="Arial"/>
              </a:rPr>
              <a:t>S</a:t>
            </a:r>
            <a:r>
              <a:rPr b="0" i="1" lang="en-GB" sz="900" spc="-1" strike="noStrike">
                <a:solidFill>
                  <a:srgbClr val="000000"/>
                </a:solidFill>
                <a:latin typeface="Arial"/>
              </a:rPr>
              <a:t>tandardization of gas cylinders, their fittings and characteristics relating to their manufacture and use.</a:t>
            </a:r>
            <a:r>
              <a:rPr b="0" lang="de-DE" sz="900" spc="-1" strike="noStrike">
                <a:solidFill>
                  <a:srgbClr val="000000"/>
                </a:solidFill>
                <a:latin typeface="Arial"/>
              </a:rPr>
              <a:t> Der Umfang beinhaltet keine Kryo-Behälter und Gaspatronen und keine großen ortsbeweglichen Gasbehälter (Die primäre Verantwortlichkeit des TC 58 besteht in der  administrativen Aufsicht für die Untergremi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35040"/>
            <a:ext cx="4570560" cy="3163680"/>
          </a:xfrm>
          <a:prstGeom prst="rect">
            <a:avLst/>
          </a:prstGeom>
          <a:ln w="0">
            <a:noFill/>
          </a:ln>
        </p:spPr>
      </p:sp>
      <p:sp>
        <p:nvSpPr>
          <p:cNvPr id="274" name="PlaceHolder 2"/>
          <p:cNvSpPr>
            <a:spLocks noGrp="1"/>
          </p:cNvSpPr>
          <p:nvPr>
            <p:ph type="body"/>
          </p:nvPr>
        </p:nvSpPr>
        <p:spPr>
          <a:xfrm>
            <a:off x="731880" y="3938760"/>
            <a:ext cx="5440320" cy="535752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Flaschenlagerung</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u den Verfahren für Druckgase gehört unter anderem:</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Flaschen nur einem bestimmten, festgelegten und gekennzeichneten Bereich.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e Druckgasflaschen müssen ordnungsgemäß in Übereinstimmung mit den Anforderungen der US-Behörde OSHA (</a:t>
            </a:r>
            <a:r>
              <a:rPr b="0" i="1" lang="de-DE" sz="900" spc="-1" strike="noStrike">
                <a:solidFill>
                  <a:srgbClr val="000000"/>
                </a:solidFill>
                <a:latin typeface="Arial"/>
              </a:rPr>
              <a:t>Occupational Safety and Health Administration</a:t>
            </a:r>
            <a:r>
              <a:rPr b="0" lang="de-DE" sz="900" spc="-1" strike="noStrike">
                <a:solidFill>
                  <a:srgbClr val="000000"/>
                </a:solidFill>
                <a:latin typeface="Arial"/>
              </a:rPr>
              <a:t>) und anderen Anforderungen gelagert werden. Alle (vollen und leeren) Flaschen müssen aufrecht und durch Ketten und Gurte in Gestellen gesichert gelagert werden, um zu verhindern, dass sie umfall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asflaschen müssen gesichert werden, um ein Umfallen durch unabsichtlichen Kontakt, Vibration oder Erdbeben zu verhindern.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laschen müssen auf eine der folgenden Arten gesichert werd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Flaschen aufrecht.</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ssen Sie die Stahlschutzkappe immer angeschraubt. Dadurch reduziert sich die Wahrscheinlichkeit, dass ein Stoß gegen das Ventil dazu führt, dass das Gas austrit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Ordnen Sie Flaschen nach Gasart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volle und leere Flaschen getrennt voneinand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Kennzeichnen Sie leere Flaschen und Flaschen, die für die Rücksendung an den Lieferanten bestimmt sind.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Gase so, dass alte Vorräte zuerst entnommen und verwendet werd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ichern Sie Flaschen mit Ketten oder Seilen, um zu verhindern, dass sie umfall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Druckgasbehälter in trockenen, gut belüfteten Bereichen und nicht in der Nähe von Ausgängen und Treppen. Wenn sie im Freien gelagert werden, sollten Behälter nicht auf dem Boden und nicht in extrem heißen oder extrem kalten Umgebungen gelagert werd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eine Flasche nicht geöffnet werden kann, darf das Ventil niemals aufgebrochen werden. Wenn ein Ventil nicht per Hand geöffnet werden kann, sollten die Flaschen zurückgegeben und gegen eine andere ausgetauscht werden. Mitarbeiter dürfen nicht versuchen, Flaschen oder Flaschenventile zu reparieren oder verklebte oder gefrorene Ventile aufzubrech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Druckgasflaschen nicht in Bereichen mit hohem Fußgänger- oder Verkehrsaufkomm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Sauerstoffflaschen mindestens 6 Meter von entzündbaren oder brennbaren Stoffen entfernt oder trennen Sie sie diese durch einen 1,50 m starken Feuerschutz ab.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alten Sie Öl und Fett fern von Sauerstoffflaschen, -ventilen und -schläuch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Ihre Hände, Handschuhe oder Bekleidung ölig sind, hantieren Sie nicht mit Sauerstoffflasch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tellen Sie sicher, dass sich in der Nähe des Lagerbereichs Feuerlöscher befinden, die für die dort gelagerten Gase geeignet sind.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tellen Sie an den Orten, an denen Gase gelagert werden, Schilder, die den bzw. die Namen des bzw. der entsprechenden Gase angeben, und RAUCHEN VERBOTEN-Schilder auf.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35040"/>
            <a:ext cx="4570560" cy="3163680"/>
          </a:xfrm>
          <a:prstGeom prst="rect">
            <a:avLst/>
          </a:prstGeom>
          <a:ln w="0">
            <a:noFill/>
          </a:ln>
        </p:spPr>
      </p:sp>
      <p:sp>
        <p:nvSpPr>
          <p:cNvPr id="276" name="PlaceHolder 2"/>
          <p:cNvSpPr>
            <a:spLocks noGrp="1"/>
          </p:cNvSpPr>
          <p:nvPr>
            <p:ph type="body"/>
          </p:nvPr>
        </p:nvSpPr>
        <p:spPr>
          <a:xfrm>
            <a:off x="731520" y="3886200"/>
            <a:ext cx="5592600" cy="5486400"/>
          </a:xfrm>
          <a:prstGeom prst="rect">
            <a:avLst/>
          </a:prstGeom>
          <a:noFill/>
          <a:ln w="0">
            <a:noFill/>
          </a:ln>
        </p:spPr>
        <p:txBody>
          <a:bodyPr lIns="0" rIns="0" tIns="0" bIns="0" anchor="t">
            <a:noAutofit/>
          </a:bodyPr>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Flaschen mit einem Kran oder Ladebaum transportiert werden, sollte ein Hängegerüst, ein Schiffchen oder eine geeignete Bühne verwendet werden. Schlingen oder Elektromagnete sollten hierfür nicht verwendet werden. Ventilschutzkappen (bei Flaschen, die für die Aufnahme einer Kappe konstruiert wurde) sollten immer angebracht sei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sollten bewegt werden, in dem Sie gekippt und auf ihren Unterkanten gerollt werden. Flaschen sollten nicht geschliffen und gezogen werden. Wenn Flaschen mit einem Fahrzeug transportiert werden, müssen Sie gesichert werden. Flaschen sollten nicht gestoßen werden und es sollte verhindert werden, dass sie heftig gegeneinander stoß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ntilschutzkappen sollten nicht verwendet werden, um Flaschen aus einer vertikalen Position in eine andere anzuheben. Stangen sollten nicht unter Ventilen oder Ventilschutzklappen verwendet werden, um Flaschen loszubrechen, wenn diese am Boden festgefroren sind oder anderweitig befestigt wurden. Es wird empfohlen, warmes (kein kochendes) Wasser zu verwenden. Ventilschutzklappen sollen Flaschenventile vor Schäden schützen. Bevor Sie Flaschen, die mit Ventilschutzkappen ausgestattet sind, aus einer horizontalen in eine vertikale Position bringen, sollte die Kappe richtig angebracht werden. Die Kappen sollten im Uhrzeigersinn gedreht werden, um sicherzustellen, dass die Kappe handfest sitzt.</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Um zu verhindern, dass Flaschen während der Verwendung umkippen, sollte ein geeigneter Flaschenwagen, eine geeignete Kette oder eine andere Stabilisierungsvorrichtung verwendet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rden die Flaschen nicht auf einem Spezialwagen gesichert, sollten die Regler entfernt werden und, sofern sie vorgesehen sind, sollten vor dem Transport der Flaschen Ventilschutzkappen angebracht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ohne Handräder sollten Schlüssel, Griffe oder nicht verstellbare Schraubenschlüssel an den Ventilschäften haben, während diese Flaschen in Betrieb sind. Bei Anlagen mit mehreren Flaschen wird nur ein Schlüssel oder Griff für jeden Verteiler benötigt.</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vor Sie die Flaschen bewegen, sollten die Ventile geschlossen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Flaschenventile sollten bei Beendigung der Arbeiten geschlossen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Ventile leerer Flaschen sollten geschlossen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sollten nicht in Bereichen abgestellt werden, in denen sie in Kontakt mit einem elektrischen Stromkreis kommen oder Teil desselben werden könnten. Kontakt mit Stromschienen, Oberleitungen usw. sollten ebenfalls vermieden werden. Flaschen sollten von Heizkörpern, Rohrleitungssystemen, Leuchttischen usw. ferngehalten werden, die zum Erden elektrischer Stromkreise verwendet werden können, wie zum Beispiel das Abstechen einer Elektrode gegen eine Flasche, um einen Lichtbogen zu richten. </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sollten niemals als Rollen oder Stützen verwendet werden, unabhängig davon, ob sie voll oder leer sind.</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Leere Flaschen sollten als „Leer“ gekennzeichnet, von vollen Flaschen getrennt und umgehend mit angebrachten Ventilschutzklappen an den Lieferanten zurück geschickt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Niemand sollte an Sicherheitsvorrichtungen von Flaschen oder Ventilen hantieren oder diese entfernen.</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35040"/>
            <a:ext cx="4570560" cy="3163680"/>
          </a:xfrm>
          <a:prstGeom prst="rect">
            <a:avLst/>
          </a:prstGeom>
          <a:ln w="0">
            <a:noFill/>
          </a:ln>
        </p:spPr>
      </p:sp>
      <p:sp>
        <p:nvSpPr>
          <p:cNvPr id="278" name="PlaceHolder 2"/>
          <p:cNvSpPr>
            <a:spLocks noGrp="1"/>
          </p:cNvSpPr>
          <p:nvPr>
            <p:ph type="body"/>
          </p:nvPr>
        </p:nvSpPr>
        <p:spPr>
          <a:xfrm>
            <a:off x="731880" y="3938760"/>
            <a:ext cx="5440320" cy="535752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Schulungsanforderungen und Kompetenzbewertung</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lle Personen, die mit dem Betrieb bzw. mit der Wartung von Wasserstoffstationen/-systemen zu tun haben, sollten eine Schulung erhalten haben, die für die Arbeit, für die sie eingestellt werden, geeignet is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se Mitarbeiter sollten für die Aufgaben, die sie ausüben sollen, geeignet sein und sie sollten ihren Vorgesetzten zu deren Zufriedenheit nachgewiesen haben, dass sie die Schulung, die sie erhalten haben, verstanden haben und dass sie in der Lage sind, bei einem Notfall alle erforderlichen Maßnahmen zu ergreif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as Personal sollte leitfähige Schuhe und Bekleidung aus nicht-synthetischen Materialien tragen, um die Bildung statischer Elektrizität zu vermeid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Schulung sollte so organisiert sein, dass sie alle Aspekte und alle möglichen Gefahren abdeckt, die insbesondere dem Bedienpersonal begegnen könn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ie sollten unter anderem Folgendes für das gesamte Personal abdeck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Die möglichen Gefahren von Wasserstoff</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Die Sicherheitsvorschriften vor Or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Notfallmaßnam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Die Verwendung von Brandschutzgerät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Die Verwendung von Schutzbekleidung/-vorrichtungen, gegebenenfalls einschließlich Atemgerät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Zusätzlich sollten alle Personen eine spezielle Schulung für die Tätigkeiten erhalten, für die sie angestellt werden.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s wird empfohlen, dass die Schulung gemäß einem formalisierten System durchgeführt wird und dass Aufzeichnungen von der durchgeführten Schulung gemacht werden, um aufzuzeigen, wo zusätzliche Schulungen erforderlich sin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as Schulungsprogramm sollte regelmäßige Auffrischungskurse vorseh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llgemeine Schulungselemente sollte Folgendes umfass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e und  Geräte an der Schulungseinrichtung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Gefahren von Druckgasen und Gerät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Persönliche Schutzausrüstung.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Prüfungsmaßnahm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handlung.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Lagerverfahr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rwendungsverfahr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Gasspezifische Sicherheitsmaßnahm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notfallmaßnahmen.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35040"/>
            <a:ext cx="4570560" cy="3163680"/>
          </a:xfrm>
          <a:prstGeom prst="rect">
            <a:avLst/>
          </a:prstGeom>
          <a:ln w="0">
            <a:noFill/>
          </a:ln>
        </p:spPr>
      </p:sp>
      <p:sp>
        <p:nvSpPr>
          <p:cNvPr id="280" name="PlaceHolder 2"/>
          <p:cNvSpPr>
            <a:spLocks noGrp="1"/>
          </p:cNvSpPr>
          <p:nvPr>
            <p:ph type="body"/>
          </p:nvPr>
        </p:nvSpPr>
        <p:spPr>
          <a:xfrm>
            <a:off x="731520" y="3938400"/>
            <a:ext cx="5468760" cy="54385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vor die Flasche zum ersten Mal verwendet wird, sollten die folgenden Vorsichtsmaßnahmen ergriffen werd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tellen Sie sicher, dass die Flasche mit dem korrekten Regler ausgestattet ist. Verwenden Sie immer einen Regler, der für das verwendete Material bestimmt ist, und achten Sie insbesondere darauf, dass unter keinen Umständen Fett oder Öl am Regler oder an den Flaschenventilen verwendet werden, da diese Substanzen eine negative, gefährliche Reaktion innerhalb der Flasche auslösen könn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Flasche sollte so aufgestellt werden, dass sich der Ventilhebel oben befindet und jederzeit leicht zugänglich ist.</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Öffnen Sie das Ventil langsam und nur, wenn der richtige Regler angebracht ist. Das Ventil sollte vollständig geöffnet werden. Lassen Sie das Ventil niemals halb offen, öffnen Sie es entweder ganz oder schließen Sie es ganz.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as Ventil sollte niemals offen gelassen werden, wenn das Gerät nicht verwendet wird, selbst wenn die Flasche leer ist. Luft und Feuchtigkeit können durch ein offenes Ventil eindringen und Kontamination und Korrosion innerhalb der Flasche verursach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ein giftiges oder reizendes Gas verwendet wird, sollte das Ventil nur geöffnet werden, solange sich die Flasche in einem funktionierenden Abzugsschrank befindet. Und selbst dann, sollte man das Ventil und den möglichen Gasstrom vorsichtshalber vom Laborpersonal weg halten.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Flaschen verwendet werden, sollte Folgendes berücksichtigt werd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rwärmen Sie die Flasche niemals, um den Druck des Gases zu erhöhen – dadurch kann der vom Lieferanten eingebaute Sicherheitsmechanismus beschädigt werd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alten Sie die Flasche frei von Funken, Flammen und elektrischen Stromkreis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rlassen Sie sich niemals auf die Farbcodierung, um das Gas zu identifizieren! Verschiedene Hersteller verwenden möglicherweise unterschiedliche Codierungssystem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füllen Sie eine Flasche niemals neu – das Vermischen von Restgasen in einem beschränktem Raum kann zu einer schwerwiegenden und zerstörerischen Reaktion führ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rwenden Sie niemals Sauerstoff anstelle von Druckluf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rwenden Sie bei Acetylenbehältern keine Kupferarmaturen oder –rohre. Dies könnte zu einer Explosion führ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ragen Sie eine Sicherheitsausrüstung, die für das Gefahrpotential des Materials, mit dem Sie arbeiten, geeignet ist.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35040"/>
            <a:ext cx="4570560" cy="3163680"/>
          </a:xfrm>
          <a:prstGeom prst="rect">
            <a:avLst/>
          </a:prstGeom>
          <a:ln w="0">
            <a:noFill/>
          </a:ln>
        </p:spPr>
      </p:sp>
      <p:sp>
        <p:nvSpPr>
          <p:cNvPr id="28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Kryogene Flüssigkeit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e kryogenen Flüssigkeiten sollten wegen möglicher Haut- oder Augenschäden durch die niedrige Temperatur und aufgrund der Gefahren, die mit der Druckbildung in geschlossenen Rohrleitungen oder Behältern verbunden sind, mit Vorsicht verwendet werde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empfohlene Ausrüstung für den Transport kryogener Flüssigkeiten besteht aus einem Vollgesichtsschild, locker sitzenden Kälteschutzhandschuhen, einer Schürze und einer Hose ohne Aufschla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Tragbare Behälter sollten nur verwendet werden, wo ausreichende Belüftung vorhanden ist. Stellen Sie Behälter nicht in einem Schrank oder in einem anderen geschlossenen Raum ab, der nicht über eine Belüftung verfügt. Die Bildung von Inertgas in einem solchen Bereich könnte eine sauerstoffarme Atmosphäre erzeug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pezielle Vakuummantelbehälter mit locker sitzenden Deckeln sollten für die Handhabung keiner Mengen verwendet werden. Vom Gaslieferanten bereit gestellte Vakuummantelbehälter verfügen über Überdruckentlastungsvorrichtung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Jeder Raum, indem sich kryogene Flüssigkeiten ansammeln können (berücksichtigen Sie Undichtheiten in geschlossenen Geräten), müssen belüftet oder durch Überdruckentlastungsvorrichtungen geschützt werden. Enorme Drücken können dazu führen, dass die Flüssigkeit in geschlossenen Räumen zu Gas wird. Ein Kubikzentimeter flüssigen Wasserstoffs dehnt sich beispielsweise auf das 700-fache seines Volumens aus, wenn er in seinen gasförmigen Zustand übergeht (sich erwärm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hälter, die mit kryogenen Flüssigkeiten befüllt werden sollen, sollten langsam befüllt werden, um Spritzer zu vermeid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Kryo-Behälter, die Anzeichen für einen Vakuumverlust in ihrer Außenhülle aufweisen (Eisbildung an der Außenseiten des Behälters), sollten nicht vom Gaslieferanten abgenommen werden. Kontakt mit Luft (oder Gasen mit einem höheren Siedepunkt), können zu einem Eisstopfen in einem Kryo-Behälter führen.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35040"/>
            <a:ext cx="4570560" cy="3163680"/>
          </a:xfrm>
          <a:prstGeom prst="rect">
            <a:avLst/>
          </a:prstGeom>
          <a:ln w="0">
            <a:noFill/>
          </a:ln>
        </p:spPr>
      </p:sp>
      <p:sp>
        <p:nvSpPr>
          <p:cNvPr id="284"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eine sichere Konstruktion von Wasserstoffrohrleitung- oder Verteilungssystemen, sind folgende Punkte zu berücksichtig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okale Bedingung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ltenden Rohrvorschriften für die mechanische Konstruktion und Install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triebsbedingungen (Flüssigkeitszusammensetzung, Gasgeschwindigkeit, Druck, Temperatur und Taupunk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swahl metallischer Materiali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swahl nichtmetallischer Materiali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Nationale Gesetze und Vorschrift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Reinheitsnormen für den Betrieb</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dustrierichtlinien im Zusammenhang mit Wasserstoffsystem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fahrenüberlegun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gibt eine Reihe von Sprödbruchmechanismen oder Zersetzungseffekten. Die Folgenden sind für die Beförderung von Wasserstoff in Rohrleitungen releva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Innenkorrosion -&gt; Wasserstoffversprödung bei Umgebungstemperatur</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Außenkorrosion -&gt; Spannungsrisskorrosion (SPRK) von Rohrmaterialien in unterirdischen Umgebun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gemein sind die folgenden metallurgischen Überlegungen von Bedeutung:</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sollten bevorzugt Legierungen mit homogenen feinkörnigen Mikrostrukturen verwendet werd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Übermäßig harte oder hochfeste Legierungen sollten vermieden werden (für die Verwendung in Rohrleitungen  sollte die Härte maximal 22 HRC oder 250 HB betrag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Verwenden Sie Stähle mit verbesserter Reinheit, damit nichtmetallische Inklusionen, die die Zähigkeit und die Widerstandsfähigkeit gegenüber Wasserstoffversprödung reduzieren, minimiert werd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Komponenten sollten frei von größeren Oberflächen- und inneren Schäden sein</a:t>
            </a:r>
            <a:endParaRPr b="0" lang="en-US" sz="900" spc="-1" strike="noStrike">
              <a:solidFill>
                <a:srgbClr val="000000"/>
              </a:solidFill>
              <a:latin typeface="Arial"/>
            </a:endParaRPr>
          </a:p>
          <a:p>
            <a:pPr indent="0">
              <a:lnSpc>
                <a:spcPct val="90000"/>
              </a:lnSpc>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145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Metallische Materialien: Festigkeit, Härte und Mikrostruktur, ASTM G 142-98 </a:t>
            </a:r>
            <a:r>
              <a:rPr b="0" lang="es-ES" sz="900" spc="-1" strike="noStrike">
                <a:solidFill>
                  <a:srgbClr val="000000"/>
                </a:solidFill>
                <a:latin typeface="Arial"/>
              </a:rPr>
              <a:t>“</a:t>
            </a:r>
            <a:r>
              <a:rPr b="0" i="1" lang="es-ES" sz="900" spc="-1" strike="noStrike">
                <a:solidFill>
                  <a:srgbClr val="000000"/>
                </a:solidFill>
                <a:latin typeface="Arial"/>
              </a:rPr>
              <a:t>Standard Test Method for Determination of Susceptibility of Metals to Embrittlement in Hydrogen Containing Environments at High Pressure, High Temperature, or Both</a:t>
            </a:r>
            <a:r>
              <a:rPr b="0" lang="es-E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35040"/>
            <a:ext cx="4570560" cy="3163680"/>
          </a:xfrm>
          <a:prstGeom prst="rect">
            <a:avLst/>
          </a:prstGeom>
          <a:ln w="0">
            <a:noFill/>
          </a:ln>
        </p:spPr>
      </p:sp>
      <p:sp>
        <p:nvSpPr>
          <p:cNvPr id="246"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
        <p:nvSpPr>
          <p:cNvPr id="247" name="3 Marcador de encabezado"/>
          <p:cNvSpPr/>
          <p:nvPr/>
        </p:nvSpPr>
        <p:spPr>
          <a:xfrm>
            <a:off x="512640" y="193680"/>
            <a:ext cx="5832720" cy="28260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8" name="4 Marcador de número de diapositiva"/>
          <p:cNvSpPr/>
          <p:nvPr/>
        </p:nvSpPr>
        <p:spPr>
          <a:xfrm>
            <a:off x="5324400" y="9377280"/>
            <a:ext cx="1020960" cy="21132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de-DE" sz="800" spc="-1" strike="noStrike">
                <a:solidFill>
                  <a:srgbClr val="000000"/>
                </a:solidFill>
                <a:latin typeface="Arial"/>
              </a:rPr>
              <a:t>Seite </a:t>
            </a:r>
            <a:fld id="{4640F91F-AD68-419B-9ABC-985592B8088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35040"/>
            <a:ext cx="4570560" cy="3163680"/>
          </a:xfrm>
          <a:prstGeom prst="rect">
            <a:avLst/>
          </a:prstGeom>
          <a:ln w="0">
            <a:noFill/>
          </a:ln>
        </p:spPr>
      </p:sp>
      <p:sp>
        <p:nvSpPr>
          <p:cNvPr id="286"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Viele metallische Materialien können in wasserstoffhaltigen Umgebungen verspröden. Dazu gehören Stähle (insbesondere hochfeste Stähle), Edelstähle und Nickellegierun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ähle, die für Wasserstoffrohrleitungen verwendet werden, sollten eine maximale Härte von ca. 22 HRC (Rockwellhärte C) oder 250 HB (Brinellhärte) haben. Diese Härtegrenze entspricht in etwa einer Zugfestigkeitsgrenze von ca. 116 ksi (800 MPa). Schweißnähte sollten eine maximale Härte von 22 HRC oder 250 HB habe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s sollte angemerkt werden, dass der geschweißte Bereich oft härter und daher anfälliger für Versprödung ist als das Grundmetal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Hinweis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Bewerten Sie die Eignung des Materials bezüglich der Widertandsfähigkeit gegenüber Wasserstoffversprödung (siehe ISO 11114-4 and B4).</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Ultrahochreiner Wasserstoff wird üblicherweise in elektropolierten 316L-Edelstahlrohren transportiert.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ie Konstruktion, Herstellung, Prüfung, Untersuchung und Probe muss in Übereinstimmung mit den nationalen oder internationalen Normen wie zum Beispiel ASME B31.3 und B31.8. erfolgen.</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35040"/>
            <a:ext cx="4570560" cy="3163680"/>
          </a:xfrm>
          <a:prstGeom prst="rect">
            <a:avLst/>
          </a:prstGeom>
          <a:ln w="0">
            <a:noFill/>
          </a:ln>
        </p:spPr>
      </p:sp>
      <p:sp>
        <p:nvSpPr>
          <p:cNvPr id="288"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Schweißnäht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eine akzeptable Schweißzonenhärte zu erzielen, ist es möglicherweise erforderlich, Stähle mit einer geringeren Festigkeit als oben angegeben (500 MPa) zu verwenden. Spezielle Schweißverfahren und Wärmebehandlungen vor oder nach dem Schweißen können ein weiterer Ansatz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den Rohrleitungssystemen werden möglicherweise Puffer benötigt, üblicherweise nahtlose Druckbehälter. Stähle, die für nahtlose Druckbehälter verwendet werden, können eine UTS (Zugfestigkeit) von bis zu 950 MPa (ISO 9809 und ISO 11120) hab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Legierungen, die an schwierigen Stellen verwendet werden, sollten hohe Zähigkeitsgrade in der hergestellten Bedingung aufweisen und relativ unempfindlich für Schweißprobleme wie z.B. harte/spröde Bereiche, Mikrorisse, Risse usw. sei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Rohrabschnitte sollten unter Verwendung eines anerkannten Schweißverfahrens zusammen geschweißt werden. Es ist von wesentlicher Bedeutung, dass die inneren Schweißflächen glatt und im Wesentlichen frei von Schlacke, Wülsten oder losen Partikeln sind, um die innere Reinheit zu bewahren. Es wird empfohlen, dass die Wurzellage aller Stumpfschweißnähte mit einer Schweißtechnik ausgeführt wird, die eine Spülung mit Inertgas verwendet, da dies die Wahrscheinlichkeit von Schlackeablagerungen an der Unterseite der Schweißnaht reduziert. Wo Schweißverbindungen nicht möglich sind, sollten - sofern durchführbar - Flanschverbindungen verwende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e Rohrschweißarbeiten sollten in Übereinstimmungen mit den Schweißverfahren und durch für diese Verfahren qualifizierte Schweißer gemäß den Rohrleitungsvorschriften laut der Projektspezifikation und gemäß den lokalen und nationalen Gesetzen durchgeführ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muss sichergestellt werden, dass alle Schweißmuster die gleiche Festigkeit und Zähigkeit haben wie das Grundmetall. Der Härtegrad der Schweißnähte und der Wärmeeinflusszone (WEZ) von Schweißnähten sollten Rockwell C 22 nicht überschreiten. Dies entspricht Vickers 248 oder 250 HB. Die Härtebestimmung ist durch Mikrohärte-Travesen durchzuführen, die auf metallographischen Proben angebracht werden, die von den  Schweißproben entnommen wu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ydrostatische Prüfungen -&gt; Ein Rohr sollte zwischen 75 und 100 % der spezifischen Mindeststreckgrenze mit einer Haltezeit unter Druck von mindestens 5 - 10 Sekunden (je nach Durchmesser) geprüf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35040"/>
            <a:ext cx="4570560" cy="3163680"/>
          </a:xfrm>
          <a:prstGeom prst="rect">
            <a:avLst/>
          </a:prstGeom>
          <a:ln w="0">
            <a:noFill/>
          </a:ln>
        </p:spPr>
      </p:sp>
      <p:sp>
        <p:nvSpPr>
          <p:cNvPr id="290" name="PlaceHolder 2"/>
          <p:cNvSpPr>
            <a:spLocks noGrp="1"/>
          </p:cNvSpPr>
          <p:nvPr>
            <p:ph type="body"/>
          </p:nvPr>
        </p:nvSpPr>
        <p:spPr>
          <a:xfrm>
            <a:off x="731520" y="3700440"/>
            <a:ext cx="5468760" cy="6013440"/>
          </a:xfrm>
          <a:prstGeom prst="rect">
            <a:avLst/>
          </a:prstGeom>
          <a:noFill/>
          <a:ln w="0">
            <a:noFill/>
          </a:ln>
        </p:spPr>
        <p:txBody>
          <a:bodyPr lIns="0" rIns="0" tIns="0" bIns="0" anchor="t">
            <a:noAutofit/>
          </a:bodyPr>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u="sng">
                <a:solidFill>
                  <a:srgbClr val="000000"/>
                </a:solidFill>
                <a:uFillTx/>
                <a:latin typeface="Arial"/>
              </a:rPr>
              <a:t>Ventile</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llgemeine Empfehlungen: Im Allgemeinen ist das Problem bei den meisten Rohrleitungen und Geräten, die mit Wasserstoff verwendet werden, das gleiche wie beim Betrieb mit anderen entzündbaren Gasen, mit dem Unterschied, dass die Wahrscheinlichkeit, dass Undichtheiten auftreten, höher ist. Die Konstruktion, Installation und Prüfung sind daher sehr wichtig. </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ntilfunktionen: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bsperr- und Notfallabsperrventile,</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teuer- und Druckminderungsventile und -regler,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icherheitsventile,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anuelle Belüftungs- und Ablassventile,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Überlaufventile,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ontrollventile (Rückschlagventile)</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ntiltypen:</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Kugel- und Kegelventile:</a:t>
            </a:r>
            <a:r>
              <a:rPr b="0" lang="de-DE" sz="800" spc="-1" strike="noStrike">
                <a:solidFill>
                  <a:srgbClr val="000000"/>
                </a:solidFill>
                <a:latin typeface="Arial"/>
              </a:rPr>
              <a:t> Sie lassen sie von Natur aus schnell öffnen und verfügen über eine gute Dichtung. Sie werden bevorzugt als Absperr-,  Überlauf- und Belüftungs- und Ablassventile verwendet. Sie können unter bestimmten Umständen auch als Steuerventile verwendet werden, wenngleich ihre Steuereigenschaften allgemein weniger präzise sind als bei Kugelventilen und Drosselklappen.</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Drosselklappen:</a:t>
            </a:r>
            <a:r>
              <a:rPr b="0" lang="de-DE" sz="800" spc="-1" strike="noStrike">
                <a:solidFill>
                  <a:srgbClr val="000000"/>
                </a:solidFill>
                <a:latin typeface="Arial"/>
              </a:rPr>
              <a:t> Es können auch Scheibenventile mit Exzenterscheiben verwendet werden (Hochleistungsdrosselklappen). Sie können als Steuerventil verwendet werden, wenn der Druckabfall innerhalb des Ventils nicht zu groß ist. Der Hauptnachteil besteht darin, dass der Ventilsitz in besonderem Maße Partikelschäden ausgesetzt ist. Wenn diese Ventile gewählt werden, sollte es sich dabei um Doppelexzenter- und blasendichte Absperrventile handeln. Drosselklappen sind nicht für ein internes Rohrleitungsprüfgerät geeignet, da sich die Scheibe und der Stift permanent im Strömungsweg befinden.</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Schieberventile:</a:t>
            </a:r>
            <a:r>
              <a:rPr b="0" lang="de-DE" sz="800" spc="-1" strike="noStrike">
                <a:solidFill>
                  <a:srgbClr val="000000"/>
                </a:solidFill>
                <a:latin typeface="Arial"/>
              </a:rPr>
              <a:t> Dabei handelt es sich um robuste und bewährte Ventile, die üblicherweise verwendet werden, um Ströme zu blockieren. Der Hauptnachteil besteht darin, dass sie, außer bei bestimmten Konstruktionen mit weichen Dichtstreifen auf den Scheiben, nicht so dicht sind wie Kugel-, Kegelventile, Drosselklappen oder Hubventile. Um dies abzuschwächen, sollten sie mit flexiblen Keilen (Sperren) ausgestattet sein. Schieberventile sind für interne Rohrleitungsprüfgeräte geeignet.</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Hubventile:</a:t>
            </a:r>
            <a:r>
              <a:rPr b="0" lang="de-DE" sz="800" spc="-1" strike="noStrike">
                <a:solidFill>
                  <a:srgbClr val="000000"/>
                </a:solidFill>
                <a:latin typeface="Arial"/>
              </a:rPr>
              <a:t> Sie werden üblicherweise in Steueranwendungen und dort, wo eine dichte Absperrung ein vorrangiges Problem ist, verwendet. Sie werden aufgrund ihrer dichten Absperrung außerdem bei automatischen Belüftungs- und Trennventilen verwendet. Das Gas, das durch ein Hubventil strömt, muss zwangsläufig seine Richtung ändern, was an seinen präzisen Steuereigenschaften liegt. Allerdings sind Hubventile dadurch anfälliger für Verschleiß und Abrieb. Aus diesem Grund sollte bei Anwendungen mit einem großen Druckabfall innerhalb des Ventils die Verwendung gehärteter Kegel- und Sitzmaterialien in Erwägung gezogen werden. Die hohe Schallgeschwindigkeit von Wasserstoff hat zur Folge, dass dieses Problem bei niedrigeren Druckfällen als bei den meisten anderen Gasen auftritt.</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Überdruckventile:</a:t>
            </a:r>
            <a:r>
              <a:rPr b="0" lang="de-DE" sz="800" spc="-1" strike="noStrike">
                <a:solidFill>
                  <a:srgbClr val="000000"/>
                </a:solidFill>
                <a:latin typeface="Arial"/>
              </a:rPr>
              <a:t> Diese Ventile sind speziell dafür bestimmt, Überdruck an einem Objekt oder System zu verhindern, indem der Anstieg des Innendrucks automatisch und zuverlässig durch das Ablassen von Gas gestoppt wird, sobald ein voreingestellter Druck erreicht wurde. Es gibt  verschiedene Typen und Arten von Überdruckventilen. Dazu gehören u.a. direktwirkende, Servo-, variable Rückschlagventile usw. Obwohl verschiedene Materialien für das Ventilgehäuse verwendet werden können, wird empfohlen, entweder Kohlenstoffstahl oder Edelstahl zu verwenden, da diese Materialien wirtschaftlich sind und einige der möglichen Korrosionsprobleme verhindern, die auftreten könnten, wenn Verunreinigungen in die Rohrleitung eindringen.</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Kontrollventile (Rückschlagventile):</a:t>
            </a:r>
            <a:r>
              <a:rPr b="0" lang="de-DE" sz="800" spc="-1" strike="noStrike">
                <a:solidFill>
                  <a:srgbClr val="000000"/>
                </a:solidFill>
                <a:latin typeface="Arial"/>
              </a:rPr>
              <a:t> Diese Ventile sind speziell dafür bestimmt, einen Durchfluss in eine Richtung zuzulassen und einen Durchfluss in die andere Richtung zu stoppen. Es gibt zahlreiche Typen wie zum Beispiel Klappen-, Klappen, Kugel-, Teller- und Federventile, schwerkraftbetätigte, hydraulisch unterstützte Ventile usw. Um den Rückfluss zu reduzieren, wenn das Ventil geschlossen ist, werden ein weicher Sitz in einer Metallhalterung oder speziell überlappte Metallsitze bevorzugt, insbesondere, wenn schon ein kleiner Rückfluss ein erhebliches Risiko darstellen würde.</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35040"/>
            <a:ext cx="4570560" cy="3163680"/>
          </a:xfrm>
          <a:prstGeom prst="rect">
            <a:avLst/>
          </a:prstGeom>
          <a:ln w="0">
            <a:noFill/>
          </a:ln>
        </p:spPr>
      </p:sp>
      <p:sp>
        <p:nvSpPr>
          <p:cNvPr id="29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Wasserstoffsensor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in Sensor ist ein Gerät, das eine reale Bedingung wie zum Beispiel Bewegung, Wärme oder Licht misst oder feststellt und die Bedingung in eine analoge oder digitale Darstellung umwandel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der Auswahl des besten Sensors sollten die folgenden Punkte berücksichtigt werd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as und Konzentrationsbereich</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est oder tragbar, Punktsensor oder Open-Path-Sensor</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gebung (Feuchtigkeit, Temperatur, Druck, Gasgeschwindigkeit, chemische Gifte bzw. Störstoffe): Temperatur-, Druck- und Feuchtigkeitsbereiche kommerzieller Produkte sind im Allgemeinen für Innenanwendungen geeignet, bei denen eine akzeptable Umweltkontrolle vorhanden ist. Mobile Anwendungen bzw. plötzliche Änderungen sind ein empfindliches Problem.</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tromverbrauch, Reaktionszeit, Wartungsinterval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onach sollte man fra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Nach den drei wichtigsten Punkten der Gasdetek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he Empfindlichkei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he Selektivitä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he Stabilitä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n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infache Systemintegr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ringer Energieverbrauch (10 mW)</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Rauscharm</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nge Lebensdauer und Kalibrierintervalle: Eine lange Lebensdauer eines Detektors befreit nicht von regelmäßiger Wartung und Kalibrierung.  Signaldrift aufgrund von Umweltbedingungen, Zersetzung aufgrund längerer Exposition gegenüber Reduktionsgas unter dem Alarmniveau bzw. plötzliche Exposition gegenüber hohen Konzentrationen sind Faktoren, die zu berücksichtigen sin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ringe Querempfindlichkeit: Die Empfindlichkeit wird selten als Grenze der Detektion ausgedrückt. Von den Auflösungsdaten kann zumindest ein Hinweis gewonnen werden. Elektrochemische Sensoren verbinden eine hohe Auflösung mit einer guten Wiederholbarkeit. Systeme mit einem großen Bereich haben logischerweise die niedrigste Auflösung.</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chnelle Reaktion/Wiederherstellung: Gate-Feld-, akustische und kombinierte (Gate-Feld + Widerstand) Systeme können eine sehr schnelle Reaktion haben und 90 % des Signals innerhalb von 1 bis 3 Sekunden nach der Exposition erreichen. WLD-, MOS- und einige katalytische Sensoren haben eine etwas niedrigere aber immer noch sehr schnelle Reaktion (innerhalb von 5 bis 10 - 20 Sekunden). Elektrochemische Sensoren haben die langsamste Reaktion mit mindestens T(90) = 30 s und einem Maximum von T(90) = 110 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igensicherhei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Niedrige Kosten</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35040"/>
            <a:ext cx="4570560" cy="3163680"/>
          </a:xfrm>
          <a:prstGeom prst="rect">
            <a:avLst/>
          </a:prstGeom>
          <a:ln w="0">
            <a:noFill/>
          </a:ln>
        </p:spPr>
      </p:sp>
      <p:sp>
        <p:nvSpPr>
          <p:cNvPr id="294"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Gasdruckregl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primäre Funktion eines Gasdruckreglers besteht darin, Hochdruckgas in einer Flasche oder in einer Verfahrenslinie auf ein niedrigeres, verwendbares Niveau zu reduzieren, wenn es in ein anderes Gerät übergeht. Dies kann auch dazu dienen, den Druck innerhalb eines Systems beizubehalten. Allerdings ist ein Regler kein Strömungswächter. Er wird nur verwendet, um den Förderdruck zu regeln. </a:t>
            </a:r>
            <a:br>
              <a:rPr sz="900"/>
            </a:br>
            <a:r>
              <a:rPr b="0" lang="de-DE" sz="900" spc="-1" strike="noStrike">
                <a:solidFill>
                  <a:srgbClr val="000000"/>
                </a:solidFill>
                <a:latin typeface="Arial"/>
              </a:rPr>
              <a:t>Es gibt vier Haupttypen von Gasdruckreglern, die durch ihre spezielle Anwendungsfunktion oder durch die Systeme, in denen sie am besten funktionieren, bestimmt werden: Leitungsregler, Mehrzweckregler, Hochreinheitsrelger und Spezialregler.</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eitungsregler sind üblicherweise Point-of-use-Regler, die in Niederdruckrohrleitungen verwendet werden. Sie werden außerdem in Verbindung mit Hochdruckflaschenreglern verwendet, die den Einlassdruck auf 250 bis 400 psig reduzier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niversalregler sind auf Wirtschaftlichkeit und Langlebigkeit ausgelegt. Sie werden für nichtkorrosive Anwendungen in allgemeinen Anlagen und Versuchsanlagen und in Wartungsanwendungen empfohl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chreinheitsregler sind dafür bestimmt und konstruiert, Diffusionswiderstand zu bieten und leichte Reinigung zu ermöglichen. Metallmembrane und Hochreinheitssitze reduzieren oder beseitigen Entgasung und Innendiffusio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pezialregler werden speziell für Spezialanwendungen konstruiert wie zum Beispiel für den Betrieb mit Sauerstoff, Acetylen und Fluor, mit Hochdruck, Ultrahochdruck und Korrosion.</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35040"/>
            <a:ext cx="4570560" cy="3163680"/>
          </a:xfrm>
          <a:prstGeom prst="rect">
            <a:avLst/>
          </a:prstGeom>
          <a:ln w="0">
            <a:noFill/>
          </a:ln>
        </p:spPr>
      </p:sp>
      <p:sp>
        <p:nvSpPr>
          <p:cNvPr id="296"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Sonstige Gerät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Siebe und Filt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hr Einbau wird empfohlen, um Verschmutzung, insbesondere stromaufwärts, von Druckreglern und Messgeräten zu verhinder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Durchflussmessgerät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äufig werden Blenden-, Venturi- und Turbinenmessgeräte verwendet.</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Grundlage für die Auswahl des Durchflussmessgerätetyps sind normalerweise die Genauigkeitsanforderungen für den Gasstrombereich, der erforderlich ist, um die Kundenanforderungen zu erfüll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Berstscheib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icherheitsventile werden Berstscheiben vorgezogen, weil Berstscheiben anfälliger für vorzeitigen Ausfall sind und nicht mehr von selbst schließen, wenn Sie betätigt wurden. Insgesamt bedeutet dies, dass ein unbeabsichtigter Wasserstoffaustritt wahrscheinlicher ist und dass der Austritt stark sein und andauern wird, bis die Wasserstoffquelle abgesperrt wird. Ist eine Berstscheibe unvermeidlich, gelten für diese in der Regel die gleichen Anforderungen wie für Sicherheitsventil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Isolierverbindun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Isolierverbindungen handelt es sich im Wesentlichen um zwei Rohrstücke, die durch ein Material mit einer hohen Dielektrizitätskonstante (Isolator) getrennt werden, um zwei Systeme oder Objekte elektrisch zu isolieren. Üblicherweise wird dies gemacht, um separate Zonen möglicher Korrosion zu schaff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Flexible Anschlüsse (Schlauch, Dehnfuge usw.)</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sich Rohrleitungen und Geräte erwärmen, dehnen sie sich aus und üben dabei Druck auf das System aus, da sie ihre Form ändern, um das nun längere Material unterzubringen. Ein flexibler Anschluss ist eine Vorrichtung, die diese Ausdehnung durch ihre Flexibilität ermöglicht. Der Anschluss dehnt sich aus, sodass die Rohrleitung dies nicht tun muss. Flexible Anschlüsse sind im Betrieb deutlich weniger robust als Rohre. Das bedeutet auch ein deutlich höheres Risiko eines Ausfalls, der bei entzündbaren Gasen und in noch höherem Maß bei Wasserstoff gefährlich wäre. Die bevorzugte Lösung besteht darin, durch Dehnungsschleifen Flexibilität in das Rohrleitungssystem zu bringen. Diese Lösung sollte verwendet werden, solange es keine praktische Alternative gibt. Ist ein flexibler Anschluss unvermeidbar, sollte er aus korrosionsbeständigem Metall hergestellt sein, eine Verkleidung haben und regelmäßig im Betrieb geprüft werden, um Anzeichen für anfängliche Fehler frühzeitig festzustellen. Dehnungsfugen können in Übereinstimmung mit bestehenden Normen wie zum Beispiel den Normen der </a:t>
            </a:r>
            <a:r>
              <a:rPr b="0" i="1" lang="en-US" sz="900" spc="-1" strike="noStrike">
                <a:solidFill>
                  <a:srgbClr val="000000"/>
                </a:solidFill>
                <a:latin typeface="Arial"/>
              </a:rPr>
              <a:t>Expansion Joint Manufacturer's Association</a:t>
            </a:r>
            <a:r>
              <a:rPr b="0" lang="en-US" sz="900" spc="-1" strike="noStrike">
                <a:solidFill>
                  <a:srgbClr val="000000"/>
                </a:solidFill>
                <a:latin typeface="Arial"/>
              </a:rPr>
              <a:t> (EJMA) ausgeführt werden.</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4680" y="689040"/>
            <a:ext cx="4570560" cy="3163680"/>
          </a:xfrm>
          <a:prstGeom prst="rect">
            <a:avLst/>
          </a:prstGeom>
          <a:ln w="0">
            <a:noFill/>
          </a:ln>
        </p:spPr>
      </p:sp>
      <p:sp>
        <p:nvSpPr>
          <p:cNvPr id="298"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Undichthei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900" spc="-1" strike="noStrike" u="sng">
                <a:solidFill>
                  <a:srgbClr val="000000"/>
                </a:solidFill>
                <a:uFillTx/>
                <a:latin typeface="Arial"/>
              </a:rPr>
              <a:t>Kleinere Undichtheit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Gelegentlich kann eine Gasflasche oder einer ihrer Bestandteile eine Undichtheit aufweisen. Die meisten dieser Undichtheiten treten an der Oberseite der Flasche in Bereichen wie den Ventilgewinden, den Drucksicherheitsvorrichtungen, dem Ventilschaft und dem Ventilauslass auf. Die folgenden Informationen gelten für Behebung kleinerer Undichtheit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Überprüfen Sie vermutete Undichtheiten, wenn möglich, mit einem Detektor für entzündbares Gas oder mit einer Seifenwasserlösung (eine Flamme sollte nicht verwendet werden). Wenn die Undichtheit nicht durch das Anziehen der Ventilstopfbuchse oder der Dichtungsmutter gestoppt werden kann, sollten Notfallmaßnahmen eingeleite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entzündbaren, inerten oder oxidierenden Gasen bringen Sie die Flasche in einen abgedichteten, gut belüfteten Bereich außerhalb der Reichweite brennbarer Materialien. Bringen Sie Schilder an, die die Gefahr beschreib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korrosiven und giftigen Gasen bringen Sie die Flasche in einen abgedichteten und gut belüfteten Bereich und verwenden Sie geeignete Mittel, um das Gas in ein geeignetes Neutralisationsmittel zu lenken. Bringen Sie Schilder an, die die Gefahr beschreib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alls es erforderlich ist, eine undichte Flasche durch belebte Teile eines Gebäudes zu transportieren, stülpen Sie eine Plastiktüte, eine Gummiummantelung oder Ähnliches über die Oberseite und kleben Sie diese an der Flasche fest (vorzugsweise mit Isolierband), um das austretende Gas einzudämm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35040"/>
            <a:ext cx="4570560" cy="3163680"/>
          </a:xfrm>
          <a:prstGeom prst="rect">
            <a:avLst/>
          </a:prstGeom>
          <a:ln w="0">
            <a:noFill/>
          </a:ln>
        </p:spPr>
      </p:sp>
      <p:sp>
        <p:nvSpPr>
          <p:cNvPr id="300"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900" spc="-1" strike="noStrike" u="sng">
                <a:solidFill>
                  <a:srgbClr val="000000"/>
                </a:solidFill>
                <a:uFillTx/>
                <a:latin typeface="Arial"/>
              </a:rPr>
              <a:t>Größere Undichthei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Fall eines großen Gasaustritts oder bei einem Unfall, bei dem die griffbereite persönliche Schutzausrüstung (PSA) nicht ausreicht, um die Sicherheit bei der Arbeit sicherzustellen, ergreifen Sie die folgenden Notfallmaßnahm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Rufen Sie umgehend die Notrufnummer an und melden Sie den Vorfall.</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Lösen Sie Feueralarm für das Gebäude und den Bereich aus (oder gegebenenfalls Chemiealarm).</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vakuieren Sie den Bereich, sichern Sie die Eingänge und helfen Sie anderen beim Weg ins Frei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nformieren Sie die Zuständigen bei deren Ankunft über die Einzelheiten des Problem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Um die Möglichkeit von Undichtheiten zu minimieren wird Folgendes empfohl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oppelte (Ab-)Dichtung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Jedes Gussteil sollte hydraulisch auf Undichtheiten geprüft werd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icher Sitz in einer Metallhalterung für automatische Inline-Ventile und automatische Belüftung</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Metall-auf-Metall-Sitz oder weicher Sitz in einer Halterung für manuelle Inline-Ventile. Diese sollten mit positiver Isolierung kombiniert werden, wenn sie verwendet werden, um den Strom zu blockieren, bevor versucht wird, Wartungsarbeiten oder eine Prüfung im Inneren der Leitung durchzuführ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Metallsitz mit blockierten Ventilauslas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orzugsweise sollten bei der Montage des Ventilgehäuses keine Durchverbolzung und keine Gehäuseflansche oder Schraubverbindungen verwendet werden.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Hauptleitungstrennventile sollte einen vollen Durchgang haben, wenn Rohrleitungsmolchen für die Prüfung vorgesehen ist.</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35040"/>
            <a:ext cx="4570560" cy="3163680"/>
          </a:xfrm>
          <a:prstGeom prst="rect">
            <a:avLst/>
          </a:prstGeom>
          <a:ln w="0">
            <a:noFill/>
          </a:ln>
        </p:spPr>
      </p:sp>
      <p:sp>
        <p:nvSpPr>
          <p:cNvPr id="30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Reinigu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Konstruktion des Rohrleitungssystems muss kompatibel mit den zu verwendenden Reinigungs-, Bau- und Druckprüfverfahren sein. Der Reinigungsprozess sollte sicherstellen, dass alle Verunreinigungen aus dem Inneren des Rohrleitungssystems entfernt werden. Die Reinigung von Wasserstoffrohrleitungssystemen besteht normalerweise aus einer Kombination aus Gebäudereinigung und einer abschließenden Reinigung nach dem Bau.</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Reinigung von Wasserstoffrohrleitungen nach dem Bau kann eines der folgenden oder eine Kombination aus mehreren der folgenden Reinigungsverfahren umfassen:</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Molchen (Draht, Schaum, Kratzer, Entwässerung, leitungsgroß, übergroß)</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Mechanisches Kratzen</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ochgeschwindigkeitsgasspülu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Allgemeinen werden Molche aus Materialien hergestellt, die kompatibel mit Wasserstoff sind. Aus diesem Grund ist Molchen neben dem erforderlichen Reinheitsgrad normalerweise die erste Wahl für das Reinigen von Wasserstoffrohrleitungen.</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chweißen: Es wird empfohlen, die Wurzellager aller Stumpfschweißnähte mit einer Schweißtechnik auszuführen, bei der eine Spülung mit Inertgas verwendet wird, da hierdurch die Möglichkeit von Schlackeablagerungen auf der Unterseite der Schweißnähte minimiert wir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prüfungen sollten so durchgeführt werden, dass die Reinheit des Rohres nicht beeinträchtigt wir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Üblicher Reinigungsablauf:</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ntwässeru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rocknen</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rockenreinigu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bschließendes Trockn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Nach der Prüfung der Rohrleitung und der Abnahme des Reinheitsstandards, wird die Rohrleitung an allen offenen Enden entweder mit geschweißten Kappen oder Blindflanschen abgedichtet und mit Stickstoff gespült.</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35040"/>
            <a:ext cx="4570560" cy="3163680"/>
          </a:xfrm>
          <a:prstGeom prst="rect">
            <a:avLst/>
          </a:prstGeom>
          <a:ln w="0">
            <a:noFill/>
          </a:ln>
        </p:spPr>
      </p:sp>
      <p:sp>
        <p:nvSpPr>
          <p:cNvPr id="250"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Definitionen</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Druckgas:</a:t>
            </a:r>
            <a:r>
              <a:rPr b="0" lang="en-US" sz="900" spc="-1" strike="noStrike">
                <a:solidFill>
                  <a:srgbClr val="000000"/>
                </a:solidFill>
                <a:latin typeface="Arial"/>
              </a:rPr>
              <a:t> Druckgase sind alle Gase, die, wenn sie in einem Behälter eingeschlossen sind:</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21°C einen absoluten Druck von mehr als 276 kPa (40 psi) haben ode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54°C einen absoluten Druck von mehr als 717 kPa (104 psi) haben ode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jede entzündbare Flüssigkeit mit einem Dampfdruck von mehr als 276 kPa (40 psi) bei 38°C.</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Erstickendes Gas:</a:t>
            </a:r>
            <a:r>
              <a:rPr b="0" lang="en-US" sz="900" spc="-1" strike="noStrike">
                <a:solidFill>
                  <a:srgbClr val="000000"/>
                </a:solidFill>
                <a:latin typeface="Arial"/>
              </a:rPr>
              <a:t> Jedes ungiftige Gas, das Luftsauerstoff unter die lebensnotwendigen Grenzen verdrängt. Diese Gase sind für gewöhnlich farblos, geruchlos und geschmacklos. Dazu gehören u.a. Stickstoff, Argon und Helium.</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Korrosives Gas:</a:t>
            </a:r>
            <a:r>
              <a:rPr b="0" lang="en-US" sz="900" spc="-1" strike="noStrike">
                <a:solidFill>
                  <a:srgbClr val="000000"/>
                </a:solidFill>
                <a:latin typeface="Arial"/>
              </a:rPr>
              <a:t> Ein Gas, das lebendes Gewebe bei Kontakt durch chemische Reaktion zerstört.</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Inertgas:</a:t>
            </a:r>
            <a:r>
              <a:rPr b="0" lang="en-US" sz="900" spc="-1" strike="noStrike">
                <a:solidFill>
                  <a:srgbClr val="000000"/>
                </a:solidFill>
                <a:latin typeface="Arial"/>
              </a:rPr>
              <a:t> Ein Gas, das chemisch träge ist.</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Oxidierendes Gas:</a:t>
            </a:r>
            <a:r>
              <a:rPr b="0" lang="en-US" sz="900" spc="-1" strike="noStrike">
                <a:solidFill>
                  <a:srgbClr val="000000"/>
                </a:solidFill>
                <a:latin typeface="Arial"/>
              </a:rPr>
              <a:t> Ein Gas, das die Verbrennung anderer Materialien unterstützen und beschleunigen kann.</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Selbstentzündliches Gas:</a:t>
            </a:r>
            <a:r>
              <a:rPr b="0" lang="en-US" sz="900" spc="-1" strike="noStrike">
                <a:solidFill>
                  <a:srgbClr val="000000"/>
                </a:solidFill>
                <a:latin typeface="Arial"/>
              </a:rPr>
              <a:t> Ein Gas, das sich an der Luft bei oder unter 54,4°C selbst entzündet. Beispiele hierfür sind u.a. Silan und Phosphin.</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
        <p:nvSpPr>
          <p:cNvPr id="251" name="3 Marcador de encabezado"/>
          <p:cNvSpPr/>
          <p:nvPr/>
        </p:nvSpPr>
        <p:spPr>
          <a:xfrm>
            <a:off x="512640" y="193680"/>
            <a:ext cx="5832720" cy="28260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2" name="6 Marcador de número de diapositiva"/>
          <p:cNvSpPr/>
          <p:nvPr/>
        </p:nvSpPr>
        <p:spPr>
          <a:xfrm>
            <a:off x="5324400" y="9377280"/>
            <a:ext cx="1020960" cy="21132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de-DE" sz="800" spc="-1" strike="noStrike">
                <a:solidFill>
                  <a:srgbClr val="000000"/>
                </a:solidFill>
                <a:latin typeface="Arial"/>
              </a:rPr>
              <a:t>Seite </a:t>
            </a:r>
            <a:fld id="{189E8351-6326-4AB9-BAD1-A8D6DC5E3F2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35040"/>
            <a:ext cx="4570560" cy="3163680"/>
          </a:xfrm>
          <a:prstGeom prst="rect">
            <a:avLst/>
          </a:prstGeom>
          <a:ln w="0">
            <a:noFill/>
          </a:ln>
        </p:spPr>
      </p:sp>
      <p:sp>
        <p:nvSpPr>
          <p:cNvPr id="254"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Entzündbares Gas:</a:t>
            </a:r>
            <a:r>
              <a:rPr b="0" lang="en-US" sz="900" spc="-1" strike="noStrike">
                <a:solidFill>
                  <a:srgbClr val="000000"/>
                </a:solidFill>
                <a:latin typeface="Arial"/>
              </a:rPr>
              <a:t> Eine Substanz, die der Definition eines Druckgases entspricht und die:</a:t>
            </a:r>
            <a:endParaRPr b="0" lang="en-US" sz="9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in einer Mischung von 13 % oder weniger (nach Volumen) mit Luft entzündbar ist oder</a:t>
            </a:r>
            <a:endParaRPr b="0" lang="en-US" sz="10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bei Normalzustand unabhängig von der unteren Grenze einen Zündbereich mit Luft von mehr als 12 % hat.</a:t>
            </a: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Nicht-entzündbares Gas:</a:t>
            </a:r>
            <a:r>
              <a:rPr b="0" lang="en-US" sz="900" spc="-1" strike="noStrike">
                <a:solidFill>
                  <a:srgbClr val="000000"/>
                </a:solidFill>
                <a:latin typeface="Arial"/>
              </a:rPr>
              <a:t> Ein Gas, das bei 20°C in der Verpackung einen absoluten Druck von 280 kPa (40 psi) oder mehr ausübt, bei dem es sich aber nicht um ein entzündbares Gas gemäß vorstehender Definition handelt.</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35040"/>
            <a:ext cx="4570560" cy="3163680"/>
          </a:xfrm>
          <a:prstGeom prst="rect">
            <a:avLst/>
          </a:prstGeom>
          <a:ln w="0">
            <a:noFill/>
          </a:ln>
        </p:spPr>
      </p:sp>
      <p:sp>
        <p:nvSpPr>
          <p:cNvPr id="256"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u="sng">
                <a:solidFill>
                  <a:srgbClr val="000000"/>
                </a:solidFill>
                <a:uFillTx/>
                <a:latin typeface="Arial"/>
              </a:rPr>
              <a:t>Kryogene Flüssigkeit:</a:t>
            </a:r>
            <a:r>
              <a:rPr b="0" lang="de-DE" sz="900" spc="-1" strike="noStrike">
                <a:solidFill>
                  <a:srgbClr val="000000"/>
                </a:solidFill>
                <a:latin typeface="Arial"/>
              </a:rPr>
              <a:t> Eine Flüssigkeit mit einem normalen Siedepunkt unter -150°C.</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u="sng">
                <a:solidFill>
                  <a:srgbClr val="000000"/>
                </a:solidFill>
                <a:uFillTx/>
                <a:latin typeface="Arial"/>
              </a:rPr>
              <a:t>Flaschen für kryogene Flüssigkeiten:</a:t>
            </a:r>
            <a:r>
              <a:rPr b="0" lang="de-DE" sz="900" spc="-1" strike="noStrike">
                <a:solidFill>
                  <a:srgbClr val="000000"/>
                </a:solidFill>
                <a:latin typeface="Arial"/>
              </a:rPr>
              <a:t> Druckbehälter, die für die Aufbewahrung kryogener Flüssigkeiten entwickelt und hergestellt wurden. Es gibt drei häufige Typen von Flüssigkeitsflaschen: Für Gasabgabe, für Flüssigkeitsabgabe oder für Gas- und Flüssigkeitsabgabe.</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Vorsichtsmaßnahmen für bestimmte Gase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esen Sie sich das Materialsicherheitsdatenblatt für alle verwendeten Gase durch. Einige Gase sind selbstentzündlich (Phosphin), korrosiv (Wasserstoffchlorid), giftig (Ethylenoxid), betäubend (Stickoxid) oder hochreaktiv (wasserfreies Ammoniak).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tzündbare Gase wie zum Beispiel Propan, Wasserstoff und Acetylen haben immer ein rotes Kennzeichen. Allerdings ist die Farbe der Flasche kein guter Indikator für die Entzündbarkeit, da verschiedene Händler unter Umständen Flaschen unterschiedlicher Farben für das gleiche Gas verwenden. Überprüfen Sie die Entzündbarkeit anhand des Etiketts.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laschen für gefährliche Gase (Arsin, Kohlenmonoxid, Wasserstoff, Phosgen, Phosphin usw.) sollten an einem geeigneten leeren Ort gelagert werden. Wenn eine Flasche für gefährliche Gase eine Undichtheit aufweist, räumen Sie den Bereich und sperren Sie den Zugang zu demselben. Entfernen Sie Zündquellen, wenn das Gas entzündbar is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ertgase wie zum Beispiel Stickstoff und Kohlendioxid müssen mit Vorsicht behandelt werden. Wenn sie in einen geschlossenen Raum entweichen, können diese Gase Sauerstoff verdrängen und dadurch Erstickungsgefahr verursachen.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Oxidierende Gase wie zum Beispiel Drucksauerstoff oder Stickstoffoxid können, obwohl sie selbst nicht brennbar sind, dazu führen, dass viele Materialien heftig brennen. Verwenden Sie niemals Fett, Lösungsmittel oder andere entzündbare Materialien an einem Sauerstoffventil oder -regler oder in einer Sauerstoffrohrleitung.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giftige, korrosive und selbstentzündliche Gase gibt es spezielle Anforderungen bezüglich der Handhabung und der Lagerung. </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35040"/>
            <a:ext cx="4570560" cy="3163680"/>
          </a:xfrm>
          <a:prstGeom prst="rect">
            <a:avLst/>
          </a:prstGeom>
          <a:ln w="0">
            <a:noFill/>
          </a:ln>
        </p:spPr>
      </p:sp>
      <p:sp>
        <p:nvSpPr>
          <p:cNvPr id="258"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Handhab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e sollten nur von angemessen geschulten Personen behandelt werden. Die Schulung muss die Inhalte dieses Leitfadens und alle spezifischen Informationen, die für das verwendete Gas relevant sind, sowie die Notfallinformationen beinhalten:</a:t>
            </a:r>
            <a:endParaRPr b="0" lang="en-US" sz="900" spc="-1" strike="noStrike">
              <a:solidFill>
                <a:srgbClr val="000000"/>
              </a:solidFill>
              <a:latin typeface="Arial"/>
            </a:endParaRPr>
          </a:p>
          <a:p>
            <a:pPr lvl="2" marL="314280" indent="-160200">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eim Befördern der Flaschen sind Sicherheitsschuhe erforderlich</a:t>
            </a:r>
            <a:r>
              <a:rPr b="0" lang="en-US" sz="1000" spc="-1" strike="noStrike">
                <a:solidFill>
                  <a:srgbClr val="000000"/>
                </a:solidFill>
                <a:latin typeface="Arial"/>
              </a:rPr>
              <a: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laschen sollten nicht gezogen oder per Hand getragen werden. Transportieren Sie Flaschen mit einer Sackkarre, die für den Transport von Flaschen bestimmt ist. Die Flaschendeckel sollten während des Transports gesichert werd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laschen sollten nicht beschädigt werden. Stellen Sie die Flaschen an einem Ort ab, an dem sie vor physischen Schäden durch aufprallende oder herunterfallende Gegenstände, Rost oder Schäden durch Eingriffe von außen geschützt sind.</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ußer dem Gaslieferanten sollte niemand versuchen, Gase in einer Flasche zu vermisch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laschen sollten ohne Genehmigung des Lieferanten nicht künstlich erzeugten niedrigen Temperaturen ausgesetzt werd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Behälter sollten nur dafür verwendet werden, die Inhalte so aufzubewahren, wie man sie erhalten ha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laschen sollten nicht am Deckel gegriffen werd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s sollten keine Seile, Ketten und Schlingen verwendet werden, um die Flaschen anzuheben, es sei denn, sie sind speziell hierfür bestimm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s sollten keine Magnete verwendet werden, um die Flaschen anzuheb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enn keine geeigneten Hebevorrichtungen an der Flasche bzw. dem Behälter vorhanden sind, sollten beim Anheben geeignete Hängegerüste oder Bühnen verwendet, um die Behälter zu halt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r Benutzer sollte die Flaschen nicht lackier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Undichte, fehlerhafte, ausgebrannte und rostige Behälter sollten nur mit Genehmigung des Lieferanten versandt werden.</a:t>
            </a:r>
            <a:endParaRPr b="0" lang="en-US" sz="1000" spc="-1" strike="noStrike">
              <a:solidFill>
                <a:srgbClr val="000000"/>
              </a:solidFill>
              <a:latin typeface="Arial"/>
            </a:endParaRPr>
          </a:p>
          <a:p>
            <a:pPr lvl="2" marL="31428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35040"/>
            <a:ext cx="4570560" cy="3163680"/>
          </a:xfrm>
          <a:prstGeom prst="rect">
            <a:avLst/>
          </a:prstGeom>
          <a:ln w="0">
            <a:noFill/>
          </a:ln>
        </p:spPr>
      </p:sp>
      <p:sp>
        <p:nvSpPr>
          <p:cNvPr id="260" name="PlaceHolder 2"/>
          <p:cNvSpPr>
            <a:spLocks noGrp="1"/>
          </p:cNvSpPr>
          <p:nvPr>
            <p:ph type="body"/>
          </p:nvPr>
        </p:nvSpPr>
        <p:spPr>
          <a:xfrm>
            <a:off x="304920" y="3882960"/>
            <a:ext cx="6324480" cy="5641920"/>
          </a:xfrm>
          <a:prstGeom prst="rect">
            <a:avLst/>
          </a:prstGeom>
          <a:noFill/>
          <a:ln w="0">
            <a:noFill/>
          </a:ln>
        </p:spPr>
        <p:txBody>
          <a:bodyPr lIns="0" rIns="0" tIns="0" bIns="0" anchor="t">
            <a:noAutofit/>
          </a:bodyPr>
          <a:p>
            <a:pPr lvl="2" marL="314280" indent="0">
              <a:spcBef>
                <a:spcPts val="2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de-DE" sz="800" spc="-1" strike="noStrike" u="sng">
                <a:solidFill>
                  <a:srgbClr val="000000"/>
                </a:solidFill>
                <a:uFillTx/>
                <a:latin typeface="Arial"/>
              </a:rPr>
              <a:t>Korrosive Gas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etalle werden spröde, wenn sie mit korrosivem Gas verwendet werden. Überprüfen Sie die Geräte und Leitungen regelmäßig auf Undichtheit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Bei korrosiven Gasen, die ein Stahl- oder Bronzemanometer zerstören würden, sollte ein Membranmanometer verwendet werden. Fragen Sie Ihren Gaslieferanten, ob er Sie diesbezüglich beraten kan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ehmen Sie die Regler nach der Verwendung ab und spülen Sie sie mit trockener Luft oder Stickstoff.</a:t>
            </a:r>
            <a:endParaRPr b="0" lang="en-US" sz="800" spc="-1" strike="noStrike">
              <a:solidFill>
                <a:srgbClr val="000000"/>
              </a:solidFill>
              <a:latin typeface="Arial"/>
            </a:endParaRPr>
          </a:p>
          <a:p>
            <a:pPr lvl="2" marL="314280" indent="0">
              <a:spcBef>
                <a:spcPts val="2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de-DE" sz="800" spc="-1" strike="noStrike" u="sng">
                <a:solidFill>
                  <a:srgbClr val="000000"/>
                </a:solidFill>
                <a:uFillTx/>
                <a:latin typeface="Arial"/>
              </a:rPr>
              <a:t>Kryogene Flüssigkeiten und Gas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wenden Sie bei jedem Transport kryogener Flüssigkeiten geeignete persönliche Schutzausrüstung (PSA) einschließlich Isolierhandschuhen und Augenschutz (Schutzbrille und ein Gesichtsschild).</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ollte Ihre Haut mit einer kryogenen Flüssigkeit in Berührung kommen, reiben Sie sich nicht die Haut, legen Sie das betroffene Körperteil in eine warmes Wasserbad (nicht über 40°C).</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wenden Sie nur Geräte, Ventile und Behälter, die für die das beabsichtigte Produkt und den Betriebsdruck und die Betriebstemperatur bestimmt sind.</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Überprüfen Sie die Behälter auf einen Verlust des Isoliervakuums. Wenn die Außenhülle eines Behälters kalt ist oder Froststellen aufweist, ist das Vakuum verloren gegangen. Füllen Sie den Inhalt in einen anderen Kryo-Behälter und nehmen Sie den beschädigten Behälter außer Betrieb. Reparaturen sollten vom Hersteller oder einem autorisierten Unternehmen durchgeführt werd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Transportmaßnahmen mit offenen Kryo-Behältern wie zum Beispiel Dewar-Behälter müssen langsam durchgeführt werden, um ein Sieden und Spritzen der kryogenen Flüssigkeit zu minimier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Unter dem Verdampfer oder dem Tank dürfen sich kein Eis oder andere Fremdkörper bilden. Übermäßige Eisbildung könnte zum Austritt übermäßig kalten Gases oder zu Schäden am Kryo-Behälter oder der Umgebung führ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lle Kryo-Systeme einschließlich der Rohre müssen mit einer Druckentlastung ausgerüstet sein, um die Bildung übermäßig hohen Druckes zu verhindern. Druckentlastungen müssen auf einen sicheren Ort gerichtet sein. Hantieren Sie nicht unbefugt mit den Druckentlastungsventilen oder den Einstellungen der Ventil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Um eingefrorene Geräte aufzutauen, sollten Heißluft, Dampf oder heißes Wasser verwendet werden. VERWENDEN SIE KEIN Wasser, um Geräte für flüssiges Helium aufzutauen.</a:t>
            </a:r>
            <a:endParaRPr b="0" lang="en-US" sz="800" spc="-1" strike="noStrike">
              <a:solidFill>
                <a:srgbClr val="000000"/>
              </a:solidFill>
              <a:latin typeface="Arial"/>
            </a:endParaRPr>
          </a:p>
          <a:p>
            <a:pPr lvl="2" marL="314280" indent="0">
              <a:spcBef>
                <a:spcPts val="2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de-DE" sz="800" spc="-1" strike="noStrike" u="sng">
                <a:solidFill>
                  <a:srgbClr val="000000"/>
                </a:solidFill>
                <a:uFillTx/>
                <a:latin typeface="Arial"/>
              </a:rPr>
              <a:t>Entzündbare Gas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ntzündbare Gase sollte mit Ausnahme geschützter Brenngase nicht in der Nähe von Zündquellen verwendet werden. Zu Zündquellen gehören unter anderem offene Flammen und Funken, Wärmequellen, Oxidationsmittel und ungeerdete oder nicht eigensichere elektrische oder elektronische Gerät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Für Brandfälle sollten tragbare Feuerlöscher bereit stehen. Die Feuerlöscher müssen mit den verwendeten Geräten und Materialien kompatibel sei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Flammen sollten nicht verwendet werden, um Undichtheiten festzustellen. Für die Lecksuche sollte eine kompatible Lecksuchlösung verwendet werd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Beim Arbeiten mit oder an einer Gasflasche oder einem System mit entzündbarem Druckgas sollte funkensicheres Werkzeug verwendet werd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n Zugangstüren zu Bereichen, in denen entzündbare Gase verwendet oder gelagert werden, sollte der Sicherheitshinweis „Keine offenen Flammen” angebracht werd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teilersysteme sollten von kompetentem Personal entwickelt und konstruiert werden, das sich mit den Anforderungen für Rohrleitungen für entzündbare Gase auskennt. Verteiler sollten die Standards einer anerkannten Institution für Sicherheitsprüfungen und –Zertifizierungen wie zum Beispiel Underwriters erfüllen.</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35040"/>
            <a:ext cx="4570560" cy="3163680"/>
          </a:xfrm>
          <a:prstGeom prst="rect">
            <a:avLst/>
          </a:prstGeom>
          <a:ln w="0">
            <a:noFill/>
          </a:ln>
        </p:spPr>
      </p:sp>
      <p:sp>
        <p:nvSpPr>
          <p:cNvPr id="26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de-DE" sz="1000" spc="-1" strike="noStrike" u="sng">
                <a:solidFill>
                  <a:srgbClr val="000000"/>
                </a:solidFill>
                <a:uFillTx/>
                <a:latin typeface="Arial"/>
              </a:rPr>
              <a:t>Gifte und hochgiftige Gase</a:t>
            </a:r>
            <a:endParaRPr b="0" lang="en-US" sz="1000" spc="-1" strike="noStrike">
              <a:solidFill>
                <a:srgbClr val="000000"/>
              </a:solidFill>
              <a:latin typeface="Arial"/>
            </a:endParaRPr>
          </a:p>
          <a:p>
            <a:pPr lvl="2" marL="314280" indent="-160200" algn="just">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ofern nicht anders angegeben, müssen alle Gase in einem dauerhaft mechanisch belüfteten Gaskabinett, einem Abzugsschrank oder einem anderen Gehäuse gelagert werden.</a:t>
            </a:r>
            <a:endParaRPr b="0" lang="en-US" sz="800" spc="-1" strike="noStrike">
              <a:solidFill>
                <a:srgbClr val="000000"/>
              </a:solidFill>
              <a:latin typeface="Arial"/>
            </a:endParaRPr>
          </a:p>
          <a:p>
            <a:pPr lvl="2" marL="314280" indent="-160200" algn="just">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n kleinen Mengen (z.B. Flaschen für Schulungen) oder geringen Konzentrationen können diese Gase außerhalb eines belüfteten Gehäuses aufbewahrt werden.</a:t>
            </a:r>
            <a:endParaRPr b="0" lang="en-US" sz="800" spc="-1" strike="noStrike">
              <a:solidFill>
                <a:srgbClr val="000000"/>
              </a:solidFill>
              <a:latin typeface="Arial"/>
            </a:endParaRPr>
          </a:p>
          <a:p>
            <a:pPr lvl="2" marL="314280" indent="-160200" algn="just">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n belüfteten Abzugsschränken, die für Verwendung oder Lagerung giftiger Gase bestimmt sind, sollten akustische Alarme verwendet werden.</a:t>
            </a:r>
            <a:endParaRPr b="0" lang="en-US" sz="800" spc="-1" strike="noStrike">
              <a:solidFill>
                <a:srgbClr val="000000"/>
              </a:solidFill>
              <a:latin typeface="Arial"/>
            </a:endParaRPr>
          </a:p>
          <a:p>
            <a:pPr lvl="2" marL="314280" indent="-160200" algn="just">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Für Prozesse und Verfahren, bei denen korrosive, giftige oder hochgiftige Gase verwendet werden, sind Standardarbeitsanweisungen (engl. </a:t>
            </a:r>
            <a:r>
              <a:rPr b="0" i="1" lang="de-DE" sz="800" spc="-1" strike="noStrike">
                <a:solidFill>
                  <a:srgbClr val="000000"/>
                </a:solidFill>
                <a:latin typeface="Arial"/>
              </a:rPr>
              <a:t>Standard Operating Procedures</a:t>
            </a:r>
            <a:r>
              <a:rPr b="0" lang="de-DE" sz="800" spc="-1" strike="noStrike">
                <a:solidFill>
                  <a:srgbClr val="000000"/>
                </a:solidFill>
                <a:latin typeface="Arial"/>
              </a:rPr>
              <a:t> = SOP) zu erstellen, die Notfallmaßnahmen enthalten müssen. Alle betroffenen Mitarbeiter sind in allen Inhalten dieser Anweisungen zu schulen.</a:t>
            </a:r>
            <a:endParaRPr b="0" lang="en-US" sz="800" spc="-1" strike="noStrike">
              <a:solidFill>
                <a:srgbClr val="000000"/>
              </a:solidFill>
              <a:latin typeface="Arial"/>
            </a:endParaRPr>
          </a:p>
          <a:p>
            <a:pPr indent="0" algn="just">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in Materialsicherheitsdatenblatt (engl. </a:t>
            </a:r>
            <a:r>
              <a:rPr b="0" i="1" lang="de-DE" sz="800" spc="-1" strike="noStrike">
                <a:solidFill>
                  <a:srgbClr val="000000"/>
                </a:solidFill>
                <a:latin typeface="Arial"/>
              </a:rPr>
              <a:t>Material Safety Data Sheet</a:t>
            </a:r>
            <a:r>
              <a:rPr b="0" lang="de-DE" sz="800" spc="-1" strike="noStrike">
                <a:solidFill>
                  <a:srgbClr val="000000"/>
                </a:solidFill>
                <a:latin typeface="Arial"/>
              </a:rPr>
              <a:t> = MSDS) ist ein Dokument, das Informationen über mögliche Gefahren (Gesundheitsgefahren, Feuer, Reaktivität und Umweltgefahren) und über das sichere Arbeiten mit dem chemischen Produkt enthält. Es ist ein wichtiger Ausgangspunkt für die Entwicklung eines vollständigen Gesundheits- und Sicherheitsprogramms. Darüber hinaus enthält es Informationen über die Verwendung, Lagerung und Notfallmaßnahmen im Zusammenhang mit den Gefahren des Materials. Das MSDS enthält viel mehr Informationen über das Material, als das Materialetikett. MSDS werden vom Lieferanten oder Hersteller des Materials erstellt. Sie sollen Auskunft über die Gefahren des Produkts, über die sichere Verwendung und darüber geben, was geschehen kann, wenn die Empfehlungen nicht befolgt werden, was bei Unfällen zu tun ist, wie Anzeichen einer übermäßigen Exposition erkannt werden und was zu tun ist, wenn es zu solchen Vorfällen komm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s gibt neun Informationskategorien, die in einem Materialdatenblatt enthalten sein müssen. Diese Kategorien werden in den </a:t>
            </a:r>
            <a:r>
              <a:rPr b="0" i="1" lang="de-DE" sz="800" spc="-1" strike="noStrike">
                <a:solidFill>
                  <a:srgbClr val="000000"/>
                </a:solidFill>
                <a:latin typeface="Arial"/>
              </a:rPr>
              <a:t>Controlled Products Regulations</a:t>
            </a:r>
            <a:r>
              <a:rPr b="0" lang="de-DE" sz="800" spc="-1" strike="noStrike">
                <a:solidFill>
                  <a:srgbClr val="000000"/>
                </a:solidFill>
                <a:latin typeface="Arial"/>
              </a:rPr>
              <a:t> (Vorschriften für kontrollierte Produkte) ausgeführt und dazu gehören: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roduktinformation: Produktbezeichnung (Name), Name und Anschrift des Herstellers und des Lieferanten und Notrufnummern</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Gefährliche Bestandteile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hysikalische Daten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aten über Feuer- oder Explosionsgefahr</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Reaktivitätsdaten: Informationen über die chemische Instabilität eines Produktes und die Substanzen, mit denen es möglicherweise reagiert</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Toxikologische Eigenschaften: Auswirkungen auf die Gesundheit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räventivmaßnahmen</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rste-Hilfe-Maßnahmen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orbereitung der Informationen: Wer ist verantwortlich für die Erstellung und das Erstellungsdatum des Materialsicherheitsdatenblattes</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35040"/>
            <a:ext cx="4570560" cy="3163680"/>
          </a:xfrm>
          <a:prstGeom prst="rect">
            <a:avLst/>
          </a:prstGeom>
          <a:ln w="0">
            <a:noFill/>
          </a:ln>
        </p:spPr>
      </p:sp>
      <p:sp>
        <p:nvSpPr>
          <p:cNvPr id="264" name="PlaceHolder 2"/>
          <p:cNvSpPr>
            <a:spLocks noGrp="1"/>
          </p:cNvSpPr>
          <p:nvPr>
            <p:ph type="body"/>
          </p:nvPr>
        </p:nvSpPr>
        <p:spPr>
          <a:xfrm>
            <a:off x="731520" y="4432320"/>
            <a:ext cx="5468760" cy="35323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900" spc="-1" strike="noStrike" u="sng">
                <a:solidFill>
                  <a:srgbClr val="000000"/>
                </a:solidFill>
                <a:uFillTx/>
                <a:latin typeface="Arial"/>
              </a:rPr>
              <a:t>Wie oft sollte ein MSDS aktualisier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vor Ablauf von drei Jahren neue, wichtige Informationen verfügbar werden, ist der Lieferant verpflichtet, das Produktetikett und das MSDS zu aktualisiere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es bis zum Ablauf des Zeitraums von drei Jahren keine neuen Informationen zu den Inhaltsstoffen gibt, sollte der Lieferant das MSDS und das Etikett auf ihre Korrektheit überprüfen und gegebenenfalls überarbeiten und das Erstellungsdatum des MSDS ändern.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5" descr="LOGO DEFINITIVO"/>
          <p:cNvPicPr/>
          <p:nvPr/>
        </p:nvPicPr>
        <p:blipFill>
          <a:blip r:embed="rId2"/>
          <a:stretch/>
        </p:blipFill>
        <p:spPr>
          <a:xfrm>
            <a:off x="55440" y="50760"/>
            <a:ext cx="1441440" cy="817560"/>
          </a:xfrm>
          <a:prstGeom prst="rect">
            <a:avLst/>
          </a:prstGeom>
          <a:ln w="0">
            <a:noFill/>
          </a:ln>
        </p:spPr>
      </p:pic>
      <p:sp>
        <p:nvSpPr>
          <p:cNvPr id="4" name="Text Box 6"/>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 descr="LOGO DEFINITIVO"/>
          <p:cNvPicPr/>
          <p:nvPr/>
        </p:nvPicPr>
        <p:blipFill>
          <a:blip r:embed="rId2"/>
          <a:stretch/>
        </p:blipFill>
        <p:spPr>
          <a:xfrm>
            <a:off x="55440" y="50760"/>
            <a:ext cx="1441440" cy="817560"/>
          </a:xfrm>
          <a:prstGeom prst="rect">
            <a:avLst/>
          </a:prstGeom>
          <a:ln w="0">
            <a:noFill/>
          </a:ln>
        </p:spPr>
      </p:pic>
      <p:pic>
        <p:nvPicPr>
          <p:cNvPr id="45" name="Picture 8" descr="_SANVALE"/>
          <p:cNvPicPr/>
          <p:nvPr/>
        </p:nvPicPr>
        <p:blipFill>
          <a:blip r:embed="rId3"/>
          <a:stretch/>
        </p:blipFill>
        <p:spPr>
          <a:xfrm>
            <a:off x="200160" y="1467000"/>
            <a:ext cx="1152360" cy="954000"/>
          </a:xfrm>
          <a:prstGeom prst="rect">
            <a:avLst/>
          </a:prstGeom>
          <a:ln w="0">
            <a:noFill/>
          </a:ln>
        </p:spPr>
      </p:pic>
      <p:pic>
        <p:nvPicPr>
          <p:cNvPr id="46" name="Picture 9" descr="Kolping-Sig_2c"/>
          <p:cNvPicPr/>
          <p:nvPr/>
        </p:nvPicPr>
        <p:blipFill>
          <a:blip r:embed="rId4"/>
          <a:stretch/>
        </p:blipFill>
        <p:spPr>
          <a:xfrm>
            <a:off x="6105600" y="5805360"/>
            <a:ext cx="3098880" cy="749520"/>
          </a:xfrm>
          <a:prstGeom prst="rect">
            <a:avLst/>
          </a:prstGeom>
          <a:ln w="0">
            <a:noFill/>
          </a:ln>
        </p:spPr>
      </p:pic>
      <p:pic>
        <p:nvPicPr>
          <p:cNvPr id="47" name="Picture 10" descr="larger_bi-lingual_cmyk"/>
          <p:cNvPicPr/>
          <p:nvPr/>
        </p:nvPicPr>
        <p:blipFill>
          <a:blip r:embed="rId5"/>
          <a:stretch/>
        </p:blipFill>
        <p:spPr>
          <a:xfrm>
            <a:off x="272880" y="4941720"/>
            <a:ext cx="1440000" cy="621000"/>
          </a:xfrm>
          <a:prstGeom prst="rect">
            <a:avLst/>
          </a:prstGeom>
          <a:ln w="0">
            <a:noFill/>
          </a:ln>
        </p:spPr>
      </p:pic>
      <p:pic>
        <p:nvPicPr>
          <p:cNvPr id="48" name="Picture 11" descr="logo4cneupng"/>
          <p:cNvPicPr/>
          <p:nvPr/>
        </p:nvPicPr>
        <p:blipFill>
          <a:blip r:embed="rId6"/>
          <a:stretch/>
        </p:blipFill>
        <p:spPr>
          <a:xfrm>
            <a:off x="200160" y="3789360"/>
            <a:ext cx="1511280" cy="851040"/>
          </a:xfrm>
          <a:prstGeom prst="rect">
            <a:avLst/>
          </a:prstGeom>
          <a:ln w="0">
            <a:noFill/>
          </a:ln>
        </p:spPr>
      </p:pic>
      <p:pic>
        <p:nvPicPr>
          <p:cNvPr id="49" name="Picture 12" descr="Logo_USJ1"/>
          <p:cNvPicPr/>
          <p:nvPr/>
        </p:nvPicPr>
        <p:blipFill>
          <a:blip r:embed="rId7"/>
          <a:stretch/>
        </p:blipFill>
        <p:spPr>
          <a:xfrm>
            <a:off x="272880" y="6021360"/>
            <a:ext cx="2232360" cy="405000"/>
          </a:xfrm>
          <a:prstGeom prst="rect">
            <a:avLst/>
          </a:prstGeom>
          <a:ln w="0">
            <a:noFill/>
          </a:ln>
        </p:spPr>
      </p:pic>
      <p:pic>
        <p:nvPicPr>
          <p:cNvPr id="50" name="Picture 13" descr="Logo_WBZU_RGB-300dpi"/>
          <p:cNvPicPr/>
          <p:nvPr/>
        </p:nvPicPr>
        <p:blipFill>
          <a:blip r:embed="rId8"/>
          <a:stretch/>
        </p:blipFill>
        <p:spPr>
          <a:xfrm>
            <a:off x="201600" y="2781360"/>
            <a:ext cx="1295280" cy="716040"/>
          </a:xfrm>
          <a:prstGeom prst="rect">
            <a:avLst/>
          </a:prstGeom>
          <a:ln w="0">
            <a:noFill/>
          </a:ln>
        </p:spPr>
      </p:pic>
      <p:grpSp>
        <p:nvGrpSpPr>
          <p:cNvPr id="51" name="Group 14"/>
          <p:cNvGrpSpPr/>
          <p:nvPr/>
        </p:nvGrpSpPr>
        <p:grpSpPr>
          <a:xfrm>
            <a:off x="2289240" y="4797360"/>
            <a:ext cx="2016000" cy="866520"/>
            <a:chOff x="2289240" y="4797360"/>
            <a:chExt cx="2016000" cy="866520"/>
          </a:xfrm>
        </p:grpSpPr>
        <p:grpSp>
          <p:nvGrpSpPr>
            <p:cNvPr id="52" name="Group 15"/>
            <p:cNvGrpSpPr/>
            <p:nvPr/>
          </p:nvGrpSpPr>
          <p:grpSpPr>
            <a:xfrm>
              <a:off x="2360520" y="4868640"/>
              <a:ext cx="791280" cy="720720"/>
              <a:chOff x="2360520" y="4868640"/>
              <a:chExt cx="791280" cy="720720"/>
            </a:xfrm>
          </p:grpSpPr>
          <p:sp>
            <p:nvSpPr>
              <p:cNvPr id="53" name="Oval 1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17"/>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18" descr="LogoFunda"/>
            <p:cNvPicPr/>
            <p:nvPr/>
          </p:nvPicPr>
          <p:blipFill>
            <a:blip r:embed="rId9"/>
            <a:stretch/>
          </p:blipFill>
          <p:spPr>
            <a:xfrm>
              <a:off x="2289240" y="4797360"/>
              <a:ext cx="2016000" cy="866520"/>
            </a:xfrm>
            <a:prstGeom prst="rect">
              <a:avLst/>
            </a:prstGeom>
            <a:ln w="0">
              <a:noFill/>
            </a:ln>
          </p:spPr>
        </p:pic>
      </p:grpSp>
      <p:pic>
        <p:nvPicPr>
          <p:cNvPr id="56" name="Picture 19" descr="marchio_EP_300_rgb"/>
          <p:cNvPicPr/>
          <p:nvPr/>
        </p:nvPicPr>
        <p:blipFill>
          <a:blip r:embed="rId10"/>
          <a:stretch/>
        </p:blipFill>
        <p:spPr>
          <a:xfrm>
            <a:off x="5168880" y="5013360"/>
            <a:ext cx="2376360" cy="522360"/>
          </a:xfrm>
          <a:prstGeom prst="rect">
            <a:avLst/>
          </a:prstGeom>
          <a:ln w="0">
            <a:noFill/>
          </a:ln>
        </p:spPr>
      </p:pic>
      <p:pic>
        <p:nvPicPr>
          <p:cNvPr id="57" name="Picture 20" descr="new-logo-large"/>
          <p:cNvPicPr/>
          <p:nvPr/>
        </p:nvPicPr>
        <p:blipFill>
          <a:blip r:embed="rId11"/>
          <a:stretch/>
        </p:blipFill>
        <p:spPr>
          <a:xfrm>
            <a:off x="8553600" y="4797360"/>
            <a:ext cx="877680" cy="936720"/>
          </a:xfrm>
          <a:prstGeom prst="rect">
            <a:avLst/>
          </a:prstGeom>
          <a:ln w="0">
            <a:noFill/>
          </a:ln>
        </p:spPr>
      </p:pic>
      <p:pic>
        <p:nvPicPr>
          <p:cNvPr id="58" name="Picture 21" descr="logo-eco4ward"/>
          <p:cNvPicPr/>
          <p:nvPr/>
        </p:nvPicPr>
        <p:blipFill>
          <a:blip r:embed="rId12"/>
          <a:stretch/>
        </p:blipFill>
        <p:spPr>
          <a:xfrm>
            <a:off x="3513240" y="5805360"/>
            <a:ext cx="1944720" cy="895320"/>
          </a:xfrm>
          <a:prstGeom prst="rect">
            <a:avLst/>
          </a:prstGeom>
          <a:ln w="0">
            <a:noFill/>
          </a:ln>
        </p:spPr>
      </p:pic>
      <p:sp>
        <p:nvSpPr>
          <p:cNvPr id="59" name="Text Box 22"/>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images.google.es/imgres?imgurl=http://www.micro-vett.it/H2/imagesh2/bombole.gif&amp;imgrefurl=http://www.micro-vett.it/H2/ing/vehicle.html&amp;h=332&amp;w=349&amp;sz=60&amp;hl=es&amp;start=22&amp;um=1&amp;tbnid=VCkqQppl58AAzM:&amp;tbnh=114&amp;tbnw=120&amp;prev=/images%3Fq%3Dgas%2Bcompressed%2Btank%2Bhydrogen%26start%3D18%26ndsp%3D18%26svnum%3D10%26um%3D1%26hl%3Des%26sa%3DN"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5.pn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99800" y="1915920"/>
            <a:ext cx="6993000" cy="7887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ba1e31"/>
                </a:solidFill>
                <a:latin typeface="Arial"/>
              </a:rPr>
              <a:t>Kapitel: GASTECHNOLOGIE</a:t>
            </a:r>
            <a:endParaRPr b="1" lang="en-US" sz="24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E:\Pantallazo-5.png"/>
          <p:cNvPicPr/>
          <p:nvPr/>
        </p:nvPicPr>
        <p:blipFill>
          <a:blip r:embed="rId1"/>
          <a:stretch/>
        </p:blipFill>
        <p:spPr>
          <a:xfrm>
            <a:off x="1666800" y="428760"/>
            <a:ext cx="4140360" cy="5857920"/>
          </a:xfrm>
          <a:prstGeom prst="rect">
            <a:avLst/>
          </a:prstGeom>
          <a:ln w="0">
            <a:noFill/>
          </a:ln>
        </p:spPr>
      </p:pic>
      <p:pic>
        <p:nvPicPr>
          <p:cNvPr id="129" name="Picture 3" descr="E:\Pantallazo-6.png"/>
          <p:cNvPicPr/>
          <p:nvPr/>
        </p:nvPicPr>
        <p:blipFill>
          <a:blip r:embed="rId2"/>
          <a:stretch/>
        </p:blipFill>
        <p:spPr>
          <a:xfrm>
            <a:off x="5738760" y="428760"/>
            <a:ext cx="4140360" cy="5857920"/>
          </a:xfrm>
          <a:prstGeom prst="rect">
            <a:avLst/>
          </a:prstGeom>
          <a:ln w="0">
            <a:noFill/>
          </a:ln>
        </p:spPr>
      </p:pic>
      <p:sp>
        <p:nvSpPr>
          <p:cNvPr id="130" name="Rectangle 6"/>
          <p:cNvSpPr/>
          <p:nvPr/>
        </p:nvSpPr>
        <p:spPr>
          <a:xfrm>
            <a:off x="1639440" y="87480"/>
            <a:ext cx="6163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Materialsicherheitsdatenblatt (MSDS)</a:t>
            </a:r>
            <a:endParaRPr b="1" lang="en-US" sz="2400" spc="-1" strike="noStrike">
              <a:solidFill>
                <a:srgbClr val="000000"/>
              </a:solidFill>
              <a:latin typeface="Colonna MT"/>
            </a:endParaRPr>
          </a:p>
        </p:txBody>
      </p:sp>
      <p:sp>
        <p:nvSpPr>
          <p:cNvPr id="13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2. GASFLASCHEN</a:t>
            </a:r>
            <a:br>
              <a:rPr sz="3200"/>
            </a:br>
            <a:endParaRPr b="1" lang="en-US" sz="3200" spc="-1" strike="noStrike">
              <a:solidFill>
                <a:srgbClr val="ba1e31"/>
              </a:solidFill>
              <a:latin typeface="SwitzerlandCondBlack"/>
            </a:endParaRPr>
          </a:p>
        </p:txBody>
      </p:sp>
      <p:sp>
        <p:nvSpPr>
          <p:cNvPr id="133" name=""/>
          <p:cNvSpPr txBox="1"/>
          <p:nvPr/>
        </p:nvSpPr>
        <p:spPr>
          <a:xfrm>
            <a:off x="1595160" y="1071360"/>
            <a:ext cx="8064360" cy="5173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Gasbehälter für Druckwasserstoff</a:t>
            </a:r>
            <a:endParaRPr b="1" lang="en-US" sz="2400" spc="-1" strike="noStrike">
              <a:solidFill>
                <a:srgbClr val="000000"/>
              </a:solidFill>
              <a:latin typeface="Arial"/>
            </a:endParaRPr>
          </a:p>
        </p:txBody>
      </p:sp>
      <p:pic>
        <p:nvPicPr>
          <p:cNvPr id="134" name="Picture 2" descr=""/>
          <p:cNvPicPr/>
          <p:nvPr/>
        </p:nvPicPr>
        <p:blipFill>
          <a:blip r:embed="rId1"/>
          <a:stretch/>
        </p:blipFill>
        <p:spPr>
          <a:xfrm>
            <a:off x="1784520" y="2565360"/>
            <a:ext cx="3671640" cy="2514600"/>
          </a:xfrm>
          <a:prstGeom prst="rect">
            <a:avLst/>
          </a:prstGeom>
          <a:ln w="0">
            <a:noFill/>
          </a:ln>
        </p:spPr>
      </p:pic>
      <p:pic>
        <p:nvPicPr>
          <p:cNvPr id="135" name="Picture 10" descr="bombole">
            <a:hlinkClick r:id="rId2"/>
          </p:cNvPr>
          <p:cNvPicPr/>
          <p:nvPr/>
        </p:nvPicPr>
        <p:blipFill>
          <a:blip r:embed="rId3"/>
          <a:stretch/>
        </p:blipFill>
        <p:spPr>
          <a:xfrm>
            <a:off x="6176880" y="2495520"/>
            <a:ext cx="2592360" cy="2463840"/>
          </a:xfrm>
          <a:prstGeom prst="rect">
            <a:avLst/>
          </a:prstGeom>
          <a:ln w="0">
            <a:noFill/>
          </a:ln>
        </p:spPr>
      </p:pic>
      <p:sp>
        <p:nvSpPr>
          <p:cNvPr id="136"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2. GASFLASCHEN</a:t>
            </a:r>
            <a:br>
              <a:rPr sz="3200"/>
            </a:br>
            <a:endParaRPr b="1" lang="en-US" sz="3200" spc="-1" strike="noStrike">
              <a:solidFill>
                <a:srgbClr val="ba1e31"/>
              </a:solidFill>
              <a:latin typeface="SwitzerlandCondBlack"/>
            </a:endParaRPr>
          </a:p>
        </p:txBody>
      </p:sp>
      <p:sp>
        <p:nvSpPr>
          <p:cNvPr id="138" name="5 Rectángulo"/>
          <p:cNvSpPr/>
          <p:nvPr/>
        </p:nvSpPr>
        <p:spPr>
          <a:xfrm>
            <a:off x="1952640" y="1071720"/>
            <a:ext cx="4952880" cy="49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Flüssigwasserstofftanks</a:t>
            </a:r>
            <a:endParaRPr b="1" lang="en-US" sz="2400" spc="-1" strike="noStrike">
              <a:solidFill>
                <a:srgbClr val="000000"/>
              </a:solidFill>
              <a:latin typeface="Colonna MT"/>
            </a:endParaRPr>
          </a:p>
        </p:txBody>
      </p:sp>
      <p:pic>
        <p:nvPicPr>
          <p:cNvPr id="139" name="Picture 3" descr=""/>
          <p:cNvPicPr/>
          <p:nvPr/>
        </p:nvPicPr>
        <p:blipFill>
          <a:blip r:embed="rId1"/>
          <a:stretch/>
        </p:blipFill>
        <p:spPr>
          <a:xfrm>
            <a:off x="2289240" y="2349360"/>
            <a:ext cx="5111640" cy="3759480"/>
          </a:xfrm>
          <a:prstGeom prst="rect">
            <a:avLst/>
          </a:prstGeom>
          <a:ln w="0">
            <a:noFill/>
          </a:ln>
        </p:spPr>
      </p:pic>
      <p:sp>
        <p:nvSpPr>
          <p:cNvPr id="140" name="TextBox 10"/>
          <p:cNvSpPr/>
          <p:nvPr/>
        </p:nvSpPr>
        <p:spPr>
          <a:xfrm>
            <a:off x="415800" y="580536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1712520" y="0"/>
            <a:ext cx="8193240" cy="6524640"/>
          </a:xfrm>
          <a:prstGeom prst="rect">
            <a:avLst/>
          </a:prstGeom>
          <a:noFill/>
          <a:ln w="0">
            <a:noFill/>
          </a:ln>
        </p:spPr>
        <p:txBody>
          <a:bodyPr lIns="92160" rIns="92160" tIns="46080" bIns="46080" anchor="t">
            <a:normAutofit/>
          </a:bodyPr>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de-DE" sz="2400" spc="-1" strike="noStrike">
                <a:solidFill>
                  <a:srgbClr val="000000"/>
                </a:solidFill>
                <a:latin typeface="Arial"/>
              </a:rPr>
              <a:t>2.3. Vorschriften</a:t>
            </a:r>
            <a:endParaRPr b="1" lang="en-US" sz="24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Richtlinie 1999/36/EG.</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3458-1:2002, Richtlinie 97/23/EG und die harmonisierte Norm EN 134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ISO/TC 58.</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Die folgenden europäischen Normen decken die wiederkehrende Prüfung, Kontrolle und Neubewertung von Gasbehältern ab.</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802.</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803.</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968.</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2863.</a:t>
            </a:r>
            <a:endParaRPr b="1" lang="en-US" sz="1600" spc="-1" strike="noStrike">
              <a:solidFill>
                <a:srgbClr val="000000"/>
              </a:solidFill>
              <a:latin typeface="Arial"/>
            </a:endParaRPr>
          </a:p>
        </p:txBody>
      </p:sp>
      <p:sp>
        <p:nvSpPr>
          <p:cNvPr id="14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1676160" y="-360"/>
            <a:ext cx="4097160" cy="4343400"/>
          </a:xfrm>
          <a:prstGeom prst="rect">
            <a:avLst/>
          </a:prstGeom>
          <a:noFill/>
          <a:ln w="0">
            <a:noFill/>
          </a:ln>
        </p:spPr>
        <p:txBody>
          <a:bodyPr lIns="92160" rIns="92160" tIns="46080" bIns="46080" anchor="t">
            <a:normAutofit fontScale="90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de-DE" sz="2400" spc="-1" strike="noStrike">
                <a:solidFill>
                  <a:srgbClr val="000000"/>
                </a:solidFill>
                <a:latin typeface="Arial"/>
              </a:rPr>
              <a:t>4. Flaschenlagerung</a:t>
            </a:r>
            <a:endParaRPr b="1"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u="sng">
                <a:solidFill>
                  <a:srgbClr val="000000"/>
                </a:solidFill>
                <a:uFillTx/>
                <a:latin typeface="Arial"/>
              </a:rPr>
              <a:t>Do’s</a:t>
            </a:r>
            <a:endParaRPr b="1" lang="en-US" sz="18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prüfen Sie die Feuerschutzbestimmungen.</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Lagerbereich muss eindeutig gekennzeichnet, trocken, gut belüftet sein.</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Sie „Rauchen Verboten“-Schilder in dem Bereich auf.</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gern Sie Flaschen aufrecht und sicher.</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chern Sie die Schutzkappen.</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Sie sicher, dass der Bereich gut belüftet wird. </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ützen Sie Flaschen gegen Berührung.</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gern Sie Sauerstoff und Brenngase getrennt.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 name="2 Marcador de contenido"/>
          <p:cNvSpPr/>
          <p:nvPr/>
        </p:nvSpPr>
        <p:spPr>
          <a:xfrm>
            <a:off x="5715000" y="457200"/>
            <a:ext cx="4002120" cy="34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on’t’s</a:t>
            </a:r>
            <a:endParaRPr b="1" lang="en-US" sz="1800" spc="-1" strike="noStrike">
              <a:solidFill>
                <a:srgbClr val="000000"/>
              </a:solidFill>
              <a:latin typeface="Colonna MT"/>
            </a:endParaRPr>
          </a:p>
          <a:p>
            <a:pPr marL="343080" indent="-343080">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wenden Sie keine Flaschen als elektrischen Masseanschluss.</a:t>
            </a:r>
            <a:endParaRPr b="1" lang="en-US" sz="1600" spc="-1" strike="noStrike">
              <a:solidFill>
                <a:srgbClr val="000000"/>
              </a:solidFill>
              <a:latin typeface="Colonna MT"/>
            </a:endParaRPr>
          </a:p>
          <a:p>
            <a:pPr marL="343080" indent="-343080">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estigen Sie keine Flaschen an einem Arbeitstisch oder an Aufbauten, wo sie Teil eines elektrischen Kreislaufs werden könnten.</a:t>
            </a:r>
            <a:endParaRPr b="1" lang="en-US" sz="1600" spc="-1" strike="noStrike">
              <a:solidFill>
                <a:srgbClr val="000000"/>
              </a:solidFill>
              <a:latin typeface="Colonna MT"/>
            </a:endParaRPr>
          </a:p>
          <a:p>
            <a:pPr marL="343080" indent="-343080">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ten Sie niemals einen Lichtbogen auf eine Flasche.</a:t>
            </a:r>
            <a:endParaRPr b="1" lang="en-US" sz="1600" spc="-1" strike="noStrike">
              <a:solidFill>
                <a:srgbClr val="000000"/>
              </a:solidFill>
              <a:latin typeface="Colonna MT"/>
            </a:endParaRPr>
          </a:p>
          <a:p>
            <a:pPr marL="343080" indent="-343080">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wenden Sie keine Flamme oder heißes Wasser, um ein eingefrorenes Ventil aufzutauen. Ventile oder Flaschen können schmelzbare Stopfen enthalten, die bei Temperaturen unter dem Siedepunkt von Wasser schmelzen. </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145" name="Picture 2" descr=""/>
          <p:cNvPicPr/>
          <p:nvPr/>
        </p:nvPicPr>
        <p:blipFill>
          <a:blip r:embed="rId1"/>
          <a:stretch/>
        </p:blipFill>
        <p:spPr>
          <a:xfrm>
            <a:off x="1809720" y="5286240"/>
            <a:ext cx="2351160" cy="798480"/>
          </a:xfrm>
          <a:prstGeom prst="rect">
            <a:avLst/>
          </a:prstGeom>
          <a:ln w="0">
            <a:noFill/>
          </a:ln>
        </p:spPr>
      </p:pic>
      <p:pic>
        <p:nvPicPr>
          <p:cNvPr id="146" name="Picture 3" descr=""/>
          <p:cNvPicPr/>
          <p:nvPr/>
        </p:nvPicPr>
        <p:blipFill>
          <a:blip r:embed="rId2"/>
          <a:stretch/>
        </p:blipFill>
        <p:spPr>
          <a:xfrm>
            <a:off x="4452840" y="4714920"/>
            <a:ext cx="2484360" cy="1960560"/>
          </a:xfrm>
          <a:prstGeom prst="rect">
            <a:avLst/>
          </a:prstGeom>
          <a:ln w="0">
            <a:noFill/>
          </a:ln>
        </p:spPr>
      </p:pic>
      <p:pic>
        <p:nvPicPr>
          <p:cNvPr id="147" name="Picture 4" descr=""/>
          <p:cNvPicPr/>
          <p:nvPr/>
        </p:nvPicPr>
        <p:blipFill>
          <a:blip r:embed="rId3"/>
          <a:stretch/>
        </p:blipFill>
        <p:spPr>
          <a:xfrm>
            <a:off x="7095960" y="4572000"/>
            <a:ext cx="2286000" cy="1963800"/>
          </a:xfrm>
          <a:prstGeom prst="rect">
            <a:avLst/>
          </a:prstGeom>
          <a:ln w="0">
            <a:noFill/>
          </a:ln>
        </p:spPr>
      </p:pic>
      <p:sp>
        <p:nvSpPr>
          <p:cNvPr id="14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1712880" y="0"/>
            <a:ext cx="5526000" cy="71424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 Transportflaschen </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50" name="Picture 3" descr=""/>
          <p:cNvPicPr/>
          <p:nvPr/>
        </p:nvPicPr>
        <p:blipFill>
          <a:blip r:embed="rId1"/>
          <a:stretch/>
        </p:blipFill>
        <p:spPr>
          <a:xfrm>
            <a:off x="4881600" y="785880"/>
            <a:ext cx="2244600" cy="3581280"/>
          </a:xfrm>
          <a:prstGeom prst="rect">
            <a:avLst/>
          </a:prstGeom>
          <a:ln w="0">
            <a:noFill/>
          </a:ln>
        </p:spPr>
      </p:pic>
      <p:pic>
        <p:nvPicPr>
          <p:cNvPr id="151" name="Picture 4" descr=""/>
          <p:cNvPicPr/>
          <p:nvPr/>
        </p:nvPicPr>
        <p:blipFill>
          <a:blip r:embed="rId2"/>
          <a:stretch/>
        </p:blipFill>
        <p:spPr>
          <a:xfrm>
            <a:off x="7238880" y="214200"/>
            <a:ext cx="1976400" cy="1600200"/>
          </a:xfrm>
          <a:prstGeom prst="rect">
            <a:avLst/>
          </a:prstGeom>
          <a:ln w="0">
            <a:noFill/>
          </a:ln>
        </p:spPr>
      </p:pic>
      <p:pic>
        <p:nvPicPr>
          <p:cNvPr id="152" name="Picture 6" descr=""/>
          <p:cNvPicPr/>
          <p:nvPr/>
        </p:nvPicPr>
        <p:blipFill>
          <a:blip r:embed="rId3"/>
          <a:stretch/>
        </p:blipFill>
        <p:spPr>
          <a:xfrm>
            <a:off x="4809960" y="4621320"/>
            <a:ext cx="3092760" cy="2236680"/>
          </a:xfrm>
          <a:prstGeom prst="rect">
            <a:avLst/>
          </a:prstGeom>
          <a:ln w="0">
            <a:noFill/>
          </a:ln>
        </p:spPr>
      </p:pic>
      <p:pic>
        <p:nvPicPr>
          <p:cNvPr id="153" name="Picture 5" descr=""/>
          <p:cNvPicPr/>
          <p:nvPr/>
        </p:nvPicPr>
        <p:blipFill>
          <a:blip r:embed="rId4"/>
          <a:srcRect l="26297" t="17540" r="14135" b="7356"/>
          <a:stretch/>
        </p:blipFill>
        <p:spPr>
          <a:xfrm>
            <a:off x="7059600" y="1916280"/>
            <a:ext cx="2846520" cy="2830320"/>
          </a:xfrm>
          <a:prstGeom prst="rect">
            <a:avLst/>
          </a:prstGeom>
          <a:ln w="0">
            <a:noFill/>
          </a:ln>
        </p:spPr>
      </p:pic>
      <p:sp>
        <p:nvSpPr>
          <p:cNvPr id="154" name="Text Box 9"/>
          <p:cNvSpPr/>
          <p:nvPr/>
        </p:nvSpPr>
        <p:spPr>
          <a:xfrm>
            <a:off x="1712880" y="765000"/>
            <a:ext cx="3240000" cy="660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Wasserstoffflaschen in Bündeln oder auf Anhängern montiert werden, können Montagespannung in Verbindung mit anderen Spannungen das sichere Verhalten der Flaschen beeinträchtigen. Dabei ist Folgendes zu berücksichtigen :</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 zwischen Flasche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estigungsvorrichtunge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standshalter.</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tall-auf-Metall-Kontakt.</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sche Ladu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dehnu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ßenkorrosio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ntile und Verteiler.</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hrzeugkonstruktio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du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ündelkonstruktion (EN 13769).</a:t>
            </a:r>
            <a:endParaRPr b="1" lang="en-US" sz="1600" spc="-1" strike="noStrike">
              <a:solidFill>
                <a:srgbClr val="000000"/>
              </a:solidFill>
              <a:latin typeface="Colonna MT"/>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1712520" y="0"/>
            <a:ext cx="8193240" cy="1285920"/>
          </a:xfrm>
          <a:prstGeom prst="rect">
            <a:avLst/>
          </a:prstGeom>
          <a:noFill/>
          <a:ln w="0">
            <a:noFill/>
          </a:ln>
        </p:spPr>
        <p:txBody>
          <a:bodyPr lIns="92160" rIns="92160" tIns="46080" bIns="46080" anchor="t">
            <a:normAutofit fontScale="25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6. </a:t>
            </a:r>
            <a:r>
              <a:rPr b="1" lang="de-DE" sz="2400" spc="-1" strike="noStrike" u="sng">
                <a:solidFill>
                  <a:srgbClr val="000000"/>
                </a:solidFill>
                <a:uFillTx/>
                <a:latin typeface="Arial"/>
              </a:rPr>
              <a:t>Schulungsanforderungen und Kompetenzbewertung</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Personal sollte </a:t>
            </a:r>
            <a:r>
              <a:rPr b="0" i="1" lang="de-DE" sz="1600" spc="-1" strike="noStrike" u="sng">
                <a:solidFill>
                  <a:srgbClr val="000000"/>
                </a:solidFill>
                <a:uFillTx/>
                <a:latin typeface="Arial"/>
              </a:rPr>
              <a:t>leitfähige Schuhe</a:t>
            </a:r>
            <a:r>
              <a:rPr b="0" i="1" lang="de-DE" sz="1600" spc="-1" strike="noStrike">
                <a:solidFill>
                  <a:srgbClr val="000000"/>
                </a:solidFill>
                <a:latin typeface="Arial"/>
              </a:rPr>
              <a:t> </a:t>
            </a:r>
            <a:r>
              <a:rPr b="0" lang="de-DE" sz="1600" spc="-1" strike="noStrike">
                <a:solidFill>
                  <a:srgbClr val="000000"/>
                </a:solidFill>
                <a:latin typeface="Arial"/>
              </a:rPr>
              <a:t>und </a:t>
            </a:r>
            <a:endParaRPr b="1" lang="en-US" sz="16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Bekleidung aus nicht-synthetischen Materialien</a:t>
            </a:r>
            <a:r>
              <a:rPr b="0" lang="de-DE" sz="1600" spc="-1" strike="noStrike">
                <a:solidFill>
                  <a:srgbClr val="000000"/>
                </a:solidFill>
                <a:latin typeface="Arial"/>
              </a:rPr>
              <a:t> </a:t>
            </a:r>
            <a:endParaRPr b="1" lang="en-US" sz="16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ge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Schulung sollte Folgendes abdeck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öglichen Gefahren von Wasserstoff.</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cherheitsvorschriften vor Or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tfallmaßnahm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erwendung von Brandbekämpfungsgerät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erwendung von Schutzbekleidung/-vorrichtunge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zelpersonen sollten eine spezielle Schulung für die Tätigkeiten erhalten, für die sie eingestellt werde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57" name="Picture 3" descr="E:\training_page_photo_12.jpg"/>
          <p:cNvPicPr/>
          <p:nvPr/>
        </p:nvPicPr>
        <p:blipFill>
          <a:blip r:embed="rId1"/>
          <a:stretch/>
        </p:blipFill>
        <p:spPr>
          <a:xfrm>
            <a:off x="6477120" y="1447920"/>
            <a:ext cx="3238560" cy="2428920"/>
          </a:xfrm>
          <a:prstGeom prst="rect">
            <a:avLst/>
          </a:prstGeom>
          <a:ln w="0">
            <a:noFill/>
          </a:ln>
        </p:spPr>
      </p:pic>
      <p:sp>
        <p:nvSpPr>
          <p:cNvPr id="15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1712520" y="0"/>
            <a:ext cx="8193240" cy="6215040"/>
          </a:xfrm>
          <a:prstGeom prst="rect">
            <a:avLst/>
          </a:prstGeom>
          <a:noFill/>
          <a:ln w="0">
            <a:noFill/>
          </a:ln>
        </p:spPr>
        <p:txBody>
          <a:bodyPr lIns="92160" rIns="92160" tIns="46080" bIns="46080" anchor="t">
            <a:normAutofit fontScale="98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 Bewährte Verfahren</a:t>
            </a:r>
            <a:endParaRPr b="1" lang="en-US" sz="24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llen Sie sicher, dass das Druckregelventil des Reglers entlastet wir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ießen Sie die Ventile an Gasflaschen, wenn ein System nicht verwendet wir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hmen Sie den gesamten Druck von Reglern, die nicht verwendet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perrventile dürfen nicht zwischen Druckentlastungsgeräten und den Geräten, die sie schützen sollen, installiert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wenden Sie Überdruckventil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druckventile sollten belüftet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mmen oder konzentrierte Wärmequellen müssen vermieden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Gasflasche darf niemals Teil eines elektrischen Stromkreises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Öffnen Sie niemals ein Tankventil, um Staub oder Partikel aus dem Flascheneinlass zu entfernen.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wenden Sie niemals Flaschengas als Druckluft.</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zen Sie die Regler langsam unter Druck und stellen Sie sicher, dass Ventilausgänge und Regler nicht auf das Personal gerichtet sind, wenn die Flaschenventile geöffnet sin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Flaschen, deren Hauptventil mit einem Schraubenschlüssel geöffnet werden muss, sollte der Schraubenschlüssel am Flaschenventil bleiben, solange das Ventil offen ist.</a:t>
            </a:r>
            <a:endParaRPr b="1" lang="en-US" sz="1600" spc="-1" strike="noStrike">
              <a:solidFill>
                <a:srgbClr val="000000"/>
              </a:solidFill>
              <a:latin typeface="Arial"/>
            </a:endParaRPr>
          </a:p>
        </p:txBody>
      </p:sp>
      <p:sp>
        <p:nvSpPr>
          <p:cNvPr id="16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1712520" y="-360"/>
            <a:ext cx="8193240" cy="578628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7. Bewährte Verfahren</a:t>
            </a:r>
            <a:endParaRPr b="1" lang="en-US" sz="24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uchen Sie nicht, ein verrostetes Ventil zu öffn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ntile sollten nur soweit geöffnet werden, dass das Gas mit dem erforderlichen Druck in das System strömen kann. </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en Sie einen Flaschenkappenhaken, um festsitzende Flaschenkappen zu lösen. Wenden Sie niemals übermäßige Kraft an oder reißen Sie die Kappen niemals ab. Senden Sie Flaschen zurück zum Lieferanten, damit dieser „verklebte“ Kappen entfernt.</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rgen Sie dafür, dass die Rohrleitungen, Regler und alle sonstigen Geräte gasdicht sind, um einen Gasaustritt zu vermeid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prüfen Sie die die Gasdichtheit durch geeignete Dichtheitsprüfungslösungen oder durch Dichtheitsprüfgeräte.</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hmen Sie Druck von den Systemen, bevor Anschlüsse angezogen oder gelöst werden und vor Reparatur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en Sie kein Teflon™-Band auf CGA*-Armaturen (zylindrisches Gewinde), bei denen die Dichtung durch Metall-zu-Metall-Kontakt erfolgt. Durch die Verwendung von Teflon™-Band  dehnen sich die Gewinde aus und werden schwächer, wodurch sich die Wahrscheinlichkeit von Undichtheiten erhöht.</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en Sie niemals Adapter oder Austauscharmaturen zwischen Behältern und Regler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luoreszierendes Licht kann verwendet werden, um Regler und Ventile auf Fett oder Öl zu überprüfen.</a:t>
            </a:r>
            <a:endParaRPr b="1" lang="en-US" sz="1600" spc="-1" strike="noStrike">
              <a:solidFill>
                <a:srgbClr val="000000"/>
              </a:solidFill>
              <a:latin typeface="Arial"/>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GA = Compressed Gas Associatio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6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3. GASROHRE</a:t>
            </a:r>
            <a:endParaRPr b="1" lang="en-US" sz="2600" spc="-1" strike="noStrike">
              <a:solidFill>
                <a:srgbClr val="ba1e31"/>
              </a:solidFill>
              <a:latin typeface="SwitzerlandCondBlack"/>
            </a:endParaRPr>
          </a:p>
        </p:txBody>
      </p:sp>
      <p:pic>
        <p:nvPicPr>
          <p:cNvPr id="164" name="5 Imagen" descr="pipeline.jpg"/>
          <p:cNvPicPr/>
          <p:nvPr/>
        </p:nvPicPr>
        <p:blipFill>
          <a:blip r:embed="rId1"/>
          <a:stretch/>
        </p:blipFill>
        <p:spPr>
          <a:xfrm>
            <a:off x="7095960" y="1071720"/>
            <a:ext cx="2481480" cy="2419200"/>
          </a:xfrm>
          <a:prstGeom prst="rect">
            <a:avLst/>
          </a:prstGeom>
          <a:ln w="0">
            <a:noFill/>
          </a:ln>
        </p:spPr>
      </p:pic>
      <p:sp>
        <p:nvSpPr>
          <p:cNvPr id="165" name="8 CuadroTexto"/>
          <p:cNvSpPr/>
          <p:nvPr/>
        </p:nvSpPr>
        <p:spPr>
          <a:xfrm>
            <a:off x="1905120" y="838080"/>
            <a:ext cx="4952880" cy="350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bevorzugt Legierungen mit homogenen feinkörnigen Mikrostrukturen verwendet werden.</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mäßig harte oder hochfeste Legierungen sollten vermieden werden  (für die Verwendung in Rohrleitungen sollte die Härte maximal 22 HRC oder 250 HB betragen).</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rwenden Sie Stähle mit verbesserter Reinheit, damit nichtmetallische Inklusionen, die die Zähigkeit und die Widerstandsfähigkeit gegenüber Wasserstoffversprödung reduzieren, minimiert werden</a:t>
            </a:r>
            <a:r>
              <a:rPr b="0" lang="de-DE" sz="1600" spc="-1" strike="noStrike">
                <a:solidFill>
                  <a:srgbClr val="000000"/>
                </a:solidFill>
                <a:latin typeface="Arial"/>
              </a:rPr>
              <a:t>.</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Komponenten sollten frei von größeren Oberflächen- und inneren Schäden sein.</a:t>
            </a:r>
            <a:endParaRPr b="1" lang="en-US" sz="1600" spc="-1" strike="noStrike">
              <a:solidFill>
                <a:srgbClr val="000000"/>
              </a:solidFill>
              <a:latin typeface="Colonna MT"/>
            </a:endParaRPr>
          </a:p>
        </p:txBody>
      </p:sp>
      <p:sp>
        <p:nvSpPr>
          <p:cNvPr id="166" name="10 CuadroTexto"/>
          <p:cNvSpPr/>
          <p:nvPr/>
        </p:nvSpPr>
        <p:spPr>
          <a:xfrm>
            <a:off x="1881360" y="4357800"/>
            <a:ext cx="77882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eine Reihe von Sprödbruchmechanismen oder Zersetzungseffekten. Folgende sind für die Beförderung von Wasserstoff in Rohrleitungen relevant:</a:t>
            </a:r>
            <a:endParaRPr b="1" lang="en-US" sz="1600" spc="-1" strike="noStrike">
              <a:solidFill>
                <a:srgbClr val="000000"/>
              </a:solidFill>
              <a:latin typeface="Colonna MT"/>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Innenkorrosion</a:t>
            </a:r>
            <a:r>
              <a:rPr b="0" lang="de-DE" sz="1600" spc="-1" strike="noStrike">
                <a:solidFill>
                  <a:srgbClr val="000000"/>
                </a:solidFill>
                <a:latin typeface="Arial"/>
              </a:rPr>
              <a:t>	</a:t>
            </a:r>
            <a:r>
              <a:rPr b="0" lang="de-DE" sz="1600" spc="-1" strike="noStrike">
                <a:solidFill>
                  <a:srgbClr val="000000"/>
                </a:solidFill>
                <a:latin typeface="Arial"/>
              </a:rPr>
              <a:t>Wasserstoffversprödung bei Umgebungstemperatur.</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endParaRPr b="1" lang="en-US" sz="1600" spc="-1" strike="noStrike">
              <a:solidFill>
                <a:srgbClr val="000000"/>
              </a:solidFill>
              <a:latin typeface="Colonna MT"/>
            </a:endParaRPr>
          </a:p>
          <a:p>
            <a:pP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ußenkorrosion</a:t>
            </a:r>
            <a:r>
              <a:rPr b="0" lang="de-DE" sz="1600" spc="-1" strike="noStrike">
                <a:solidFill>
                  <a:srgbClr val="000000"/>
                </a:solidFill>
                <a:latin typeface="Arial"/>
              </a:rPr>
              <a:t>	</a:t>
            </a:r>
            <a:r>
              <a:rPr b="0" lang="de-DE" sz="1600" spc="-1" strike="noStrike">
                <a:solidFill>
                  <a:srgbClr val="000000"/>
                </a:solidFill>
                <a:latin typeface="Arial"/>
              </a:rPr>
              <a:t>Spannungsrisskorrosion (SpRK) von </a:t>
            </a:r>
            <a:r>
              <a:rPr b="0" lang="de-DE" sz="1600" spc="-1" strike="noStrike">
                <a:solidFill>
                  <a:srgbClr val="000000"/>
                </a:solidFill>
                <a:latin typeface="Arial"/>
              </a:rPr>
              <a:t>	</a:t>
            </a:r>
            <a:r>
              <a:rPr b="0" lang="de-DE" sz="1600" spc="-1" strike="noStrike">
                <a:solidFill>
                  <a:srgbClr val="000000"/>
                </a:solidFill>
                <a:latin typeface="Arial"/>
              </a:rPr>
              <a:t>Leitungsrohrmaterialien in unterirdischen </a:t>
            </a:r>
            <a:r>
              <a:rPr b="0" lang="de-DE" sz="1600" spc="-1" strike="noStrike">
                <a:solidFill>
                  <a:srgbClr val="000000"/>
                </a:solidFill>
                <a:latin typeface="Arial"/>
              </a:rPr>
              <a:t>	</a:t>
            </a:r>
            <a:r>
              <a:rPr b="0" lang="de-DE" sz="1600" spc="-1" strike="noStrike">
                <a:solidFill>
                  <a:srgbClr val="000000"/>
                </a:solidFill>
                <a:latin typeface="Arial"/>
              </a:rPr>
              <a:t>Umgebungen.</a:t>
            </a:r>
            <a:endParaRPr b="1" lang="en-US" sz="1600" spc="-1" strike="noStrike">
              <a:solidFill>
                <a:srgbClr val="000000"/>
              </a:solidFill>
              <a:latin typeface="Colonna MT"/>
            </a:endParaRPr>
          </a:p>
          <a:p>
            <a:pP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67" name="11 Flecha derecha"/>
          <p:cNvSpPr/>
          <p:nvPr/>
        </p:nvSpPr>
        <p:spPr>
          <a:xfrm>
            <a:off x="4024440" y="5143680"/>
            <a:ext cx="428400" cy="214200"/>
          </a:xfrm>
          <a:prstGeom prst="rightArrow">
            <a:avLst>
              <a:gd name="adj1" fmla="val 50000"/>
              <a:gd name="adj2" fmla="val 5000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 name="12 Flecha derecha"/>
          <p:cNvSpPr/>
          <p:nvPr/>
        </p:nvSpPr>
        <p:spPr>
          <a:xfrm>
            <a:off x="4097160" y="5643720"/>
            <a:ext cx="427320" cy="214200"/>
          </a:xfrm>
          <a:prstGeom prst="rightArrow">
            <a:avLst>
              <a:gd name="adj1" fmla="val 50000"/>
              <a:gd name="adj2" fmla="val 49874"/>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41400" y="142560"/>
            <a:ext cx="8064720" cy="5540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05" name=""/>
          <p:cNvSpPr txBox="1"/>
          <p:nvPr/>
        </p:nvSpPr>
        <p:spPr>
          <a:xfrm>
            <a:off x="1712520" y="642600"/>
            <a:ext cx="8064360" cy="5667480"/>
          </a:xfrm>
          <a:prstGeom prst="rect">
            <a:avLst/>
          </a:prstGeom>
          <a:noFill/>
          <a:ln w="0">
            <a:noFill/>
          </a:ln>
        </p:spPr>
        <p:txBody>
          <a:bodyPr lIns="92160" rIns="92160" tIns="46080" bIns="46080" anchor="t">
            <a:normAutofit fontScale="92000"/>
          </a:bodyPr>
          <a:p>
            <a:pPr marL="334440" indent="-334440">
              <a:lnSpc>
                <a:spcPct val="100000"/>
              </a:lnSpc>
              <a:spcBef>
                <a:spcPts val="7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ndhabung von Druckgasen und tiefkalten Flüssiggasen.</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Arial"/>
              </a:rPr>
              <a:t>1.1. </a:t>
            </a:r>
            <a:r>
              <a:rPr b="0" lang="de-DE" sz="1200" spc="-1" strike="noStrike">
                <a:solidFill>
                  <a:srgbClr val="000000"/>
                </a:solidFill>
                <a:latin typeface="Arial"/>
              </a:rPr>
              <a:t>Definitione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Arial"/>
              </a:rPr>
              <a:t>1.2.</a:t>
            </a:r>
            <a:r>
              <a:rPr b="0" lang="de-DE" sz="1200" spc="-1" strike="noStrike">
                <a:solidFill>
                  <a:srgbClr val="000000"/>
                </a:solidFill>
                <a:latin typeface="Arial"/>
              </a:rPr>
              <a:t> Handhabung.</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Arial"/>
              </a:rPr>
              <a:t>1.3.</a:t>
            </a:r>
            <a:r>
              <a:rPr b="0" lang="de-DE" sz="1200" spc="-1" strike="noStrike">
                <a:solidFill>
                  <a:srgbClr val="000000"/>
                </a:solidFill>
                <a:latin typeface="Arial"/>
              </a:rPr>
              <a:t> Materialsicherheitsdatenblatt (MSD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asflaschen.</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rPr>
              <a:t>	</a:t>
            </a:r>
            <a:r>
              <a:rPr b="0" lang="de-DE" sz="1200" spc="-1" strike="noStrike">
                <a:solidFill>
                  <a:srgbClr val="c00000"/>
                </a:solidFill>
                <a:latin typeface="Arial"/>
              </a:rPr>
              <a:t>2.1.</a:t>
            </a:r>
            <a:r>
              <a:rPr b="0" lang="de-DE" sz="1200" spc="-1" strike="noStrike">
                <a:solidFill>
                  <a:srgbClr val="000000"/>
                </a:solidFill>
                <a:latin typeface="Arial"/>
              </a:rPr>
              <a:t> Druckwasserstoffbehälter.</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2.</a:t>
            </a:r>
            <a:r>
              <a:rPr b="0" lang="de-DE" sz="1200" spc="-1" strike="noStrike">
                <a:solidFill>
                  <a:srgbClr val="000000"/>
                </a:solidFill>
                <a:latin typeface="Arial"/>
              </a:rPr>
              <a:t> </a:t>
            </a:r>
            <a:r>
              <a:rPr b="0" lang="de-DE" sz="1200" spc="-1" strike="noStrike">
                <a:solidFill>
                  <a:srgbClr val="000000"/>
                </a:solidFill>
                <a:latin typeface="Arial"/>
              </a:rPr>
              <a:t>Flüssigwasserstoffbehälter.</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3.</a:t>
            </a:r>
            <a:r>
              <a:rPr b="0" lang="de-DE" sz="1200" spc="-1" strike="noStrike">
                <a:solidFill>
                  <a:srgbClr val="000000"/>
                </a:solidFill>
                <a:latin typeface="Arial"/>
              </a:rPr>
              <a:t> </a:t>
            </a:r>
            <a:r>
              <a:rPr b="0" lang="de-DE" sz="1200" spc="-1" strike="noStrike">
                <a:solidFill>
                  <a:srgbClr val="000000"/>
                </a:solidFill>
                <a:latin typeface="Arial"/>
              </a:rPr>
              <a:t>Vorschrifte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4.</a:t>
            </a:r>
            <a:r>
              <a:rPr b="0" lang="de-DE" sz="1200" spc="-1" strike="noStrike">
                <a:solidFill>
                  <a:srgbClr val="000000"/>
                </a:solidFill>
                <a:latin typeface="Arial"/>
              </a:rPr>
              <a:t> Flaschenlagerung.</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5.</a:t>
            </a:r>
            <a:r>
              <a:rPr b="0" lang="de-DE" sz="1200" spc="-1" strike="noStrike">
                <a:solidFill>
                  <a:srgbClr val="000000"/>
                </a:solidFill>
                <a:latin typeface="Arial"/>
              </a:rPr>
              <a:t> Transportflasche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6.</a:t>
            </a:r>
            <a:r>
              <a:rPr b="0" lang="de-DE" sz="1200" spc="-1" strike="noStrike">
                <a:solidFill>
                  <a:srgbClr val="000000"/>
                </a:solidFill>
                <a:latin typeface="Arial"/>
              </a:rPr>
              <a:t> Schulungsanforderungen und Kompetenzbeurteilung.</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7. </a:t>
            </a:r>
            <a:r>
              <a:rPr b="0" lang="de-DE" sz="1200" spc="-1" strike="noStrike">
                <a:solidFill>
                  <a:srgbClr val="000000"/>
                </a:solidFill>
                <a:latin typeface="Arial"/>
              </a:rPr>
              <a:t>Gute Praktiken.</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asrohre.</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0" lang="de-DE" sz="1200" spc="-1" strike="noStrike">
                <a:solidFill>
                  <a:srgbClr val="c00000"/>
                </a:solidFill>
                <a:latin typeface="Arial"/>
              </a:rPr>
              <a:t>3.1. </a:t>
            </a:r>
            <a:r>
              <a:rPr b="0" lang="de-DE" sz="1200" spc="-1" strike="noStrike">
                <a:solidFill>
                  <a:srgbClr val="000000"/>
                </a:solidFill>
                <a:latin typeface="Arial"/>
              </a:rPr>
              <a:t>Schweißnähte.</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ntile.</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sserstoffsensoren.</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asdruckregler. </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nstige Geräte.</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dichtheiten.</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rPr>
              <a:t>	</a:t>
            </a:r>
            <a:r>
              <a:rPr b="0" lang="de-DE" sz="1200" spc="-1" strike="noStrike">
                <a:solidFill>
                  <a:srgbClr val="c00000"/>
                </a:solidFill>
                <a:latin typeface="Arial"/>
              </a:rPr>
              <a:t>8.1. </a:t>
            </a:r>
            <a:r>
              <a:rPr b="0" lang="de-DE" sz="1200" spc="-1" strike="noStrike">
                <a:solidFill>
                  <a:srgbClr val="000000"/>
                </a:solidFill>
                <a:latin typeface="Arial"/>
              </a:rPr>
              <a:t>Kleinere Undichtheite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8.2. </a:t>
            </a:r>
            <a:r>
              <a:rPr b="0" lang="de-DE" sz="1200" spc="-1" strike="noStrike">
                <a:solidFill>
                  <a:srgbClr val="000000"/>
                </a:solidFill>
                <a:latin typeface="Arial"/>
              </a:rPr>
              <a:t>Größere Undichtheiten.</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inigung.</a:t>
            </a:r>
            <a:endParaRPr b="1" lang="en-US" sz="1400" spc="-1" strike="noStrike">
              <a:solidFill>
                <a:srgbClr val="000000"/>
              </a:solidFill>
              <a:latin typeface="Arial"/>
            </a:endParaRPr>
          </a:p>
          <a:p>
            <a:pPr marL="334440" indent="-33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712520" y="1267920"/>
            <a:ext cx="8064360" cy="5256360"/>
          </a:xfrm>
          <a:prstGeom prst="rect">
            <a:avLst/>
          </a:prstGeom>
          <a:noFill/>
          <a:ln w="0">
            <a:noFill/>
          </a:ln>
        </p:spPr>
        <p:txBody>
          <a:bodyPr lIns="92160" rIns="92160" tIns="46080" bIns="4608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gibt eine Reihe von Variablen, die den Grad des auftretenden  Versprödungsmechanismus beeinträchtigen können, wie zum Beispiel die Reinheit, die Temperatur und der Druck des Wasserstoffs. Es wird allgemein anerkannt, dass die Versprödungsneigung in Wasserstoffatmosphären mit steigendem Druck zunimmt.</a:t>
            </a:r>
            <a:endParaRPr b="1" lang="en-US" sz="1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lgemein sind die folgenden metallurgischen Überlegungen von Bedeutung:</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bevorzugt Legierungen mit homogenen feinkörnigen Mikrostrukturen verwendet werden.</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mäßig harte oder hochfeste Legierungen sollten vermieden werden (siehe oben).</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rwenden Sie Stähle mit verbesserter Reinheit, damit nichtmetallische Inklusionen, die die Zähigkeit und die Widerstandsfähigkeit gegenüber Wasserstoffversprödung reduzieren, minimiert werden.</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Komponenten sollten frei von größeren Oberflächen- und inneren Schäden sei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 name="1 Título"/>
          <p:cNvSpPr/>
          <p:nvPr/>
        </p:nvSpPr>
        <p:spPr>
          <a:xfrm>
            <a:off x="1666800" y="142920"/>
            <a:ext cx="4357800" cy="6969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s-ES" sz="3200" spc="-1" strike="noStrike">
                <a:solidFill>
                  <a:srgbClr val="ba1e31"/>
                </a:solidFill>
                <a:latin typeface="SwitzerlandCondBlack"/>
              </a:rPr>
              <a:t>3. GASROHRE</a:t>
            </a:r>
            <a:endParaRPr b="1" lang="en-US" sz="3200" spc="-1" strike="noStrike">
              <a:solidFill>
                <a:srgbClr val="000000"/>
              </a:solidFill>
              <a:latin typeface="Colonna MT"/>
            </a:endParaRPr>
          </a:p>
        </p:txBody>
      </p:sp>
      <p:sp>
        <p:nvSpPr>
          <p:cNvPr id="17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1712520" y="0"/>
            <a:ext cx="4597560" cy="2928960"/>
          </a:xfrm>
          <a:prstGeom prst="rect">
            <a:avLst/>
          </a:prstGeom>
          <a:noFill/>
          <a:ln w="0">
            <a:noFill/>
          </a:ln>
        </p:spPr>
        <p:txBody>
          <a:bodyPr lIns="92160" rIns="92160" tIns="46080" bIns="46080" anchor="t">
            <a:normAutofit fontScale="98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 Schweißnäht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nnere Schweißnahtfläche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att und frei von Schlacke, Wülsten oder losen Partikeln.</a:t>
            </a:r>
            <a:endParaRPr b="1"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Härtegrad von Schweißnähten und der Wärmeeinflusszone (WEZ) der Schweißnähte sollte Rockwell C 22 nicht überschreiten. Dies entspricht Vickers 248 oder 250 HB. </a:t>
            </a: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74" name="Picture 5" descr="E:\home.jpg"/>
          <p:cNvPicPr/>
          <p:nvPr/>
        </p:nvPicPr>
        <p:blipFill>
          <a:blip r:embed="rId1"/>
          <a:stretch/>
        </p:blipFill>
        <p:spPr>
          <a:xfrm>
            <a:off x="6381720" y="1143000"/>
            <a:ext cx="3235320" cy="2643120"/>
          </a:xfrm>
          <a:prstGeom prst="rect">
            <a:avLst/>
          </a:prstGeom>
          <a:ln w="0">
            <a:noFill/>
          </a:ln>
        </p:spPr>
      </p:pic>
      <p:sp>
        <p:nvSpPr>
          <p:cNvPr id="175" name="12 Flecha derecha"/>
          <p:cNvSpPr/>
          <p:nvPr/>
        </p:nvSpPr>
        <p:spPr>
          <a:xfrm>
            <a:off x="4648320" y="1066680"/>
            <a:ext cx="428400" cy="214560"/>
          </a:xfrm>
          <a:prstGeom prst="rightArrow">
            <a:avLst>
              <a:gd name="adj1" fmla="val 50000"/>
              <a:gd name="adj2" fmla="val 49916"/>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 name="8 CuadroTexto"/>
          <p:cNvSpPr/>
          <p:nvPr/>
        </p:nvSpPr>
        <p:spPr>
          <a:xfrm>
            <a:off x="1881360" y="4857840"/>
            <a:ext cx="75722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Rohrschweißarbeiten sollten in Übereinstimmung mit Schweißverfahren und durch für diese Verfahren qualifizierte Schweißer gemäß den Rohrleitungsvorschriften laut der Projektspezifikation und gemäß der lokalen und nationalen Gesetzgebung durchgeführt werden.</a:t>
            </a:r>
            <a:endParaRPr b="1" lang="en-US" sz="1600" spc="-1" strike="noStrike">
              <a:solidFill>
                <a:srgbClr val="000000"/>
              </a:solidFill>
              <a:latin typeface="Colonna MT"/>
            </a:endParaRPr>
          </a:p>
        </p:txBody>
      </p:sp>
      <p:sp>
        <p:nvSpPr>
          <p:cNvPr id="177" name="10 CuadroTexto"/>
          <p:cNvSpPr/>
          <p:nvPr/>
        </p:nvSpPr>
        <p:spPr>
          <a:xfrm>
            <a:off x="1738440" y="3214800"/>
            <a:ext cx="45003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ydrostatische Prüfungen</a:t>
            </a:r>
            <a:r>
              <a:rPr b="0" lang="en-US" sz="1600" spc="-1" strike="noStrike">
                <a:solidFill>
                  <a:srgbClr val="000000"/>
                </a:solidFill>
                <a:latin typeface="Arial"/>
              </a:rPr>
              <a:t>            Ein Rohr sollte zwischen 75 und 100 % der spezifischen  Mindeststreckgrenze mit einer Haltezeit unter Druck von mindestens 5 - 10 Sekunden (je nach Durchmesser) geprüft werden.</a:t>
            </a:r>
            <a:endParaRPr b="1" lang="en-US" sz="1600" spc="-1" strike="noStrike">
              <a:solidFill>
                <a:srgbClr val="000000"/>
              </a:solidFill>
              <a:latin typeface="Colonna MT"/>
            </a:endParaRPr>
          </a:p>
        </p:txBody>
      </p:sp>
      <p:sp>
        <p:nvSpPr>
          <p:cNvPr id="178" name="12 Flecha derecha"/>
          <p:cNvSpPr/>
          <p:nvPr/>
        </p:nvSpPr>
        <p:spPr>
          <a:xfrm>
            <a:off x="4648320" y="3276720"/>
            <a:ext cx="430200" cy="214200"/>
          </a:xfrm>
          <a:prstGeom prst="rightArrow">
            <a:avLst>
              <a:gd name="adj1" fmla="val 50000"/>
              <a:gd name="adj2" fmla="val 5021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6 Imagen" descr="Gate-valve9.jpg"/>
          <p:cNvPicPr/>
          <p:nvPr/>
        </p:nvPicPr>
        <p:blipFill>
          <a:blip r:embed="rId1"/>
          <a:stretch/>
        </p:blipFill>
        <p:spPr>
          <a:xfrm>
            <a:off x="5524560" y="4357800"/>
            <a:ext cx="1695240" cy="1714320"/>
          </a:xfrm>
          <a:prstGeom prst="rect">
            <a:avLst/>
          </a:prstGeom>
          <a:ln w="0">
            <a:noFill/>
          </a:ln>
        </p:spPr>
      </p:pic>
      <p:sp>
        <p:nvSpPr>
          <p:cNvPr id="181" name=""/>
          <p:cNvSpPr txBox="1"/>
          <p:nvPr/>
        </p:nvSpPr>
        <p:spPr>
          <a:xfrm>
            <a:off x="1712520" y="0"/>
            <a:ext cx="8193240" cy="6143760"/>
          </a:xfrm>
          <a:prstGeom prst="rect">
            <a:avLst/>
          </a:prstGeom>
          <a:noFill/>
          <a:ln w="0">
            <a:noFill/>
          </a:ln>
        </p:spPr>
        <p:txBody>
          <a:bodyPr lIns="92160" rIns="92160" tIns="46080" bIns="46080" anchor="t">
            <a:normAutofit fontScale="98000"/>
          </a:bodyPr>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24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ntilfunktionen: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Absperrventil und Notfallabsperrventile,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Steuer- und Druckminderungsventile und -regler,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Sicherheitsventile,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Manuelle Belüftungs- und Ablassventile,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Überlaufventile,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Kontrollventile (Rückschlagventile ) </a:t>
            </a:r>
            <a:r>
              <a:rPr b="0" lang="de-DE" sz="1200" spc="-1" strike="noStrike">
                <a:solidFill>
                  <a:srgbClr val="000000"/>
                </a:solidFill>
                <a:latin typeface="Arial"/>
              </a:rPr>
              <a:t>(1)</a:t>
            </a:r>
            <a:endParaRPr b="1" lang="en-US" sz="1200" spc="-1" strike="noStrike">
              <a:solidFill>
                <a:srgbClr val="000000"/>
              </a:solidFill>
              <a:latin typeface="Arial"/>
            </a:endParaRPr>
          </a:p>
          <a:p>
            <a:pPr marL="163080" indent="-1630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de-DE" sz="1600" spc="-1" strike="noStrike">
                <a:solidFill>
                  <a:srgbClr val="000000"/>
                </a:solidFill>
                <a:latin typeface="Arial"/>
              </a:rPr>
              <a:t> </a:t>
            </a:r>
            <a:r>
              <a:rPr b="0" lang="de-DE" sz="1600" spc="-1" strike="noStrike">
                <a:solidFill>
                  <a:srgbClr val="000000"/>
                </a:solidFill>
                <a:latin typeface="Arial"/>
              </a:rPr>
              <a:t>Ventiltypen: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Kugel- </a:t>
            </a:r>
            <a:r>
              <a:rPr b="0" lang="de-DE" sz="1200" spc="-1" strike="noStrike">
                <a:solidFill>
                  <a:srgbClr val="000000"/>
                </a:solidFill>
                <a:latin typeface="Arial"/>
              </a:rPr>
              <a:t>(2)</a:t>
            </a:r>
            <a:r>
              <a:rPr b="0" lang="de-DE" sz="1600" spc="-1" strike="noStrike">
                <a:solidFill>
                  <a:srgbClr val="000000"/>
                </a:solidFill>
                <a:latin typeface="Arial"/>
              </a:rPr>
              <a:t> und Kegelventile </a:t>
            </a:r>
            <a:r>
              <a:rPr b="0" lang="de-DE" sz="1200" spc="-1" strike="noStrike">
                <a:solidFill>
                  <a:srgbClr val="000000"/>
                </a:solidFill>
                <a:latin typeface="Arial"/>
              </a:rPr>
              <a:t>(3)</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Drosselklappen </a:t>
            </a:r>
            <a:r>
              <a:rPr b="0" lang="de-DE" sz="1200" spc="-1" strike="noStrike">
                <a:solidFill>
                  <a:srgbClr val="000000"/>
                </a:solidFill>
                <a:latin typeface="Arial"/>
              </a:rPr>
              <a:t>(4)</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Schieberventile </a:t>
            </a:r>
            <a:r>
              <a:rPr b="0" lang="de-DE" sz="1200" spc="-1" strike="noStrike">
                <a:solidFill>
                  <a:srgbClr val="000000"/>
                </a:solidFill>
                <a:latin typeface="Arial"/>
              </a:rPr>
              <a:t>(5)</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Hubventile </a:t>
            </a:r>
            <a:r>
              <a:rPr b="0" lang="de-DE" sz="1200" spc="-1" strike="noStrike">
                <a:solidFill>
                  <a:srgbClr val="000000"/>
                </a:solidFill>
                <a:latin typeface="Arial"/>
              </a:rPr>
              <a:t>(6)</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Überdruckventile </a:t>
            </a:r>
            <a:r>
              <a:rPr b="0" lang="de-DE" sz="1200" spc="-1" strike="noStrike">
                <a:solidFill>
                  <a:srgbClr val="000000"/>
                </a:solidFill>
                <a:latin typeface="Arial"/>
              </a:rPr>
              <a:t>(7)</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Kontrollventile (Rückschlagventile ).</a:t>
            </a:r>
            <a:endParaRPr b="1" lang="en-US" sz="1600" spc="-1" strike="noStrike">
              <a:solidFill>
                <a:srgbClr val="000000"/>
              </a:solidFill>
              <a:latin typeface="Arial"/>
            </a:endParaRPr>
          </a:p>
        </p:txBody>
      </p:sp>
      <p:pic>
        <p:nvPicPr>
          <p:cNvPr id="182" name="9 Imagen" descr="Watts%20174A%20Valve.jpg"/>
          <p:cNvPicPr/>
          <p:nvPr/>
        </p:nvPicPr>
        <p:blipFill>
          <a:blip r:embed="rId2"/>
          <a:stretch/>
        </p:blipFill>
        <p:spPr>
          <a:xfrm>
            <a:off x="8381880" y="3643200"/>
            <a:ext cx="1381320" cy="1943280"/>
          </a:xfrm>
          <a:prstGeom prst="rect">
            <a:avLst/>
          </a:prstGeom>
          <a:ln w="0">
            <a:noFill/>
          </a:ln>
        </p:spPr>
      </p:pic>
      <p:pic>
        <p:nvPicPr>
          <p:cNvPr id="183" name="8 Imagen" descr="Plug_Valve.jpg"/>
          <p:cNvPicPr/>
          <p:nvPr/>
        </p:nvPicPr>
        <p:blipFill>
          <a:blip r:embed="rId3"/>
          <a:stretch/>
        </p:blipFill>
        <p:spPr>
          <a:xfrm>
            <a:off x="7977240" y="500040"/>
            <a:ext cx="1928880" cy="1928880"/>
          </a:xfrm>
          <a:prstGeom prst="rect">
            <a:avLst/>
          </a:prstGeom>
          <a:ln w="0">
            <a:noFill/>
          </a:ln>
        </p:spPr>
      </p:pic>
      <p:pic>
        <p:nvPicPr>
          <p:cNvPr id="184" name="3 Imagen" descr="BallValves1900.gif"/>
          <p:cNvPicPr/>
          <p:nvPr/>
        </p:nvPicPr>
        <p:blipFill>
          <a:blip r:embed="rId4"/>
          <a:stretch/>
        </p:blipFill>
        <p:spPr>
          <a:xfrm>
            <a:off x="6024600" y="2071800"/>
            <a:ext cx="1571760" cy="1828800"/>
          </a:xfrm>
          <a:prstGeom prst="rect">
            <a:avLst/>
          </a:prstGeom>
          <a:ln w="0">
            <a:noFill/>
          </a:ln>
        </p:spPr>
      </p:pic>
      <p:pic>
        <p:nvPicPr>
          <p:cNvPr id="185" name="4 Imagen" descr="ButtValve1Ver2.jpg"/>
          <p:cNvPicPr/>
          <p:nvPr/>
        </p:nvPicPr>
        <p:blipFill>
          <a:blip r:embed="rId5"/>
          <a:stretch/>
        </p:blipFill>
        <p:spPr>
          <a:xfrm>
            <a:off x="4873680" y="4286160"/>
            <a:ext cx="936720" cy="1285920"/>
          </a:xfrm>
          <a:prstGeom prst="rect">
            <a:avLst/>
          </a:prstGeom>
          <a:ln w="0">
            <a:noFill/>
          </a:ln>
        </p:spPr>
      </p:pic>
      <p:pic>
        <p:nvPicPr>
          <p:cNvPr id="186" name="5 Imagen" descr="check-valve-3116.gif"/>
          <p:cNvPicPr/>
          <p:nvPr/>
        </p:nvPicPr>
        <p:blipFill>
          <a:blip r:embed="rId6"/>
          <a:stretch/>
        </p:blipFill>
        <p:spPr>
          <a:xfrm>
            <a:off x="7238880" y="2214720"/>
            <a:ext cx="1862280" cy="1738080"/>
          </a:xfrm>
          <a:prstGeom prst="rect">
            <a:avLst/>
          </a:prstGeom>
          <a:ln w="0">
            <a:noFill/>
          </a:ln>
        </p:spPr>
      </p:pic>
      <p:pic>
        <p:nvPicPr>
          <p:cNvPr id="187" name="7 Imagen" descr="globe-valve.jpg"/>
          <p:cNvPicPr/>
          <p:nvPr/>
        </p:nvPicPr>
        <p:blipFill>
          <a:blip r:embed="rId7"/>
          <a:stretch/>
        </p:blipFill>
        <p:spPr>
          <a:xfrm>
            <a:off x="6953400" y="4214880"/>
            <a:ext cx="1581120" cy="2100240"/>
          </a:xfrm>
          <a:prstGeom prst="rect">
            <a:avLst/>
          </a:prstGeom>
          <a:ln w="0">
            <a:noFill/>
          </a:ln>
        </p:spPr>
      </p:pic>
      <p:sp>
        <p:nvSpPr>
          <p:cNvPr id="188"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4. VENTILE</a:t>
            </a:r>
            <a:endParaRPr b="1" lang="en-US" sz="2600" spc="-1" strike="noStrike">
              <a:solidFill>
                <a:srgbClr val="ba1e31"/>
              </a:solidFill>
              <a:latin typeface="SwitzerlandCondBlack"/>
            </a:endParaRPr>
          </a:p>
        </p:txBody>
      </p:sp>
      <p:sp>
        <p:nvSpPr>
          <p:cNvPr id="18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90" name="11 CuadroTexto"/>
          <p:cNvSpPr/>
          <p:nvPr/>
        </p:nvSpPr>
        <p:spPr>
          <a:xfrm>
            <a:off x="723888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endParaRPr b="1" lang="en-US" sz="1200" spc="-1" strike="noStrike">
              <a:solidFill>
                <a:srgbClr val="000000"/>
              </a:solidFill>
              <a:latin typeface="Colonna MT"/>
            </a:endParaRPr>
          </a:p>
        </p:txBody>
      </p:sp>
      <p:sp>
        <p:nvSpPr>
          <p:cNvPr id="191" name="12 CuadroTexto"/>
          <p:cNvSpPr/>
          <p:nvPr/>
        </p:nvSpPr>
        <p:spPr>
          <a:xfrm>
            <a:off x="5238720" y="4143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192" name="13 CuadroTexto"/>
          <p:cNvSpPr/>
          <p:nvPr/>
        </p:nvSpPr>
        <p:spPr>
          <a:xfrm>
            <a:off x="8167680" y="3643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193" name="15 CuadroTexto"/>
          <p:cNvSpPr/>
          <p:nvPr/>
        </p:nvSpPr>
        <p:spPr>
          <a:xfrm>
            <a:off x="6238800" y="5929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194" name="16 CuadroTexto"/>
          <p:cNvSpPr/>
          <p:nvPr/>
        </p:nvSpPr>
        <p:spPr>
          <a:xfrm>
            <a:off x="9239400" y="20718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195" name="17 CuadroTexto"/>
          <p:cNvSpPr/>
          <p:nvPr/>
        </p:nvSpPr>
        <p:spPr>
          <a:xfrm>
            <a:off x="6453360" y="3786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196" name="18 CuadroTexto"/>
          <p:cNvSpPr/>
          <p:nvPr/>
        </p:nvSpPr>
        <p:spPr>
          <a:xfrm>
            <a:off x="9096480" y="55720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66800" y="142920"/>
            <a:ext cx="62150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5. WASSERSTOFFSENSOREN</a:t>
            </a:r>
            <a:endParaRPr b="1" lang="en-US" sz="2600" spc="-1" strike="noStrike">
              <a:solidFill>
                <a:srgbClr val="ba1e31"/>
              </a:solidFill>
              <a:latin typeface="SwitzerlandCondBlack"/>
            </a:endParaRPr>
          </a:p>
        </p:txBody>
      </p:sp>
      <p:sp>
        <p:nvSpPr>
          <p:cNvPr id="198" name="7 CuadroTexto"/>
          <p:cNvSpPr/>
          <p:nvPr/>
        </p:nvSpPr>
        <p:spPr>
          <a:xfrm>
            <a:off x="1809720" y="1071720"/>
            <a:ext cx="735804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die Auswahl des besten Sensors ist Folgendes zu beachten:</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 </a:t>
            </a:r>
            <a:r>
              <a:rPr b="0" lang="de-DE" sz="1600" spc="-1" strike="noStrike">
                <a:solidFill>
                  <a:srgbClr val="000000"/>
                </a:solidFill>
                <a:latin typeface="Arial"/>
              </a:rPr>
              <a:t>Gas und Konzentrationsbereich.</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Fest oder tragbar, Punktsensor oder Open-Path-Sensor.</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Umgebung.</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Stromverbrauch, Reaktionszeit, Wartungsintervall.</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Wonach sollte man fragen?</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den drei wichtigsten Punkten der Gasdetektio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 Empfindlichkeit.</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 Selektivität.</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 Stabilität.</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Einfache Systemintegratio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Niedriger Energieverbrauch (10 mW).</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Rauscharm.</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Lange Lebensdauer und Kalibrierintervalle.</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Niedrige Querempfindlichkeit.</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Schnelle Reaktion/Wiederherstellung.</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Eigensicherheit.</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Niedrige Kosten.</a:t>
            </a:r>
            <a:endParaRPr b="1" lang="en-US" sz="1600" spc="-1" strike="noStrike">
              <a:solidFill>
                <a:srgbClr val="000000"/>
              </a:solidFill>
              <a:latin typeface="Colonna MT"/>
            </a:endParaRPr>
          </a:p>
        </p:txBody>
      </p:sp>
      <p:pic>
        <p:nvPicPr>
          <p:cNvPr id="199" name="9 Imagen" descr="147438.jpg"/>
          <p:cNvPicPr/>
          <p:nvPr/>
        </p:nvPicPr>
        <p:blipFill>
          <a:blip r:embed="rId1"/>
          <a:stretch/>
        </p:blipFill>
        <p:spPr>
          <a:xfrm>
            <a:off x="5943600" y="4572000"/>
            <a:ext cx="1819440" cy="1928880"/>
          </a:xfrm>
          <a:prstGeom prst="rect">
            <a:avLst/>
          </a:prstGeom>
          <a:ln w="0">
            <a:noFill/>
          </a:ln>
        </p:spPr>
      </p:pic>
      <p:pic>
        <p:nvPicPr>
          <p:cNvPr id="200" name="Picture 3" descr=""/>
          <p:cNvPicPr/>
          <p:nvPr/>
        </p:nvPicPr>
        <p:blipFill>
          <a:blip r:embed="rId2"/>
          <a:stretch/>
        </p:blipFill>
        <p:spPr>
          <a:xfrm>
            <a:off x="7095960" y="2500200"/>
            <a:ext cx="2173320" cy="2143080"/>
          </a:xfrm>
          <a:prstGeom prst="rect">
            <a:avLst/>
          </a:prstGeom>
          <a:ln w="0">
            <a:noFill/>
          </a:ln>
        </p:spPr>
      </p:pic>
      <p:sp>
        <p:nvSpPr>
          <p:cNvPr id="20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02" name="6 CuadroTexto"/>
          <p:cNvSpPr/>
          <p:nvPr/>
        </p:nvSpPr>
        <p:spPr>
          <a:xfrm>
            <a:off x="7453440" y="471492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Wasserstoffsensoren</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66440" y="142920"/>
            <a:ext cx="69296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6. GASDRUCKREGLER</a:t>
            </a:r>
            <a:endParaRPr b="1" lang="en-US" sz="2600" spc="-1" strike="noStrike">
              <a:solidFill>
                <a:srgbClr val="ba1e31"/>
              </a:solidFill>
              <a:latin typeface="SwitzerlandCondBlack"/>
            </a:endParaRPr>
          </a:p>
        </p:txBody>
      </p:sp>
      <p:grpSp>
        <p:nvGrpSpPr>
          <p:cNvPr id="204" name="9 Grupo"/>
          <p:cNvGrpSpPr/>
          <p:nvPr/>
        </p:nvGrpSpPr>
        <p:grpSpPr>
          <a:xfrm>
            <a:off x="5310360" y="928800"/>
            <a:ext cx="4238280" cy="5619600"/>
            <a:chOff x="5310360" y="928800"/>
            <a:chExt cx="4238280" cy="5619600"/>
          </a:xfrm>
        </p:grpSpPr>
        <p:pic>
          <p:nvPicPr>
            <p:cNvPr id="205" name="6 Imagen" descr="high_purity.jpg"/>
            <p:cNvPicPr/>
            <p:nvPr/>
          </p:nvPicPr>
          <p:blipFill>
            <a:blip r:embed="rId1"/>
            <a:stretch/>
          </p:blipFill>
          <p:spPr>
            <a:xfrm>
              <a:off x="7167600" y="2928960"/>
              <a:ext cx="2381040" cy="2276280"/>
            </a:xfrm>
            <a:prstGeom prst="rect">
              <a:avLst/>
            </a:prstGeom>
            <a:ln w="0">
              <a:noFill/>
            </a:ln>
          </p:spPr>
        </p:pic>
        <p:pic>
          <p:nvPicPr>
            <p:cNvPr id="206" name="5 Imagen" descr="general_purpose.gif"/>
            <p:cNvPicPr/>
            <p:nvPr/>
          </p:nvPicPr>
          <p:blipFill>
            <a:blip r:embed="rId2"/>
            <a:stretch/>
          </p:blipFill>
          <p:spPr>
            <a:xfrm>
              <a:off x="7953480" y="928800"/>
              <a:ext cx="1532520" cy="2176200"/>
            </a:xfrm>
            <a:prstGeom prst="rect">
              <a:avLst/>
            </a:prstGeom>
            <a:ln w="0">
              <a:noFill/>
            </a:ln>
          </p:spPr>
        </p:pic>
        <p:pic>
          <p:nvPicPr>
            <p:cNvPr id="207" name="8 Imagen" descr="special_service.jpg"/>
            <p:cNvPicPr/>
            <p:nvPr/>
          </p:nvPicPr>
          <p:blipFill>
            <a:blip r:embed="rId3"/>
            <a:stretch/>
          </p:blipFill>
          <p:spPr>
            <a:xfrm>
              <a:off x="6095880" y="1000080"/>
              <a:ext cx="1838160" cy="1990440"/>
            </a:xfrm>
            <a:prstGeom prst="rect">
              <a:avLst/>
            </a:prstGeom>
            <a:ln w="0">
              <a:noFill/>
            </a:ln>
          </p:spPr>
        </p:pic>
        <p:pic>
          <p:nvPicPr>
            <p:cNvPr id="208" name="7 Imagen" descr="line_regulator.jpg"/>
            <p:cNvPicPr/>
            <p:nvPr/>
          </p:nvPicPr>
          <p:blipFill>
            <a:blip r:embed="rId4"/>
            <a:stretch/>
          </p:blipFill>
          <p:spPr>
            <a:xfrm>
              <a:off x="5310360" y="4357800"/>
              <a:ext cx="2190600" cy="2190600"/>
            </a:xfrm>
            <a:prstGeom prst="rect">
              <a:avLst/>
            </a:prstGeom>
            <a:ln w="0">
              <a:noFill/>
            </a:ln>
          </p:spPr>
        </p:pic>
      </p:grpSp>
      <p:sp>
        <p:nvSpPr>
          <p:cNvPr id="209" name="10 CuadroTexto"/>
          <p:cNvSpPr/>
          <p:nvPr/>
        </p:nvSpPr>
        <p:spPr>
          <a:xfrm>
            <a:off x="1809720" y="3286080"/>
            <a:ext cx="4286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a91b2c"/>
                </a:solidFill>
                <a:latin typeface="Arial"/>
              </a:rPr>
              <a:t> </a:t>
            </a:r>
            <a:r>
              <a:rPr b="0" lang="es-ES" sz="1600" spc="-1" strike="noStrike">
                <a:solidFill>
                  <a:srgbClr val="000000"/>
                </a:solidFill>
                <a:latin typeface="Arial"/>
              </a:rPr>
              <a:t>Type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Leitungsregler </a:t>
            </a:r>
            <a:r>
              <a:rPr b="0" lang="es-ES" sz="1200" spc="-1" strike="noStrike">
                <a:solidFill>
                  <a:srgbClr val="000000"/>
                </a:solidFill>
                <a:latin typeface="Arial"/>
              </a:rPr>
              <a:t>(1)</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Universalregler </a:t>
            </a:r>
            <a:r>
              <a:rPr b="0" lang="es-ES" sz="1200" spc="-1" strike="noStrike">
                <a:solidFill>
                  <a:srgbClr val="000000"/>
                </a:solidFill>
                <a:latin typeface="Arial"/>
              </a:rPr>
              <a:t>(2)</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Hochreinheitsregler </a:t>
            </a:r>
            <a:r>
              <a:rPr b="0" lang="es-ES" sz="1200" spc="-1" strike="noStrike">
                <a:solidFill>
                  <a:srgbClr val="000000"/>
                </a:solidFill>
                <a:latin typeface="Arial"/>
              </a:rPr>
              <a:t>(3)</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Spezialregler </a:t>
            </a:r>
            <a:r>
              <a:rPr b="0" lang="es-ES" sz="1200" spc="-1" strike="noStrike">
                <a:solidFill>
                  <a:srgbClr val="000000"/>
                </a:solidFill>
                <a:latin typeface="Arial"/>
              </a:rPr>
              <a:t>(4)</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10" name="11 CuadroTexto"/>
          <p:cNvSpPr/>
          <p:nvPr/>
        </p:nvSpPr>
        <p:spPr>
          <a:xfrm>
            <a:off x="1881360" y="1357200"/>
            <a:ext cx="4073400" cy="1797480"/>
          </a:xfrm>
          <a:prstGeom prst="rect">
            <a:avLst/>
          </a:prstGeom>
          <a:noFill/>
          <a:ln w="0">
            <a:noFill/>
          </a:ln>
        </p:spPr>
        <p:style>
          <a:lnRef idx="0"/>
          <a:fillRef idx="0"/>
          <a:effectRef idx="0"/>
          <a:fontRef idx="minor"/>
        </p:style>
        <p:txBody>
          <a:bodyPr lIns="90000" rIns="90000" tIns="46800" bIns="46800" anchor="t">
            <a:spAutoFit/>
          </a:bodyPr>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 </a:t>
            </a:r>
            <a:r>
              <a:rPr b="0" lang="en-US" sz="1600" spc="-1" strike="noStrike">
                <a:solidFill>
                  <a:srgbClr val="000000"/>
                </a:solidFill>
                <a:latin typeface="Arial"/>
              </a:rPr>
              <a:t>Um Hochdruckgas in einer Flasche oder einer Verfahrenslinie auf ein niedrigeres, verwendbares Niveau zu reduzieren, wenn es in ein anderes Gerät übergeht.</a:t>
            </a:r>
            <a:endParaRPr b="1" lang="en-US" sz="1600" spc="-1" strike="noStrike">
              <a:solidFill>
                <a:srgbClr val="000000"/>
              </a:solidFill>
              <a:latin typeface="Colonna MT"/>
            </a:endParaRPr>
          </a:p>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können dazu dienen, Druck innerhalb eines System beizubehalten. </a:t>
            </a:r>
            <a:endParaRPr b="1" lang="en-US" sz="1600" spc="-1" strike="noStrike">
              <a:solidFill>
                <a:srgbClr val="000000"/>
              </a:solidFill>
              <a:latin typeface="Colonna MT"/>
            </a:endParaRPr>
          </a:p>
        </p:txBody>
      </p:sp>
      <p:sp>
        <p:nvSpPr>
          <p:cNvPr id="21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12" name="12 CuadroTexto"/>
          <p:cNvSpPr/>
          <p:nvPr/>
        </p:nvSpPr>
        <p:spPr>
          <a:xfrm>
            <a:off x="666756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213" name="13 CuadroTexto"/>
          <p:cNvSpPr/>
          <p:nvPr/>
        </p:nvSpPr>
        <p:spPr>
          <a:xfrm>
            <a:off x="8381880" y="5072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14" name="14 CuadroTexto"/>
          <p:cNvSpPr/>
          <p:nvPr/>
        </p:nvSpPr>
        <p:spPr>
          <a:xfrm>
            <a:off x="9167760" y="3000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15" name="15 CuadroTexto"/>
          <p:cNvSpPr/>
          <p:nvPr/>
        </p:nvSpPr>
        <p:spPr>
          <a:xfrm>
            <a:off x="6667560" y="28576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7. SONSTIGE GERÄTE</a:t>
            </a:r>
            <a:endParaRPr b="1" lang="en-US" sz="2600" spc="-1" strike="noStrike">
              <a:solidFill>
                <a:srgbClr val="ba1e31"/>
              </a:solidFill>
              <a:latin typeface="SwitzerlandCondBlack"/>
            </a:endParaRPr>
          </a:p>
        </p:txBody>
      </p:sp>
      <p:sp>
        <p:nvSpPr>
          <p:cNvPr id="217" name=""/>
          <p:cNvSpPr txBox="1"/>
          <p:nvPr/>
        </p:nvSpPr>
        <p:spPr>
          <a:xfrm>
            <a:off x="1712520" y="714240"/>
            <a:ext cx="8193240" cy="54295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Siebe und Filter </a:t>
            </a:r>
            <a:r>
              <a:rPr b="0" lang="de-DE"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Durchflussmessgeräts </a:t>
            </a:r>
            <a:r>
              <a:rPr b="0" lang="de-DE" sz="1200" spc="-1" strike="noStrike">
                <a:solidFill>
                  <a:srgbClr val="000000"/>
                </a:solidFill>
                <a:latin typeface="Arial"/>
              </a:rPr>
              <a:t>(2).</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Berstscheiben </a:t>
            </a:r>
            <a:r>
              <a:rPr b="0" lang="de-DE" sz="1200" spc="-1" strike="noStrike">
                <a:solidFill>
                  <a:srgbClr val="000000"/>
                </a:solidFill>
                <a:latin typeface="Arial"/>
              </a:rPr>
              <a:t>(3).</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Isolierverbindungen </a:t>
            </a:r>
            <a:r>
              <a:rPr b="0" lang="de-DE" sz="1200" spc="-1" strike="noStrike">
                <a:solidFill>
                  <a:srgbClr val="000000"/>
                </a:solidFill>
                <a:latin typeface="Arial"/>
              </a:rPr>
              <a:t>(4).</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Flexible Anschlüsse </a:t>
            </a:r>
            <a:r>
              <a:rPr b="0" lang="de-DE" sz="1200" spc="-1" strike="noStrike">
                <a:solidFill>
                  <a:srgbClr val="000000"/>
                </a:solidFill>
                <a:latin typeface="Arial"/>
              </a:rPr>
              <a:t>(5).</a:t>
            </a:r>
            <a:endParaRPr b="1" lang="en-US" sz="1200" spc="-1" strike="noStrike">
              <a:solidFill>
                <a:srgbClr val="000000"/>
              </a:solidFill>
              <a:latin typeface="Arial"/>
            </a:endParaRPr>
          </a:p>
        </p:txBody>
      </p:sp>
      <p:grpSp>
        <p:nvGrpSpPr>
          <p:cNvPr id="218" name="9 Grupo"/>
          <p:cNvGrpSpPr/>
          <p:nvPr/>
        </p:nvGrpSpPr>
        <p:grpSpPr>
          <a:xfrm>
            <a:off x="2309760" y="857160"/>
            <a:ext cx="6929640" cy="5634000"/>
            <a:chOff x="2309760" y="857160"/>
            <a:chExt cx="6929640" cy="5634000"/>
          </a:xfrm>
        </p:grpSpPr>
        <p:pic>
          <p:nvPicPr>
            <p:cNvPr id="219" name="4 Imagen" descr="03-b.jpg"/>
            <p:cNvPicPr/>
            <p:nvPr/>
          </p:nvPicPr>
          <p:blipFill>
            <a:blip r:embed="rId1"/>
            <a:stretch/>
          </p:blipFill>
          <p:spPr>
            <a:xfrm>
              <a:off x="6881760" y="857160"/>
              <a:ext cx="2143080" cy="2143080"/>
            </a:xfrm>
            <a:prstGeom prst="rect">
              <a:avLst/>
            </a:prstGeom>
            <a:ln w="0">
              <a:noFill/>
            </a:ln>
          </p:spPr>
        </p:pic>
        <p:pic>
          <p:nvPicPr>
            <p:cNvPr id="220" name="5 Imagen" descr="hayward1.jpg"/>
            <p:cNvPicPr/>
            <p:nvPr/>
          </p:nvPicPr>
          <p:blipFill>
            <a:blip r:embed="rId2"/>
            <a:stretch/>
          </p:blipFill>
          <p:spPr>
            <a:xfrm>
              <a:off x="4738680" y="857160"/>
              <a:ext cx="2143080" cy="3546360"/>
            </a:xfrm>
            <a:prstGeom prst="rect">
              <a:avLst/>
            </a:prstGeom>
            <a:ln w="0">
              <a:noFill/>
            </a:ln>
          </p:spPr>
        </p:pic>
        <p:pic>
          <p:nvPicPr>
            <p:cNvPr id="221" name="6 Imagen" descr="icd.jpg"/>
            <p:cNvPicPr/>
            <p:nvPr/>
          </p:nvPicPr>
          <p:blipFill>
            <a:blip r:embed="rId3"/>
            <a:stretch/>
          </p:blipFill>
          <p:spPr>
            <a:xfrm>
              <a:off x="2309760" y="3286080"/>
              <a:ext cx="2286000" cy="1698480"/>
            </a:xfrm>
            <a:prstGeom prst="rect">
              <a:avLst/>
            </a:prstGeom>
            <a:ln w="0">
              <a:noFill/>
            </a:ln>
          </p:spPr>
        </p:pic>
        <p:pic>
          <p:nvPicPr>
            <p:cNvPr id="222" name="7 Imagen" descr="magflux_A.jpg"/>
            <p:cNvPicPr/>
            <p:nvPr/>
          </p:nvPicPr>
          <p:blipFill>
            <a:blip r:embed="rId4"/>
            <a:stretch/>
          </p:blipFill>
          <p:spPr>
            <a:xfrm>
              <a:off x="7151760" y="2571480"/>
              <a:ext cx="2087640" cy="2722320"/>
            </a:xfrm>
            <a:prstGeom prst="rect">
              <a:avLst/>
            </a:prstGeom>
            <a:ln w="0">
              <a:noFill/>
            </a:ln>
          </p:spPr>
        </p:pic>
        <p:pic>
          <p:nvPicPr>
            <p:cNvPr id="223" name="8 Imagen" descr="pic6_large.jpg"/>
            <p:cNvPicPr/>
            <p:nvPr/>
          </p:nvPicPr>
          <p:blipFill>
            <a:blip r:embed="rId5"/>
            <a:stretch/>
          </p:blipFill>
          <p:spPr>
            <a:xfrm>
              <a:off x="4095720" y="4357800"/>
              <a:ext cx="2443680" cy="2133360"/>
            </a:xfrm>
            <a:prstGeom prst="rect">
              <a:avLst/>
            </a:prstGeom>
            <a:ln w="0">
              <a:noFill/>
            </a:ln>
          </p:spPr>
        </p:pic>
      </p:grpSp>
      <p:sp>
        <p:nvSpPr>
          <p:cNvPr id="22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25" name="10 CuadroTexto"/>
          <p:cNvSpPr/>
          <p:nvPr/>
        </p:nvSpPr>
        <p:spPr>
          <a:xfrm>
            <a:off x="2666880" y="4929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26" name="11 CuadroTexto"/>
          <p:cNvSpPr/>
          <p:nvPr/>
        </p:nvSpPr>
        <p:spPr>
          <a:xfrm>
            <a:off x="8953560" y="12142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27" name="12 CuadroTexto"/>
          <p:cNvSpPr/>
          <p:nvPr/>
        </p:nvSpPr>
        <p:spPr>
          <a:xfrm>
            <a:off x="659592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28" name="13 CuadroTexto"/>
          <p:cNvSpPr/>
          <p:nvPr/>
        </p:nvSpPr>
        <p:spPr>
          <a:xfrm>
            <a:off x="8096400" y="53578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29" name="14 CuadroTexto"/>
          <p:cNvSpPr/>
          <p:nvPr/>
        </p:nvSpPr>
        <p:spPr>
          <a:xfrm>
            <a:off x="6167520" y="581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841040" y="142920"/>
            <a:ext cx="417852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8. UNDICHTHEITEN</a:t>
            </a:r>
            <a:endParaRPr b="1" lang="en-US" sz="3200" spc="-1" strike="noStrike">
              <a:solidFill>
                <a:srgbClr val="ba1e31"/>
              </a:solidFill>
              <a:latin typeface="SwitzerlandCondBlack"/>
            </a:endParaRPr>
          </a:p>
        </p:txBody>
      </p:sp>
      <p:sp>
        <p:nvSpPr>
          <p:cNvPr id="231" name=""/>
          <p:cNvSpPr txBox="1"/>
          <p:nvPr/>
        </p:nvSpPr>
        <p:spPr>
          <a:xfrm>
            <a:off x="1712520" y="785880"/>
            <a:ext cx="8064360" cy="3929040"/>
          </a:xfrm>
          <a:prstGeom prst="rect">
            <a:avLst/>
          </a:prstGeom>
          <a:noFill/>
          <a:ln w="0">
            <a:noFill/>
          </a:ln>
        </p:spPr>
        <p:txBody>
          <a:bodyPr lIns="92160" rIns="92160" tIns="46080" bIns="46080" anchor="t">
            <a:normAutofit fontScale="97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1. Kleinere Undichtheiten</a:t>
            </a:r>
            <a:endParaRPr b="1" lang="en-US" sz="24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prüfen Sie vermutete Undichtheiten mit einem Detektor für entzündbares Gas oder mit einer Seifenwasserlösung. Wenn die Undichtheit nicht durch das Anziehen der Ventilstopfbuchse oder der Dichtungsmutter gestoppt werden kann, sollten Notfallmaßnahmen eingeleitet werd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ntzündbaren, Inert- oder oxidierenden Gasen bringen Sie die Flasche in einen abgedichteten, gut belüfteten Bereich außerhalb der Reichweite brennbarer Materialien. Bringen Sie Schilder an, die die Gefahr beschreib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korrosiven und giftigen Gasen bringen Sie die Flasche in einen abgedichteten und gut belüfteten Bereich und verwenden Sie geeignete Mittel, um das Gas in ein geeignetes Neutralisationsmittel zu lenken. Bringen Sie Schilder an, die die Gefahr beschreib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s es erforderlich ist, eine undichte Flasche durch belebte Teile eines Gebäudes zu transportieren, stülpen Sie eine Plastiktüte, eine Gummiummantelung oder Ähnliches über die Oberseite und kleben Sie diese an der Flasche fest (vorzugsweise mit Isolierband), um das austretende Gas einzudämmen.</a:t>
            </a:r>
            <a:endParaRPr b="1" lang="en-US" sz="16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32" name="4 Imagen" descr="Leaks.jpg"/>
          <p:cNvPicPr/>
          <p:nvPr/>
        </p:nvPicPr>
        <p:blipFill>
          <a:blip r:embed="rId1"/>
          <a:stretch/>
        </p:blipFill>
        <p:spPr>
          <a:xfrm>
            <a:off x="4343400" y="4876920"/>
            <a:ext cx="1866960" cy="1400040"/>
          </a:xfrm>
          <a:prstGeom prst="rect">
            <a:avLst/>
          </a:prstGeom>
          <a:ln w="0">
            <a:noFill/>
          </a:ln>
        </p:spPr>
      </p:pic>
      <p:sp>
        <p:nvSpPr>
          <p:cNvPr id="23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1738080" y="356760"/>
            <a:ext cx="5097240" cy="2428920"/>
          </a:xfrm>
          <a:prstGeom prst="rect">
            <a:avLst/>
          </a:prstGeom>
          <a:noFill/>
          <a:ln w="0">
            <a:noFill/>
          </a:ln>
        </p:spPr>
        <p:txBody>
          <a:bodyPr lIns="92160" rIns="92160" tIns="46080" bIns="46080" anchor="t">
            <a:normAutofit fontScale="95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 Größere Undichtheiten</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fen Sie die Notrufnummer a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ösen Sie Feueralarm für das Gebäude und den Bereich au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kuieren Sie den Bereich.</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ieren Sie die Zuständigen bei deren Ankunft über die Einzelheiten des Problem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 name="2 Marcador de contenido"/>
          <p:cNvSpPr/>
          <p:nvPr/>
        </p:nvSpPr>
        <p:spPr>
          <a:xfrm>
            <a:off x="1809720" y="3143160"/>
            <a:ext cx="7715160" cy="32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m die Möglichkeit von Undichtheiten zu minimieren</a:t>
            </a:r>
            <a:endParaRPr b="1" lang="en-US" sz="18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ppelte (Ab-)Dichtungen.</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des Gussteil sollte hydraulisch auf Undichtheiten getestet werden.</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cher Sitz in einer Metallhalterung für automatische Inline-Ventile und automatische Belüftung.</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l-auf-Metall-Sitz oder weicher Sitz in einer Halterung für manuelle Inline-Ventile.</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lsitz mit blockiertem Ventilauslass.</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zugsweise keine Durchverbolzung und keine Gehäuseflansche oder Gewindeanschlüsse.</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uptleitungstrennventile sollte einen vollen Durchgang haben.</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236" name="6 Imagen" descr="HAZMAT_05.jpg"/>
          <p:cNvPicPr/>
          <p:nvPr/>
        </p:nvPicPr>
        <p:blipFill>
          <a:blip r:embed="rId1"/>
          <a:stretch/>
        </p:blipFill>
        <p:spPr>
          <a:xfrm>
            <a:off x="6667560" y="857160"/>
            <a:ext cx="3095640" cy="2286000"/>
          </a:xfrm>
          <a:prstGeom prst="rect">
            <a:avLst/>
          </a:prstGeom>
          <a:ln w="0">
            <a:noFill/>
          </a:ln>
        </p:spPr>
      </p:pic>
      <p:sp>
        <p:nvSpPr>
          <p:cNvPr id="23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5 Imagen" descr="a_pig_front_1.jpg"/>
          <p:cNvPicPr/>
          <p:nvPr/>
        </p:nvPicPr>
        <p:blipFill>
          <a:blip r:embed="rId1"/>
          <a:stretch/>
        </p:blipFill>
        <p:spPr>
          <a:xfrm>
            <a:off x="4881600" y="4714920"/>
            <a:ext cx="1828800" cy="1828800"/>
          </a:xfrm>
          <a:prstGeom prst="rect">
            <a:avLst/>
          </a:prstGeom>
          <a:ln w="0">
            <a:noFill/>
          </a:ln>
        </p:spPr>
      </p:pic>
      <p:sp>
        <p:nvSpPr>
          <p:cNvPr id="239" name="PlaceHolder 1"/>
          <p:cNvSpPr>
            <a:spLocks noGrp="1"/>
          </p:cNvSpPr>
          <p:nvPr>
            <p:ph type="title"/>
          </p:nvPr>
        </p:nvSpPr>
        <p:spPr>
          <a:xfrm>
            <a:off x="1738080" y="0"/>
            <a:ext cx="350028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9. REINIGUNG</a:t>
            </a:r>
            <a:endParaRPr b="1" lang="en-US" sz="3200" spc="-1" strike="noStrike">
              <a:solidFill>
                <a:srgbClr val="ba1e31"/>
              </a:solidFill>
              <a:latin typeface="SwitzerlandCondBlack"/>
            </a:endParaRPr>
          </a:p>
        </p:txBody>
      </p:sp>
      <p:sp>
        <p:nvSpPr>
          <p:cNvPr id="240" name=""/>
          <p:cNvSpPr txBox="1"/>
          <p:nvPr/>
        </p:nvSpPr>
        <p:spPr>
          <a:xfrm>
            <a:off x="1712520" y="856800"/>
            <a:ext cx="8064360" cy="5667480"/>
          </a:xfrm>
          <a:prstGeom prst="rect">
            <a:avLst/>
          </a:prstGeom>
          <a:noFill/>
          <a:ln w="0">
            <a:noFill/>
          </a:ln>
        </p:spPr>
        <p:txBody>
          <a:bodyPr lIns="92160" rIns="92160" tIns="46080" bIns="46080" anchor="t">
            <a:normAutofit/>
          </a:bodyPr>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er Reinigungsprozess sollte sicherstellen, dass alle Verunreinigungen aus dem Inneren des Rohrleitungssystems entfernt werden. Die Reinigung eines Wasserstoffrohrleitungssystems besteht normalerweise aus einer Kombination aus Gebäudereinigung und Abschlussreinigung nach dem Bau.</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ie Reinigung von Wasserstoffrohrleitungen nach dem Bau kann eines der folgenden Verfahren oder aus einer Kombination aus mehr als einem dieser Verfahren umfassen: </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c00000"/>
                </a:solidFill>
                <a:latin typeface="Arial"/>
                <a:ea typeface="Arial"/>
              </a:rPr>
              <a:t>-</a:t>
            </a:r>
            <a:r>
              <a:rPr b="0" lang="de-DE" sz="1600" spc="-1" strike="noStrike">
                <a:solidFill>
                  <a:srgbClr val="000000"/>
                </a:solidFill>
                <a:latin typeface="Arial"/>
                <a:ea typeface="Arial"/>
              </a:rPr>
              <a:t>  Molchen. </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c00000"/>
                </a:solidFill>
                <a:latin typeface="Arial"/>
                <a:ea typeface="Arial"/>
              </a:rPr>
              <a:t>-</a:t>
            </a:r>
            <a:r>
              <a:rPr b="0" lang="de-DE" sz="1600" spc="-1" strike="noStrike">
                <a:solidFill>
                  <a:srgbClr val="000000"/>
                </a:solidFill>
                <a:latin typeface="Arial"/>
                <a:ea typeface="Arial"/>
              </a:rPr>
              <a:t>  Mechanisches Kratzen.</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c00000"/>
                </a:solidFill>
                <a:latin typeface="Arial"/>
                <a:ea typeface="Arial"/>
              </a:rPr>
              <a:t>-</a:t>
            </a:r>
            <a:r>
              <a:rPr b="0" lang="de-DE" sz="1600" spc="-1" strike="noStrike">
                <a:solidFill>
                  <a:srgbClr val="000000"/>
                </a:solidFill>
                <a:latin typeface="Arial"/>
                <a:ea typeface="Arial"/>
              </a:rPr>
              <a:t>  Hochgeschwindigkeitsspülung.</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Üblicher Reinigungsablauf:</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1.</a:t>
            </a:r>
            <a:r>
              <a:rPr b="0" lang="de-DE" sz="1600" spc="-1" strike="noStrike">
                <a:solidFill>
                  <a:srgbClr val="000000"/>
                </a:solidFill>
                <a:latin typeface="Arial"/>
              </a:rPr>
              <a:t> Entwässern.</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2. </a:t>
            </a:r>
            <a:r>
              <a:rPr b="0" lang="de-DE" sz="1600" spc="-1" strike="noStrike">
                <a:solidFill>
                  <a:srgbClr val="000000"/>
                </a:solidFill>
                <a:latin typeface="Arial"/>
              </a:rPr>
              <a:t>Trocknen.</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3. </a:t>
            </a:r>
            <a:r>
              <a:rPr b="0" lang="de-DE" sz="1600" spc="-1" strike="noStrike">
                <a:solidFill>
                  <a:srgbClr val="000000"/>
                </a:solidFill>
                <a:latin typeface="Arial"/>
              </a:rPr>
              <a:t>Trockenreinigung.</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4. </a:t>
            </a:r>
            <a:r>
              <a:rPr b="0" lang="de-DE" sz="1600" spc="-1" strike="noStrike">
                <a:solidFill>
                  <a:srgbClr val="000000"/>
                </a:solidFill>
                <a:latin typeface="Arial"/>
              </a:rPr>
              <a:t>Abschließendes Trocknen.</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41" name="4 Imagen" descr="450px-Pigging-inserting_pig_into_line.jpg"/>
          <p:cNvPicPr/>
          <p:nvPr/>
        </p:nvPicPr>
        <p:blipFill>
          <a:blip r:embed="rId2"/>
          <a:stretch/>
        </p:blipFill>
        <p:spPr>
          <a:xfrm>
            <a:off x="7238880" y="2666880"/>
            <a:ext cx="2143080" cy="2857680"/>
          </a:xfrm>
          <a:prstGeom prst="rect">
            <a:avLst/>
          </a:prstGeom>
          <a:ln w="0">
            <a:noFill/>
          </a:ln>
        </p:spPr>
      </p:pic>
      <p:sp>
        <p:nvSpPr>
          <p:cNvPr id="24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1. HANDHABUNG VON DRUCKGASEN UND TIEFKALTEN FLÜSSIGGASEN</a:t>
            </a:r>
            <a:endParaRPr b="1" lang="en-US" sz="2800" spc="-1" strike="noStrike">
              <a:solidFill>
                <a:srgbClr val="ba1e31"/>
              </a:solidFill>
              <a:latin typeface="SwitzerlandCondBlack"/>
            </a:endParaRPr>
          </a:p>
        </p:txBody>
      </p:sp>
      <p:sp>
        <p:nvSpPr>
          <p:cNvPr id="107" name=""/>
          <p:cNvSpPr txBox="1"/>
          <p:nvPr/>
        </p:nvSpPr>
        <p:spPr>
          <a:xfrm>
            <a:off x="1712880" y="1267920"/>
            <a:ext cx="7956720" cy="5256360"/>
          </a:xfrm>
          <a:prstGeom prst="rect">
            <a:avLst/>
          </a:prstGeom>
          <a:noFill/>
          <a:ln w="0">
            <a:noFill/>
          </a:ln>
        </p:spPr>
        <p:txBody>
          <a:bodyPr lIns="92160" rIns="92160" tIns="46080" bIns="46080" anchor="t">
            <a:normAutofit/>
          </a:bodyPr>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 Definitionen </a:t>
            </a:r>
            <a:endParaRPr b="1" lang="en-US" sz="24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Druckgas:</a:t>
            </a:r>
            <a:r>
              <a:rPr b="0" lang="en-US" sz="1600" spc="-1" strike="noStrike">
                <a:solidFill>
                  <a:srgbClr val="000000"/>
                </a:solidFill>
                <a:latin typeface="Arial"/>
              </a:rPr>
              <a:t> Ein Gas, das eingeschlossen:</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00000"/>
                </a:solidFill>
                <a:latin typeface="Arial"/>
              </a:rPr>
              <a:t>- </a:t>
            </a:r>
            <a:r>
              <a:rPr b="0" lang="en-US" sz="1600" spc="-1" strike="noStrike">
                <a:solidFill>
                  <a:srgbClr val="000000"/>
                </a:solidFill>
                <a:latin typeface="Arial"/>
              </a:rPr>
              <a:t>bei 21°C einen absoluten Druck von mehr als 276 kPa (40 psi) hat oder</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00000"/>
                </a:solidFill>
                <a:latin typeface="Arial"/>
              </a:rPr>
              <a:t>-</a:t>
            </a:r>
            <a:r>
              <a:rPr b="0" lang="en-US" sz="1600" spc="-1" strike="noStrike">
                <a:solidFill>
                  <a:srgbClr val="000000"/>
                </a:solidFill>
                <a:latin typeface="Arial"/>
              </a:rPr>
              <a:t> bei 54°C einen absoluten Druck von mehr als 717 kPa (104 psi) hat oder</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00000"/>
                </a:solidFill>
                <a:latin typeface="Arial"/>
              </a:rPr>
              <a:t>-</a:t>
            </a:r>
            <a:r>
              <a:rPr b="0" lang="en-US" sz="1600" spc="-1" strike="noStrike">
                <a:solidFill>
                  <a:srgbClr val="000000"/>
                </a:solidFill>
                <a:latin typeface="Arial"/>
              </a:rPr>
              <a:t> jede entzündbare Flüssigkeit mit einem Dampfdruck von mehr als 276 kPa (40  psi) bei 38°C.</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Erstickendes Gas:</a:t>
            </a:r>
            <a:r>
              <a:rPr b="0" lang="en-US" sz="1600" spc="-1" strike="noStrike">
                <a:solidFill>
                  <a:srgbClr val="000000"/>
                </a:solidFill>
                <a:latin typeface="Arial"/>
              </a:rPr>
              <a:t> Jedes ungiftige Gas, das Luftsauerstoff unter die lebensnotwendigen Grenzen verdrängt. </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Korrosives Gas:</a:t>
            </a:r>
            <a:r>
              <a:rPr b="0" lang="en-US" sz="1600" spc="-1" strike="noStrike">
                <a:solidFill>
                  <a:srgbClr val="000000"/>
                </a:solidFill>
                <a:latin typeface="Arial"/>
              </a:rPr>
              <a:t> Ein Gas, das lebendes Gewebe bei Kontakt durch chemische Reaktion zerstört.</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Inertgas:</a:t>
            </a:r>
            <a:r>
              <a:rPr b="0" lang="en-US" sz="1600" spc="-1" strike="noStrike">
                <a:solidFill>
                  <a:srgbClr val="000000"/>
                </a:solidFill>
                <a:latin typeface="Arial"/>
              </a:rPr>
              <a:t> Ein chemisch träges Gas.</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Oxidierendes Gas:</a:t>
            </a:r>
            <a:r>
              <a:rPr b="0" lang="en-US" sz="1600" spc="-1" strike="noStrike">
                <a:solidFill>
                  <a:srgbClr val="000000"/>
                </a:solidFill>
                <a:latin typeface="Arial"/>
              </a:rPr>
              <a:t> Ein Gas, das die Verbrennung anderer Materialien unterstützen oder beschleunigen kann.</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Selbstentzündliches Gas:</a:t>
            </a:r>
            <a:r>
              <a:rPr b="0" lang="en-US" sz="1600" spc="-1" strike="noStrike">
                <a:solidFill>
                  <a:srgbClr val="000000"/>
                </a:solidFill>
                <a:latin typeface="Arial"/>
              </a:rPr>
              <a:t> Ein Gas, das sich an der Luft bei oder unter 54,4°C selbst entzündet. </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666800" y="213840"/>
            <a:ext cx="8002800" cy="1428840"/>
          </a:xfrm>
          <a:prstGeom prst="rect">
            <a:avLst/>
          </a:prstGeom>
          <a:noFill/>
          <a:ln w="0">
            <a:noFill/>
          </a:ln>
        </p:spPr>
        <p:txBody>
          <a:bodyPr lIns="92160" rIns="92160" tIns="46080" bIns="46080" anchor="t">
            <a:normAutofit fontScale="89000"/>
          </a:bodyPr>
          <a:p>
            <a:pPr indent="399600" algn="just">
              <a:lnSpc>
                <a:spcPct val="90000"/>
              </a:lnSpc>
              <a:spcBef>
                <a:spcPts val="799"/>
              </a:spcBef>
              <a:buClr>
                <a:srgbClr val="a91b2c"/>
              </a:buClr>
              <a:buFont typeface="Wingdings" charset="2"/>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Entzündbares Gas:</a:t>
            </a:r>
            <a:r>
              <a:rPr b="0" lang="de-DE" sz="1600" spc="-1" strike="noStrike">
                <a:solidFill>
                  <a:srgbClr val="000000"/>
                </a:solidFill>
                <a:latin typeface="Arial"/>
              </a:rPr>
              <a:t> Eine Substanz, die der Definition eines Druckgases entspricht und die:</a:t>
            </a:r>
            <a:endParaRPr b="1" lang="en-US" sz="1600" spc="-1" strike="noStrike">
              <a:solidFill>
                <a:srgbClr val="000000"/>
              </a:solidFill>
              <a:latin typeface="Arial"/>
            </a:endParaRPr>
          </a:p>
          <a:p>
            <a:pPr algn="just">
              <a:lnSpc>
                <a:spcPct val="90000"/>
              </a:lnSpc>
              <a:spcBef>
                <a:spcPts val="799"/>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in einer Mischung von 13 % oder weniger (nach Volumen) mit Luft entzündbar </a:t>
            </a:r>
            <a:r>
              <a:rPr b="0" lang="de-DE" sz="1600" spc="-1" strike="noStrike">
                <a:solidFill>
                  <a:srgbClr val="000000"/>
                </a:solidFill>
                <a:latin typeface="Arial"/>
              </a:rPr>
              <a:t>	</a:t>
            </a:r>
            <a:r>
              <a:rPr b="0" lang="de-DE" sz="1600" spc="-1" strike="noStrike">
                <a:solidFill>
                  <a:srgbClr val="000000"/>
                </a:solidFill>
                <a:latin typeface="Arial"/>
              </a:rPr>
              <a:t>  ist oder.</a:t>
            </a:r>
            <a:endParaRPr b="1" lang="en-US" sz="1600" spc="-1" strike="noStrike">
              <a:solidFill>
                <a:srgbClr val="000000"/>
              </a:solidFill>
              <a:latin typeface="Arial"/>
            </a:endParaRPr>
          </a:p>
          <a:p>
            <a:pPr algn="just">
              <a:lnSpc>
                <a:spcPct val="90000"/>
              </a:lnSpc>
              <a:spcBef>
                <a:spcPts val="799"/>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bei Normalzustand unabhängig von der unteren Grenze einen Zündbereich mit  </a:t>
            </a:r>
            <a:r>
              <a:rPr b="0" lang="de-DE" sz="1600" spc="-1" strike="noStrike">
                <a:solidFill>
                  <a:srgbClr val="000000"/>
                </a:solidFill>
                <a:latin typeface="Arial"/>
              </a:rPr>
              <a:t>	</a:t>
            </a:r>
            <a:r>
              <a:rPr b="0" lang="de-DE" sz="1600" spc="-1" strike="noStrike">
                <a:solidFill>
                  <a:srgbClr val="000000"/>
                </a:solidFill>
                <a:latin typeface="Arial"/>
              </a:rPr>
              <a:t>  Luft von mehr als 12 % hat.</a:t>
            </a:r>
            <a:endParaRPr b="1" lang="en-US" sz="1600" spc="-1" strike="noStrike">
              <a:solidFill>
                <a:srgbClr val="000000"/>
              </a:solidFill>
              <a:latin typeface="Arial"/>
            </a:endParaRPr>
          </a:p>
          <a:p>
            <a:pPr algn="just">
              <a:lnSpc>
                <a:spcPct val="11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1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0" name="Object 4"/>
          <p:cNvGraphicFramePr/>
          <p:nvPr/>
        </p:nvGraphicFramePr>
        <p:xfrm>
          <a:off x="2514600" y="1981080"/>
          <a:ext cx="5257800" cy="3380040"/>
        </p:xfrm>
        <a:graphic>
          <a:graphicData uri="http://schemas.openxmlformats.org/presentationml/2006/ole">
            <p:oleObj progId="Excel.Sheet.12" r:id="rId1" spid="">
              <p:embed/>
              <p:pic>
                <p:nvPicPr>
                  <p:cNvPr id="111" name="Object 4" descr=""/>
                  <p:cNvPicPr/>
                  <p:nvPr/>
                </p:nvPicPr>
                <p:blipFill>
                  <a:blip r:embed="rId2"/>
                  <a:stretch/>
                </p:blipFill>
                <p:spPr>
                  <a:xfrm>
                    <a:off x="2514600" y="1981080"/>
                    <a:ext cx="5257800" cy="3380040"/>
                  </a:xfrm>
                  <a:prstGeom prst="rect">
                    <a:avLst/>
                  </a:prstGeom>
                  <a:ln w="0">
                    <a:noFill/>
                  </a:ln>
                </p:spPr>
              </p:pic>
            </p:oleObj>
          </a:graphicData>
        </a:graphic>
      </p:graphicFrame>
      <p:sp>
        <p:nvSpPr>
          <p:cNvPr id="112" name="5 CuadroTexto"/>
          <p:cNvSpPr/>
          <p:nvPr/>
        </p:nvSpPr>
        <p:spPr>
          <a:xfrm>
            <a:off x="1752480" y="5486400"/>
            <a:ext cx="7931160" cy="82404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Nicht entzündbares Gas:</a:t>
            </a:r>
            <a:r>
              <a:rPr b="0" lang="en-US" sz="1600" spc="-1" strike="noStrike">
                <a:solidFill>
                  <a:srgbClr val="000000"/>
                </a:solidFill>
                <a:latin typeface="Arial"/>
              </a:rPr>
              <a:t> Ein Gas, das in der Verpackung bei 20°C einen absoluten Druck von 280 kPa (40 psi) oder mehr ausübt, bei dem es sich aber nicht um ein entzündbares Gas gemäß vorstehender Definition ist.</a:t>
            </a:r>
            <a:endParaRPr b="1" lang="en-US" sz="1600" spc="-1" strike="noStrike">
              <a:solidFill>
                <a:srgbClr val="000000"/>
              </a:solidFill>
              <a:latin typeface="Colonna MT"/>
            </a:endParaRPr>
          </a:p>
        </p:txBody>
      </p:sp>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595160" y="428760"/>
            <a:ext cx="8310600" cy="1428480"/>
          </a:xfrm>
          <a:prstGeom prst="rect">
            <a:avLst/>
          </a:prstGeom>
          <a:noFill/>
          <a:ln w="0">
            <a:noFill/>
          </a:ln>
        </p:spPr>
        <p:txBody>
          <a:bodyPr lIns="92160" rIns="92160" tIns="46080" bIns="46080" anchor="t">
            <a:normAutofit fontScale="99000"/>
          </a:bodyPr>
          <a:p>
            <a:pPr indent="4446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Kryogene Flüssigkeit:</a:t>
            </a:r>
            <a:r>
              <a:rPr b="0" lang="en-US" sz="1600" spc="-1" strike="noStrike">
                <a:solidFill>
                  <a:srgbClr val="000000"/>
                </a:solidFill>
                <a:latin typeface="Arial"/>
              </a:rPr>
              <a:t> Eine Flüssigkeit mit einem normalen Siedepunkt unter -150°C.</a:t>
            </a:r>
            <a:endParaRPr b="1" lang="en-US" sz="1600" spc="-1" strike="noStrike">
              <a:solidFill>
                <a:srgbClr val="000000"/>
              </a:solidFill>
              <a:latin typeface="Arial"/>
            </a:endParaRPr>
          </a:p>
          <a:p>
            <a:pPr indent="4446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Flaschen für kryogene Flüssigkeiten:</a:t>
            </a:r>
            <a:r>
              <a:rPr b="0" lang="en-US" sz="1600" spc="-1" strike="noStrike">
                <a:solidFill>
                  <a:srgbClr val="000000"/>
                </a:solidFill>
                <a:latin typeface="Arial"/>
              </a:rPr>
              <a:t> Druckbehälter, die für die Aufbewahrung kryogener Flüssigkeiten entwickelt und hergestellt wurden. Es gibt drei häufige Typen von Flüssigkeitsflaschen: Für Gasabgabe, für Flüssigkeitsabgabe oder für Gas- und Flüssigkeitsabgabe.</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15" name=""/>
          <p:cNvGraphicFramePr/>
          <p:nvPr/>
        </p:nvGraphicFramePr>
        <p:xfrm>
          <a:off x="1650960" y="2143080"/>
          <a:ext cx="8088480" cy="3857760"/>
        </p:xfrm>
        <a:graphic>
          <a:graphicData uri="http://schemas.openxmlformats.org/drawingml/2006/table">
            <a:tbl>
              <a:tblPr/>
              <a:tblGrid>
                <a:gridCol w="743040"/>
                <a:gridCol w="557280"/>
                <a:gridCol w="509400"/>
                <a:gridCol w="446040"/>
                <a:gridCol w="528840"/>
                <a:gridCol w="734760"/>
                <a:gridCol w="723960"/>
                <a:gridCol w="538200"/>
                <a:gridCol w="633600"/>
                <a:gridCol w="583920"/>
                <a:gridCol w="698760"/>
                <a:gridCol w="620640"/>
                <a:gridCol w="770040"/>
              </a:tblGrid>
              <a:tr h="57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ctr" marL="5760" marR="5760">
                    <a:lnL>
                      <a:noFill/>
                    </a:lnL>
                    <a:lnR w="2880">
                      <a:solidFill>
                        <a:srgbClr val="000000"/>
                      </a:solidFill>
                    </a:lnR>
                    <a:lnT>
                      <a:no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lekular-gewich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hmelzpunkt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edepunkt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ritische Temperatur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lative Dichte, </a:t>
                      </a:r>
                      <a:endParaRPr b="1" lang="en-US" sz="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as (Luf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lative Dichte, flüssig (Wasser=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ampfdruck, 20ºC (ba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öslichkeit in Wasser [mg/l]</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eru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Selbstent-</a:t>
                      </a:r>
                      <a:endParaRPr b="1" lang="en-US" sz="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Zündungs-temperatur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Zündbereich</a:t>
                      </a:r>
                      <a:endParaRPr b="1" lang="en-US" sz="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vol% in Luf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r>
              <a:tr h="3859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sserstoff</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4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07</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07</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ein Geru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6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 – 7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tan-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üßli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6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 – 8,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924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ohlendioxid</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6,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8,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7,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Keine Geruchswarn-eigenschaft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icht entzündba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81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ohlenmonoxid</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7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Keine Geruchswarn-eigenschaft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2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5 – 7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855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ha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4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ein Geru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9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 – 1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859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auerstoff</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ein Geru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xidationsmittel</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7714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ickstoffdioxid</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eine verlässlichen Dat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räunli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hlechte Warneigenschaften bei geringen Konzentratio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xidationsmittel</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1595160" y="-360"/>
            <a:ext cx="8310600" cy="6357960"/>
          </a:xfrm>
          <a:prstGeom prst="rect">
            <a:avLst/>
          </a:prstGeom>
          <a:noFill/>
          <a:ln w="0">
            <a:noFill/>
          </a:ln>
        </p:spPr>
        <p:txBody>
          <a:bodyPr lIns="92160" rIns="92160" tIns="46080" bIns="46080" anchor="t">
            <a:normAutofit fontScale="96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2. Handhabung</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Sicherheitsschuhe.</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Flaschen sollten nicht gezogen oder per Hand getragen werd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Flaschen sollten nicht beschädigt werd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ßer dem Gaslieferanten sollte niemand versuchen, Gase in einer Flasche zu vermisch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Flaschen sollten ohne Genehmigung des Lieferanten nicht künstlich erzeugten niedrigen Temperaturen ausgesetzt werd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Behälter sollten nur dafür verwendet werden, die Inhalte so aufzubewahren, wie man sie erhalten hat.</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Flaschen sollten nicht am Deckel gegriffen werd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s sollten keine Seile, Ketten und Schlingen verwendet werden, um Flaschen anzuheb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s sollten keine Magnete verwendet werden, um die Flaschen anzuheb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enn keine geeigneten Hebevorrichtungen an der Flasche bzw. an dem Behälter vorhanden sind, sollten beim Anheben geeignete Hängegerüste oder Bühnen verwendet werden, um die Behälter zu halt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r Benutzer sollte die Flaschen nicht lackier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Undichte, fehlerhafte, ausgebrannte und rostige Behälter sollten nur mit Genehmigung des Lieferanten versandt werden.</a:t>
            </a:r>
            <a:endParaRPr b="1" lang="en-US" sz="1600" spc="-1" strike="noStrike">
              <a:solidFill>
                <a:srgbClr val="000000"/>
              </a:solidFill>
              <a:latin typeface="Arial"/>
            </a:endParaRPr>
          </a:p>
        </p:txBody>
      </p:sp>
      <p:sp>
        <p:nvSpPr>
          <p:cNvPr id="11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9240" y="980640"/>
            <a:ext cx="5805360" cy="4227480"/>
          </a:xfrm>
          <a:prstGeom prst="rect">
            <a:avLst/>
          </a:prstGeom>
          <a:noFill/>
          <a:ln w="0">
            <a:noFill/>
          </a:ln>
        </p:spPr>
        <p:txBody>
          <a:bodyPr lIns="92160" rIns="92160" tIns="46080" bIns="46080" anchor="t">
            <a:normAutofit/>
          </a:bodyPr>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rrosive Gase.</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ryogene Flüssigkeiten und Gase.</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zündbare Gase.</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iftige und hochgiftige Gase.</a:t>
            </a:r>
            <a:endParaRPr b="1" lang="en-US" sz="1800" spc="-1" strike="noStrike">
              <a:solidFill>
                <a:srgbClr val="000000"/>
              </a:solidFill>
              <a:latin typeface="Arial"/>
            </a:endParaRPr>
          </a:p>
        </p:txBody>
      </p:sp>
      <p:sp>
        <p:nvSpPr>
          <p:cNvPr id="120" name="Rectangle 4"/>
          <p:cNvSpPr/>
          <p:nvPr/>
        </p:nvSpPr>
        <p:spPr>
          <a:xfrm>
            <a:off x="1785600" y="333360"/>
            <a:ext cx="26344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Handhabung</a:t>
            </a:r>
            <a:endParaRPr b="1" lang="en-US" sz="2400" spc="-1" strike="noStrike">
              <a:solidFill>
                <a:srgbClr val="000000"/>
              </a:solidFill>
              <a:latin typeface="Colonna MT"/>
            </a:endParaRPr>
          </a:p>
        </p:txBody>
      </p:sp>
      <p:sp>
        <p:nvSpPr>
          <p:cNvPr id="12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1712520" y="0"/>
            <a:ext cx="819324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3. Materialsicherheitsdatenblatt (MSDS)</a:t>
            </a:r>
            <a:endParaRPr b="1" lang="en-US" sz="24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information: Produktbezeichnung (Name), Name und Anschrift des Herstellers und des Lieferanten und Notrufnummer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ährliche Bestandteil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sikalische Dat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über Feuer- oder Explosionsgefahr.</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aktivitätsdaten: Informationen über die chemische Instabilität eines Produktes und die Substanzen, mit denen es möglicherweise reagier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xikologische Eigenschaften: Auswirkungen auf die Gesundhei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äventivmaßnahm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Hilfe-Maßnahm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bereitung der Informationen: Wer ist verantwortlich für die Erstellung und das Erstellungsdatum des Materialsicherheitsdatenblatte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E:\Pantallazo-3.png"/>
          <p:cNvPicPr/>
          <p:nvPr/>
        </p:nvPicPr>
        <p:blipFill>
          <a:blip r:embed="rId1"/>
          <a:stretch/>
        </p:blipFill>
        <p:spPr>
          <a:xfrm>
            <a:off x="1666800" y="571680"/>
            <a:ext cx="4146480" cy="5867280"/>
          </a:xfrm>
          <a:prstGeom prst="rect">
            <a:avLst/>
          </a:prstGeom>
          <a:ln w="0">
            <a:noFill/>
          </a:ln>
        </p:spPr>
      </p:pic>
      <p:pic>
        <p:nvPicPr>
          <p:cNvPr id="125" name="Picture 3" descr="E:\Pantallazo-4.png"/>
          <p:cNvPicPr/>
          <p:nvPr/>
        </p:nvPicPr>
        <p:blipFill>
          <a:blip r:embed="rId2"/>
          <a:stretch/>
        </p:blipFill>
        <p:spPr>
          <a:xfrm>
            <a:off x="5738760" y="571680"/>
            <a:ext cx="4167360" cy="5897520"/>
          </a:xfrm>
          <a:prstGeom prst="rect">
            <a:avLst/>
          </a:prstGeom>
          <a:ln w="0">
            <a:noFill/>
          </a:ln>
        </p:spPr>
      </p:pic>
      <p:sp>
        <p:nvSpPr>
          <p:cNvPr id="126" name="Rectangle 6"/>
          <p:cNvSpPr/>
          <p:nvPr/>
        </p:nvSpPr>
        <p:spPr>
          <a:xfrm>
            <a:off x="1639440" y="87480"/>
            <a:ext cx="6163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Materialsicherheitsdatenblatt (MSDS)</a:t>
            </a:r>
            <a:endParaRPr b="1" lang="en-US" sz="2400" spc="-1" strike="noStrike">
              <a:solidFill>
                <a:srgbClr val="000000"/>
              </a:solidFill>
              <a:latin typeface="Colonna MT"/>
            </a:endParaRPr>
          </a:p>
        </p:txBody>
      </p:sp>
      <p:sp>
        <p:nvSpPr>
          <p:cNvPr id="12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6:54:36Z</dcterms:modified>
  <cp:revision>1157</cp:revision>
  <dc:subject/>
  <dc:title>Energie-Contracting</dc:title>
</cp:coreProperties>
</file>