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13.jpeg" ContentType="image/jpeg"/>
  <Override PartName="/ppt/media/image27.jpeg" ContentType="image/jpeg"/>
  <Override PartName="/ppt/media/image10.png" ContentType="image/png"/>
  <Override PartName="/ppt/media/image5.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4.jpeg" ContentType="image/jpeg"/>
  <Override PartName="/ppt/media/image30.jpeg" ContentType="image/jpeg"/>
  <Override PartName="/ppt/media/image24.jpeg" ContentType="image/jpeg"/>
  <Override PartName="/ppt/media/image4.png" ContentType="image/png"/>
  <Override PartName="/ppt/media/image3.png" ContentType="image/png"/>
  <Override PartName="/ppt/media/image17.jpeg" ContentType="image/jpeg"/>
  <Override PartName="/ppt/media/image2.png" ContentType="image/png"/>
  <Override PartName="/ppt/media/image19.jpeg" ContentType="image/jpeg"/>
  <Override PartName="/ppt/media/image25.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9.png" ContentType="image/png"/>
  <Override PartName="/ppt/media/image21.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907588"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12640" y="194760"/>
            <a:ext cx="5832720" cy="28116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12280" y="9235800"/>
            <a:ext cx="2976840" cy="11412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BF8712F-9DDC-44D3-A23D-CDD88A272203}" type="datetime">
              <a:rPr b="0" i="1" lang="de-DE" sz="800" spc="-1" strike="noStrike">
                <a:solidFill>
                  <a:srgbClr val="000000"/>
                </a:solidFill>
                <a:latin typeface="Arial"/>
              </a:rPr>
              <a:t>30.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12640" y="9376920"/>
            <a:ext cx="4811760" cy="28260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324400" y="9376920"/>
            <a:ext cx="1020960" cy="21276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4429304-5FD5-40A6-AB32-0C9C7AD6298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143000" y="632880"/>
            <a:ext cx="4570560" cy="316404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4440" y="633240"/>
            <a:ext cx="4570560" cy="3164040"/>
          </a:xfrm>
          <a:prstGeom prst="rect">
            <a:avLst/>
          </a:prstGeom>
          <a:ln w="0">
            <a:noFill/>
          </a:ln>
        </p:spPr>
      </p:sp>
      <p:sp>
        <p:nvSpPr>
          <p:cNvPr id="269"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Titel:</a:t>
            </a:r>
            <a:r>
              <a:rPr b="0" lang="en-US" sz="1000" spc="-1" strike="noStrike">
                <a:solidFill>
                  <a:srgbClr val="000000"/>
                </a:solidFill>
                <a:latin typeface="Arial"/>
              </a:rPr>
              <a:t> Alternative Kraftstoff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evel: </a:t>
            </a:r>
            <a:r>
              <a:rPr b="0" lang="en-US" sz="1000" spc="-1" strike="noStrike">
                <a:solidFill>
                  <a:srgbClr val="000000"/>
                </a:solidFill>
                <a:latin typeface="Arial"/>
                <a:ea typeface="Times New Roman"/>
              </a:rPr>
              <a:t>Anfänger (B)</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Voraussetzungen:</a:t>
            </a:r>
            <a:r>
              <a:rPr b="0" lang="en-US" sz="1000" spc="-1" strike="noStrike">
                <a:solidFill>
                  <a:srgbClr val="000000"/>
                </a:solidFill>
                <a:latin typeface="Arial"/>
              </a:rPr>
              <a:t> Kein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Überblick:</a:t>
            </a:r>
            <a:r>
              <a:rPr b="0" lang="en-US" sz="1000" spc="-1" strike="noStrike">
                <a:solidFill>
                  <a:srgbClr val="000000"/>
                </a:solidFill>
                <a:latin typeface="Arial"/>
              </a:rPr>
              <a:t> </a:t>
            </a:r>
            <a:r>
              <a:rPr b="0" lang="en-US" sz="1000" spc="-1" strike="noStrike">
                <a:solidFill>
                  <a:srgbClr val="000000"/>
                </a:solidFill>
                <a:latin typeface="Arial"/>
                <a:ea typeface="Times New Roman"/>
              </a:rPr>
              <a:t>Das Kapitel gibt einen Überblick über die alternativen Kraftstoffe (außer Wasserstoff).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ea typeface="Times New Roman"/>
              </a:rPr>
              <a:t>Inhal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 Gegenwärtige Situation: Weltweit und in der EU.</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Definition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Vergleich: Alternative Kraftstoffe - Biokraftstoff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Kraftstoffe der 1. und 2. Generati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Überblick über alternative Brennstoffe und Beschreibu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roduktion und Gewinnu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wendungsmöglichkeit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Ökologische Aspek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eispie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 Ausblick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orschung und Entwicklung, Politischer Ausblick, Diskussion: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Nahrung - Kraftstoff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ea typeface="Times New Roman"/>
              </a:rPr>
              <a:t>Lernzie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Der Schulungsteilnehmer wird in der Lage sei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die Palette der alternativen Kraftstoffen zu erkenn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den Umfang ihrer Verwendungsmöglichkeiten zu versteh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ihr Potential für die Nutzung in der Zukunft zu erkenn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ea typeface="Times New Roman"/>
              </a:rPr>
              <a:t>Methodik: </a:t>
            </a:r>
            <a:r>
              <a:rPr b="0" lang="en-US" sz="1000" spc="-1" strike="noStrike">
                <a:solidFill>
                  <a:srgbClr val="000000"/>
                </a:solidFill>
                <a:latin typeface="Arial"/>
                <a:ea typeface="Times New Roman"/>
              </a:rPr>
              <a:t>Vorlesungen, Gruppenarbeit, Diskussion</a:t>
            </a: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ea typeface="Times New Roman"/>
              </a:rPr>
              <a:t>Zeitplan: </a:t>
            </a:r>
            <a:r>
              <a:rPr b="0" lang="en-US" sz="1000" spc="-1" strike="noStrike">
                <a:solidFill>
                  <a:srgbClr val="000000"/>
                </a:solidFill>
                <a:latin typeface="Arial"/>
                <a:ea typeface="Times New Roman"/>
              </a:rPr>
              <a:t>2 Stunden à 60 mi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4440" y="633240"/>
            <a:ext cx="4570560" cy="3164040"/>
          </a:xfrm>
          <a:prstGeom prst="rect">
            <a:avLst/>
          </a:prstGeom>
          <a:ln w="0">
            <a:noFill/>
          </a:ln>
        </p:spPr>
      </p:sp>
      <p:sp>
        <p:nvSpPr>
          <p:cNvPr id="271"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lternative Kraftstoffe spielen auf dem Transportsektor nur eine untergeordnete Rolle. In anderen Sektoren haben alternative Kraftstoffe bislang keine Bedeutung und es wurden bisher nur einige Versuchsanlagen errichtet (z.B. Pflanzenöl in Heizkraftwerken oder Biogaseinspeisung in das Gasnetz).</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rennstoffe aus Rohöl decken 96 % des weltweiten Bedarfs für den Transportsektor ab. Andere Energieformen (Kohle, Erdgas, Alkohole, Strom) spielen nur auf lokaler Ebene oder für spezielle Transportanwendungen eine bedeutende Rolle.</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Abhängigkeit vom Rohöl ist keine Idealzustand.</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größten Reserven liegen in politisch instabilen Region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chwankungen beim Rohölprei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irtschaftliche Ungewissheit</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e Diversifikation der Primärenergien ist erforderlic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2004 betrug die Produktion von Biokraftstoffen weltweit 33 Mrd. Liter, was nur sehr wenig ist im Vergleich mit den 1.200 Mrd. Litern Benzin, die jährlich weltweit produziert werden. Derzeit sind die wichtigsten Biokraftstoffe die flüssigen Biokraftstoffe Ethanol und Biodiesel. Brasilien ist seit über 25 Jahren Weltmarktführer (und größter Nutzer) von Ethanol und produzierte 2004 fast die Hälfte der gesamten Weltproduktion. Alle Tankstellen in Brasilien verkaufen reines (95 %) Ethanol (E95) und Gasohol, eine Mischung aus 25 % Ethanol und 75 % Benzin (E25). Die USA sind der weltweit zweitgrößte Verbraucher und Produzent von Kraftstoffethanol. Das Wachstum des US-Marktes ist eine relativ junge Entwicklung, die Ethanolproduktionskapazität stieg von 4 Mrd. Litern im Jahr 1996 auf 14 Mrd. Liter im Jahr  2004. Andere Länder, in denen Kraftstoffethanol produziert und genutzt wird, sind u.a. Australien, Kanada, China, Kolumbien, die Dominikanische Republik, Frankreich, Deutschland, Indien, Jamaika, Malawi, Polen, Südafrika, Spanien, Schweden, Thailand und Sambi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Produktion von Biodiesel betrug 2004 weltweit insgesamt mehr als 2 Mrd. Liter, wovon über 90 % in der EU 25 produziert wurden. Das größte Wachstum war in Deutschland zu verzeichnen, wo reiner Biodiesel (B100) zu 100 % von der Mineralölsteuer befreit ist. In Deutschland gibt es mittlerweile mehr als 1.500 Tankstellen, an denen B100 verkauft wird. Andere Produzenten und Nutzer von Biodiesel sind Frankreich und Italien und geringere Mengen werden in Österreich, Belgien, der Tschechischen Republik, Dänemark, Indonesien, Malaysia und den Vereinigten Staaten produziert und verbrauch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4440" y="633240"/>
            <a:ext cx="4570560" cy="3164040"/>
          </a:xfrm>
          <a:prstGeom prst="rect">
            <a:avLst/>
          </a:prstGeom>
          <a:ln w="0">
            <a:noFill/>
          </a:ln>
        </p:spPr>
      </p:sp>
      <p:sp>
        <p:nvSpPr>
          <p:cNvPr id="273"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vorstehende Abbildung zeigt das Wachstum bei der Biokraftstoffproduktion in der EU seit 1993. Die Produktion flüssiger Biokraftstoffe in der EU 25 betrug 2004 ktoe [toe = </a:t>
            </a:r>
            <a:r>
              <a:rPr b="0" i="1" lang="en-US" sz="1000" spc="-1" strike="noStrike">
                <a:solidFill>
                  <a:srgbClr val="000000"/>
                </a:solidFill>
                <a:latin typeface="Arial"/>
              </a:rPr>
              <a:t>tons of oil equivalent</a:t>
            </a:r>
            <a:r>
              <a:rPr b="0" lang="en-US" sz="1000" spc="-1" strike="noStrike">
                <a:solidFill>
                  <a:srgbClr val="000000"/>
                </a:solidFill>
                <a:latin typeface="Arial"/>
              </a:rPr>
              <a:t>], was einem Marktanteil von ca. 0,7 % entspricht. Ungeachtet dieses bedeutenden Wachstums wurden die 2005 selbst auferlegten Vergleichswerte der EU nicht erreicht. Es gibt große Unterschiede bei den Bemühungen der Mitgliedsstaaten und, selbst wenn alle Mitgliedsstaaten die Ziele erreichen, beträgt der Anteil insgesamt nur 1,4 %. Andere Kraftstoffe für den Transportsektor werden derzeit bei geringen Marktvolumina entwickelt, z.B. Biogas in Schweden oder reines Pflanzenöl in Deutschlan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33240"/>
            <a:ext cx="4570560" cy="3164040"/>
          </a:xfrm>
          <a:prstGeom prst="rect">
            <a:avLst/>
          </a:prstGeom>
          <a:ln w="0">
            <a:noFill/>
          </a:ln>
        </p:spPr>
      </p:sp>
      <p:sp>
        <p:nvSpPr>
          <p:cNvPr id="275"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er EU-Transportsektor verbraucht über 30 % der gesamten Energie innerhalb der Gemeinschaft. Er hängt zu 98 % von fossilen Kraftstoffen ab mit einem sehr hohen Anteil an Importen und ist daher extrem anfällig für Marktturbulenzen. Der wachsende Transportsektor gilt als einer der Hauptgründe dafür, dass es die EU nicht schafft, die Kyoto-Ziele zu erfüllen. Man geht davon aus, dass 90 % des Anstiegs der CO2-Emissionen zwischen 1990 und 2010 dem Transportwesen zuzuschreiben sin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Produktion flüssiger Biokraftstoffe in der EU 25 beträgt derzeit ca. 2 Mtoe, was weniger als 1 %  des Marktes entspricht. Obwohl in den letzten Jahren Steigerungen bei der Produktion und der Nutzung festzustellen waren, liegt der Marktanteil deutlich unter den dem EU-Ziel von 18 Mtoe auf dem Transportsektor für 2010.</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EU hat ein großes Potential bei der Produktion von Biokraftstoffen. Es wird geschätzt, dass zwischen 4 und 13 % der gesamten Agrarflächen in der EU benötigt würden, um die Menge an Biokraftstoffen zu produzieren, die erforderlich wäre, um den Anteil an flüssigen fossilen Kraftstoffen zu ersetzen, der in der Richtlinie 2003/30/EG für den Transportsektor gefordert wurden. Darüber hinaus können Biokraftstoffe zu den Zielen der EU beitragen, die Kraftstoffversorgung der EU zu sichern und gleichzeitig die Treibhausgasbilanz zu verbessern und die Entwicklung einer wettbewerbsfähigen europäischen Industrie (für Biokraftstoffe usw.) voranzutreib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2004 betrug die Produktion flüssiger Biokraftstoffe in der EU 25 2040 ktoe, was einem Marktanteil von 0,7 % entspricht.</a:t>
            </a:r>
            <a:endParaRPr b="0" lang="en-US" sz="900" spc="-1" strike="noStrike">
              <a:solidFill>
                <a:srgbClr val="000000"/>
              </a:solidFill>
              <a:latin typeface="Arial"/>
            </a:endParaRPr>
          </a:p>
          <a:p>
            <a:pPr lvl="1" marL="192240" indent="-19080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en größten Anteil daran hat Biodiesel mit einer Produktion von fast 2 Mt im Jahr 2004, hauptsächlich in Deutschland, Frankreich und Italien. </a:t>
            </a:r>
            <a:endParaRPr b="0" lang="en-US" sz="900" spc="-1" strike="noStrike">
              <a:solidFill>
                <a:srgbClr val="000000"/>
              </a:solidFill>
              <a:latin typeface="Arial"/>
            </a:endParaRPr>
          </a:p>
          <a:p>
            <a:pPr lvl="1" marL="192240" indent="-19080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thanol wird vor allem aus Weizen und – in geringerem Umfang – aus Zuckerrüben produziert; in Frankreich, Spanien und Schweden (insgesamt knapp 500.000 Tonnen im Jahr 2004).</a:t>
            </a:r>
            <a:endParaRPr b="0" lang="en-US" sz="900" spc="-1" strike="noStrike">
              <a:solidFill>
                <a:srgbClr val="000000"/>
              </a:solidFill>
              <a:latin typeface="Arial"/>
            </a:endParaRPr>
          </a:p>
          <a:p>
            <a:pPr lvl="1" marL="192240" indent="-19080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iodiesel und Ethanol werden hauptsächlich mit Diesel bzw. Benzin vermischt, zwar in geringen Mengen aber in Mischungen mit hohen Mengen. Z.B. wird Ethanol für technisch angepasste Fahrzeuge (Flexi-Fuel) verwendet und in einigen Ländern sind auch reine Formen erhältlich. Das meiste Ethanol wird zu Ethyltertiärbutylether (ETBE) als Benzinadditiv verarbeitet.</a:t>
            </a:r>
            <a:endParaRPr b="0" lang="en-US" sz="900" spc="-1" strike="noStrike">
              <a:solidFill>
                <a:srgbClr val="000000"/>
              </a:solidFill>
              <a:latin typeface="Arial"/>
            </a:endParaRPr>
          </a:p>
          <a:p>
            <a:pPr lvl="1" marL="192240" indent="-19080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ndere Transportkraftstoffe werden derzeitig bei niedrigen Marktvolumen entwickelt, z.B. Biogas in Schweden oder reines Pflanzenöl in Deutschlan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33240"/>
            <a:ext cx="4570560" cy="3164040"/>
          </a:xfrm>
          <a:prstGeom prst="rect">
            <a:avLst/>
          </a:prstGeom>
          <a:ln w="0">
            <a:noFill/>
          </a:ln>
        </p:spPr>
      </p:sp>
      <p:sp>
        <p:nvSpPr>
          <p:cNvPr id="277"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gleich alternativer Kraftstoffe und Biokraftstoffe</a:t>
            </a:r>
            <a:endParaRPr b="0" lang="en-US" sz="800" spc="-1" strike="noStrike">
              <a:solidFill>
                <a:srgbClr val="000000"/>
              </a:solidFill>
              <a:latin typeface="Arial"/>
            </a:endParaRPr>
          </a:p>
          <a:p>
            <a:pPr lvl="2" marL="314280" indent="-160200">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m Zusammenhang mit Erdölsubstituten impliziert der Begriff ‚alternativer Kraftstoff' alle zur Verfügung stehenden Kraftstoff- oder Energiequellen und bezieht sich nicht zwangsläufig auf eine erneuerbare Energiequelle. Alternative Kraftstoffe, auch bekannt als nicht-herkömmliche Kraftstoffe, sind alle Materialien und Stoffe (außer herkömmlichen Kraftstoffen), die als Kraftstoff verwendet werden können. Zu den herkömmlichen Kraftstoffen gehören: Fossile Kraftstoffe (Erdöl (Öl), Kohle, Propan und Erdgas) sowie in einigen Fällen nukleare Materialien wie zum Beispiel Uran. Einige bekannte alternative Kraftstoffe sind Biodiesel, Ethanol, Butanol, chemisch gelagerter Strom (Batterien und Brennstoffzellen), Wasserstoff, Methan, Erdgas, Pflanzenöl, Biomasse und Erdnussöl.</a:t>
            </a:r>
            <a:endParaRPr b="0" lang="en-US" sz="800" spc="-1" strike="noStrike">
              <a:solidFill>
                <a:srgbClr val="000000"/>
              </a:solidFill>
              <a:latin typeface="Arial"/>
            </a:endParaRPr>
          </a:p>
          <a:p>
            <a:pPr lvl="2" marL="314280" indent="-160200">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Biokraftstoffe sind flüssige oder gasförmige Kraftstoffe, die aus Biomasse produziert werden, d.h. aus biologisch abbaubaren Teilen von Produkten, Abfällen und Resten aus der Landwirtschaft (einschließlich pflanzlicher und tierischer Stoffe), der Forstwirtschaft und verwandter Industrien sowie dem biologisch abbaubaren Teil von Industrie- und Haushaltsabfälle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raftstoffe der 1. und 2. Generation</a:t>
            </a:r>
            <a:endParaRPr b="0" lang="en-US" sz="800" spc="-1" strike="noStrike">
              <a:solidFill>
                <a:srgbClr val="000000"/>
              </a:solidFill>
              <a:latin typeface="Arial"/>
            </a:endParaRPr>
          </a:p>
          <a:p>
            <a:pPr lvl="2" marL="314280" indent="-160200">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raftstoffe der 1. Generation sind „herkömmliche“ Kraftstoffe, die z.B. durch Extraktion, Vergärung oder Veresterung entstehen, wie zum Beispiel Pflanzenöl, Biodiesel, Bioethanol oder aufbereitetes Biogas.</a:t>
            </a:r>
            <a:endParaRPr b="0" lang="en-US" sz="800" spc="-1" strike="noStrike">
              <a:solidFill>
                <a:srgbClr val="000000"/>
              </a:solidFill>
              <a:latin typeface="Arial"/>
            </a:endParaRPr>
          </a:p>
          <a:p>
            <a:pPr lvl="2" marL="314280" indent="-160200">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raftstoffe der 2. Generation entstehen durch thermochemische Umwandlung (z.B. Vergasung, Synthese), wie zum Beispiel Wasserstoff, Methanol, Ethanol, DME (Dimethyl-Ether), SNG (</a:t>
            </a:r>
            <a:r>
              <a:rPr b="0" i="1" lang="de-DE" sz="800" spc="-1" strike="noStrike">
                <a:solidFill>
                  <a:srgbClr val="000000"/>
                </a:solidFill>
                <a:latin typeface="Arial"/>
              </a:rPr>
              <a:t>Synthetic Natural Gas</a:t>
            </a:r>
            <a:r>
              <a:rPr b="0" lang="de-DE" sz="800" spc="-1" strike="noStrike">
                <a:solidFill>
                  <a:srgbClr val="000000"/>
                </a:solidFill>
                <a:latin typeface="Arial"/>
              </a:rPr>
              <a:t>) oder BTL-Diesel (der sich chemisch dem Methylester-Biodiesel unterscheidet, der zum Beispiel aus Rapsöl oder Sojabohnen gewonnen wird.)</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us der Sicht der politischen Entscheidungsträger bieten die Biokraftstoffe der 2. Generation eine Reihe von Vorteilen:</a:t>
            </a:r>
            <a:endParaRPr b="0" lang="en-US" sz="800" spc="-1" strike="noStrike">
              <a:solidFill>
                <a:srgbClr val="000000"/>
              </a:solidFill>
              <a:latin typeface="Arial"/>
            </a:endParaRPr>
          </a:p>
          <a:p>
            <a:pPr lvl="1" marL="152280" indent="-1508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Sie erlauben die Verwendung einer größeren Auswahl an Rohstoffen, insbesondere Abfälle. Dies </a:t>
            </a:r>
            <a:br>
              <a:rPr sz="800"/>
            </a:br>
            <a:r>
              <a:rPr b="0" lang="de-DE" sz="800" spc="-1" strike="noStrike">
                <a:solidFill>
                  <a:srgbClr val="000000"/>
                </a:solidFill>
                <a:latin typeface="Arial"/>
              </a:rPr>
              <a:t> kann die Kosten des Ausgangsmaterials erheblich senken. </a:t>
            </a:r>
            <a:endParaRPr b="0" lang="en-US" sz="800" spc="-1" strike="noStrike">
              <a:solidFill>
                <a:srgbClr val="000000"/>
              </a:solidFill>
              <a:latin typeface="Arial"/>
            </a:endParaRPr>
          </a:p>
          <a:p>
            <a:pPr lvl="1" marL="152280" indent="-1508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Die entstehenden Kraftstoffe sind qualitativ hochwertig und sauber-verbrennend mit potentiell </a:t>
            </a:r>
            <a:br>
              <a:rPr sz="800"/>
            </a:br>
            <a:r>
              <a:rPr b="0" lang="de-DE" sz="800" spc="-1" strike="noStrike">
                <a:solidFill>
                  <a:srgbClr val="000000"/>
                </a:solidFill>
                <a:latin typeface="Arial"/>
              </a:rPr>
              <a:t> deutlich niedrigerem well-to-wheels-CO2-Profil als anderen Flüssigkraftstoffoptionen. </a:t>
            </a:r>
            <a:endParaRPr b="0" lang="en-US" sz="800" spc="-1" strike="noStrike">
              <a:solidFill>
                <a:srgbClr val="000000"/>
              </a:solidFill>
              <a:latin typeface="Arial"/>
            </a:endParaRPr>
          </a:p>
          <a:p>
            <a:pPr lvl="1" marL="152280" indent="-1508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Der Anbauvorgang (falls erforderlich) könnte weniger umweltintensiv sein als bei gewöhnlichen </a:t>
            </a:r>
            <a:br>
              <a:rPr sz="800"/>
            </a:br>
            <a:r>
              <a:rPr b="0" lang="de-DE" sz="800" spc="-1" strike="noStrike">
                <a:solidFill>
                  <a:srgbClr val="000000"/>
                </a:solidFill>
                <a:latin typeface="Arial"/>
              </a:rPr>
              <a:t> Anbaupflanzen. Eine geringere Anbauintensität führt zu noch niedrigeren Treibhausgasemissionen </a:t>
            </a:r>
            <a:br>
              <a:rPr sz="800"/>
            </a:br>
            <a:r>
              <a:rPr b="0" lang="de-DE" sz="800" spc="-1" strike="noStrike">
                <a:solidFill>
                  <a:srgbClr val="000000"/>
                </a:solidFill>
                <a:latin typeface="Arial"/>
              </a:rPr>
              <a:t> durch den Anbau.</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 Vergasung und das nachfolgende katalytische Fischer-Tropsch-Verfahren sind Schlüsseltechnologien bei der Produktion von Biokraftstoffen für den Automobilbereich der 2. Generation. Allerdings wird die Entwicklung wirtschaftlicher und umweltverträglicher Systeme durch diese Kombination von Technologien mit seiner Auswahl an verschiedenen Systemen und Optionen komplexer als beispielsweise der Bau einer Ethanolanlage.</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biotrieb.org/index.php?eID=tx_cms_showpic&amp;file=uploads%2Fpics%2F0054_pict0571.jpg&amp;width=800m&amp;height=600m&amp;bodyTag=%3Cbody%20bgcolor%3D%22black%22%3E&amp;wrap=%3Ca%20href%3D%22javascript%3Aclose%28%29%3B%22%3E%20%7C%20%3C%2Fa%3E&amp;md5=22d813765edc0b1175c66fd1e855f346"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368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ba1e31"/>
                </a:solidFill>
                <a:latin typeface="Arial"/>
              </a:rPr>
              <a:t>Kapitel: Alternative Kraftstoffe</a:t>
            </a:r>
            <a:endParaRPr b="1" lang="en-US" sz="3700" spc="-1" strike="noStrike">
              <a:solidFill>
                <a:srgbClr val="ba1e31"/>
              </a:solidFill>
              <a:latin typeface="Arial"/>
            </a:endParaRPr>
          </a:p>
        </p:txBody>
      </p:sp>
      <p:sp>
        <p:nvSpPr>
          <p:cNvPr id="106" name="PlaceHolder 2"/>
          <p:cNvSpPr>
            <a:spLocks noGrp="1"/>
          </p:cNvSpPr>
          <p:nvPr>
            <p:ph type="subTitle"/>
          </p:nvPr>
        </p:nvSpPr>
        <p:spPr>
          <a:xfrm>
            <a:off x="1928880" y="2060640"/>
            <a:ext cx="7632720" cy="273672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dgas, Biokraftstoffe, synthetische Kraftstoffe</a:t>
            </a:r>
            <a:br>
              <a:rPr sz="2400"/>
            </a:br>
            <a:r>
              <a:rPr b="1" lang="en-US" sz="2400" spc="-1" strike="noStrike">
                <a:solidFill>
                  <a:srgbClr val="000000"/>
                </a:solidFill>
                <a:latin typeface="Arial"/>
              </a:rPr>
              <a:t>(Wasserstoff wird in einem separatem Kapitel behandel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Erdgas Beispiel Mercedes E200</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2" name="" descr=""/>
          <p:cNvPicPr/>
          <p:nvPr/>
        </p:nvPicPr>
        <p:blipFill>
          <a:blip r:embed="rId1"/>
          <a:stretch/>
        </p:blipFill>
        <p:spPr>
          <a:xfrm>
            <a:off x="1639800" y="919080"/>
            <a:ext cx="8145720" cy="574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2"/>
                                        </p:tgtEl>
                                        <p:attrNameLst>
                                          <p:attrName>style.visibility</p:attrName>
                                        </p:attrNameLst>
                                      </p:cBhvr>
                                      <p:to>
                                        <p:strVal val="visible"/>
                                      </p:to>
                                    </p:set>
                                    <p:animEffect filter="dissolve" transition="in">
                                      <p:cBhvr additive="repl">
                                        <p:cTn id="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rdgas – </a:t>
            </a:r>
            <a:br>
              <a:rPr sz="3200"/>
            </a:br>
            <a:r>
              <a:rPr b="1" lang="en-US" sz="3200" spc="-1" strike="noStrike">
                <a:solidFill>
                  <a:srgbClr val="ba1e31"/>
                </a:solidFill>
                <a:latin typeface="SwitzerlandCondBlack"/>
              </a:rPr>
              <a:t>Druck- und Flüssigerdgas</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NG: Verflüssigung = Hoher technischer und wirtschaftlicher Aufwand.</a:t>
            </a:r>
            <a:endParaRPr b="1"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große Verflüssigungs- und Lageranlagen praktikabel.</a:t>
            </a:r>
            <a:endParaRPr b="0"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für den Transport anstelle von CNG-Pipelines.</a:t>
            </a:r>
            <a:endParaRPr b="0"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 (nur CNG).</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5 – 20 % weniger Treibhausgasemissionen als bei Benzin; Verluste durch Extraktion und Transport müssen berücksichtigt werde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niger CO-, SO2- und unverbrannte Kraftstoff- und Partikelemissionen.</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nur CNG):</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alien, Deutschland: Derzeit zahlreiche Fahrzeuge in Betrieb.</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NG-Tankstellennetz erforderlich.</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NG-Verflüssigung und Transportschiffe erforderlich.</a:t>
            </a:r>
            <a:endParaRPr b="1" lang="en-US" sz="1800" spc="-1" strike="noStrike">
              <a:solidFill>
                <a:srgbClr val="000000"/>
              </a:solidFill>
              <a:latin typeface="Arial"/>
            </a:endParaRPr>
          </a:p>
        </p:txBody>
      </p:sp>
      <p:sp>
        <p:nvSpPr>
          <p:cNvPr id="145" name=""/>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Umweltschutz 5/2007: Flüssigerdgas.</a:t>
            </a:r>
            <a:endParaRPr b="0" lang="en-US" sz="1000" spc="-1" strike="noStrike">
              <a:solidFill>
                <a:srgbClr val="000000"/>
              </a:solidFill>
              <a:latin typeface="Times New Roman"/>
            </a:endParaRPr>
          </a:p>
        </p:txBody>
      </p:sp>
      <p:sp>
        <p:nvSpPr>
          <p:cNvPr id="146"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4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eling station</a:t>
            </a: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50" name="" descr=""/>
          <p:cNvPicPr/>
          <p:nvPr/>
        </p:nvPicPr>
        <p:blipFill>
          <a:blip r:embed="rId1"/>
          <a:stretch/>
        </p:blipFill>
        <p:spPr>
          <a:xfrm>
            <a:off x="5100480" y="0"/>
            <a:ext cx="4821480" cy="6858000"/>
          </a:xfrm>
          <a:prstGeom prst="rect">
            <a:avLst/>
          </a:prstGeom>
          <a:ln w="0">
            <a:noFill/>
          </a:ln>
        </p:spPr>
      </p:pic>
      <p:pic>
        <p:nvPicPr>
          <p:cNvPr id="151" name="" descr=""/>
          <p:cNvPicPr/>
          <p:nvPr/>
        </p:nvPicPr>
        <p:blipFill>
          <a:blip r:embed="rId2"/>
          <a:stretch/>
        </p:blipFill>
        <p:spPr>
          <a:xfrm>
            <a:off x="488880" y="3429000"/>
            <a:ext cx="4249800" cy="3154320"/>
          </a:xfrm>
          <a:prstGeom prst="rect">
            <a:avLst/>
          </a:prstGeom>
          <a:ln w="0">
            <a:noFill/>
          </a:ln>
        </p:spPr>
      </p:pic>
      <p:pic>
        <p:nvPicPr>
          <p:cNvPr id="152" name="" descr=""/>
          <p:cNvPicPr/>
          <p:nvPr/>
        </p:nvPicPr>
        <p:blipFill>
          <a:blip r:embed="rId3"/>
          <a:stretch/>
        </p:blipFill>
        <p:spPr>
          <a:xfrm>
            <a:off x="488880" y="44280"/>
            <a:ext cx="4262400" cy="3354480"/>
          </a:xfrm>
          <a:prstGeom prst="rect">
            <a:avLst/>
          </a:prstGeom>
          <a:ln w="0">
            <a:noFill/>
          </a:ln>
        </p:spPr>
      </p:pic>
      <p:sp>
        <p:nvSpPr>
          <p:cNvPr id="153"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Bilder von Energie Steiermark, Steirische Gas und Wärm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a:t>
            </a:r>
            <a:endParaRPr b="1" lang="en-US" sz="3200" spc="-1" strike="noStrike">
              <a:solidFill>
                <a:srgbClr val="ba1e31"/>
              </a:solidFill>
              <a:latin typeface="SwitzerlandCondBlack"/>
            </a:endParaRPr>
          </a:p>
        </p:txBody>
      </p:sp>
      <p:sp>
        <p:nvSpPr>
          <p:cNvPr id="15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ethangas, das durch Vergärung unter anaeroben Bedingungen aus organischen Stoffen, die Wasser enthalten, erzeugt wird.</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d aus landwirtschaftlichen Abfällen, Mais und organischen Abfällen aus der Industrie, Haushalten und Abwasser produzier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 – 3 Kg Mais-Silage =&gt; 1 Nm³ Bioga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ergiegehalt: 1 Nm³ Biogas = 0,65 Nm³ Erdga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gas: 60 % Methan, 40 % CO2, </a:t>
            </a:r>
            <a:r>
              <a:rPr b="1" lang="de-DE" sz="1800" spc="-1" strike="noStrike">
                <a:solidFill>
                  <a:srgbClr val="000000"/>
                </a:solidFill>
                <a:latin typeface="Arial"/>
                <a:ea typeface="Arial"/>
              </a:rPr>
              <a:t>~ </a:t>
            </a:r>
            <a:r>
              <a:rPr b="1" lang="de-DE" sz="1800" spc="-1" strike="noStrike">
                <a:solidFill>
                  <a:srgbClr val="000000"/>
                </a:solidFill>
                <a:latin typeface="Arial"/>
              </a:rPr>
              <a:t>6,6 kWh/Nm³.</a:t>
            </a:r>
            <a:br>
              <a:rPr sz="1800"/>
            </a:br>
            <a:r>
              <a:rPr b="1" lang="de-DE" sz="1800" spc="-1" strike="noStrike">
                <a:solidFill>
                  <a:srgbClr val="000000"/>
                </a:solidFill>
                <a:latin typeface="Arial"/>
              </a:rPr>
              <a:t>aufbereitetes Biogas: 98 % Methan, 2 % CO2, </a:t>
            </a:r>
            <a:r>
              <a:rPr b="1" lang="de-DE" sz="1800" spc="-1" strike="noStrike">
                <a:solidFill>
                  <a:srgbClr val="000000"/>
                </a:solidFill>
                <a:latin typeface="Arial"/>
                <a:ea typeface="Arial"/>
              </a:rPr>
              <a:t>~</a:t>
            </a:r>
            <a:r>
              <a:rPr b="1" lang="de-DE" sz="1800" spc="-1" strike="noStrike">
                <a:solidFill>
                  <a:srgbClr val="000000"/>
                </a:solidFill>
                <a:latin typeface="Arial"/>
              </a:rPr>
              <a:t> 11 kWh/Nm³.</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benprodukte: Reste als Dünger oder zur Bodenverbesserung.</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wird Biogas in peripheren Blockheizkraftwerken verwendet.</a:t>
            </a:r>
            <a:endParaRPr b="1" lang="en-US" sz="1800" spc="-1" strike="noStrike">
              <a:solidFill>
                <a:srgbClr val="000000"/>
              </a:solidFill>
              <a:latin typeface="Arial"/>
            </a:endParaRPr>
          </a:p>
        </p:txBody>
      </p:sp>
      <p:sp>
        <p:nvSpPr>
          <p:cNvPr id="156"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157"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5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12520" y="-360"/>
            <a:ext cx="8064360" cy="765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 – Beispiel Biogas KWK-Anlage</a:t>
            </a:r>
            <a:endParaRPr b="1" lang="en-US" sz="3200" spc="-1" strike="noStrike">
              <a:solidFill>
                <a:srgbClr val="ba1e31"/>
              </a:solidFill>
              <a:latin typeface="SwitzerlandCondBlack"/>
            </a:endParaRPr>
          </a:p>
        </p:txBody>
      </p:sp>
      <p:pic>
        <p:nvPicPr>
          <p:cNvPr id="160" name="" descr=""/>
          <p:cNvPicPr/>
          <p:nvPr/>
        </p:nvPicPr>
        <p:blipFill>
          <a:blip r:embed="rId1"/>
          <a:stretch/>
        </p:blipFill>
        <p:spPr>
          <a:xfrm>
            <a:off x="2216160" y="836640"/>
            <a:ext cx="6481800" cy="5918040"/>
          </a:xfrm>
          <a:prstGeom prst="rect">
            <a:avLst/>
          </a:prstGeom>
          <a:ln w="0">
            <a:noFill/>
          </a:ln>
        </p:spPr>
      </p:pic>
      <p:sp>
        <p:nvSpPr>
          <p:cNvPr id="161" name=""/>
          <p:cNvSpPr/>
          <p:nvPr/>
        </p:nvSpPr>
        <p:spPr>
          <a:xfrm>
            <a:off x="0" y="6568920"/>
            <a:ext cx="2144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Bild GE Jenbacher, Aust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KWK Prinzip</a:t>
            </a:r>
            <a:br>
              <a:rPr sz="3200"/>
            </a:br>
            <a:r>
              <a:rPr b="1" lang="en-US" sz="3200" spc="-1" strike="noStrike">
                <a:solidFill>
                  <a:srgbClr val="ba1e31"/>
                </a:solidFill>
                <a:latin typeface="SwitzerlandCondBlack"/>
              </a:rPr>
              <a:t>KWK = Kraft und Wärme Kopplung</a:t>
            </a:r>
            <a:endParaRPr b="1" lang="en-US" sz="3200" spc="-1" strike="noStrike">
              <a:solidFill>
                <a:srgbClr val="ba1e31"/>
              </a:solidFill>
              <a:latin typeface="SwitzerlandCondBlack"/>
            </a:endParaRPr>
          </a:p>
        </p:txBody>
      </p:sp>
      <p:sp>
        <p:nvSpPr>
          <p:cNvPr id="163" name="PlaceHolder 2"/>
          <p:cNvSpPr>
            <a:spLocks noGrp="1"/>
          </p:cNvSpPr>
          <p:nvPr>
            <p:ph/>
          </p:nvPr>
        </p:nvSpPr>
        <p:spPr>
          <a:xfrm>
            <a:off x="1639440" y="5084640"/>
            <a:ext cx="3832200" cy="1773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e KWK Anlag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tor/Generator.</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as Turbine/Generator.</a:t>
            </a:r>
            <a:endParaRPr b="1" lang="en-US" sz="2000" spc="-1" strike="noStrike">
              <a:solidFill>
                <a:srgbClr val="000000"/>
              </a:solidFill>
              <a:latin typeface="Arial"/>
            </a:endParaRPr>
          </a:p>
        </p:txBody>
      </p:sp>
      <p:pic>
        <p:nvPicPr>
          <p:cNvPr id="164" name="" descr=""/>
          <p:cNvPicPr/>
          <p:nvPr/>
        </p:nvPicPr>
        <p:blipFill>
          <a:blip r:embed="rId1"/>
          <a:stretch/>
        </p:blipFill>
        <p:spPr>
          <a:xfrm>
            <a:off x="560520" y="1268280"/>
            <a:ext cx="9074160" cy="3670560"/>
          </a:xfrm>
          <a:prstGeom prst="rect">
            <a:avLst/>
          </a:prstGeom>
          <a:ln w="0">
            <a:noFill/>
          </a:ln>
        </p:spPr>
      </p:pic>
      <p:sp>
        <p:nvSpPr>
          <p:cNvPr id="165" name=""/>
          <p:cNvSpPr/>
          <p:nvPr/>
        </p:nvSpPr>
        <p:spPr>
          <a:xfrm>
            <a:off x="5529240" y="5084640"/>
            <a:ext cx="4376880" cy="1773360"/>
          </a:xfrm>
          <a:prstGeom prst="rect">
            <a:avLst/>
          </a:prstGeom>
          <a:noFill/>
          <a:ln w="0">
            <a:noFill/>
          </a:ln>
        </p:spPr>
        <p:style>
          <a:lnRef idx="0"/>
          <a:fillRef idx="0"/>
          <a:effectRef idx="0"/>
          <a:fontRef idx="minor"/>
        </p:style>
        <p:txBody>
          <a:bodyPr lIns="92160" rIns="92160" tIns="46080" bIns="46080" anchor="t">
            <a:norm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mpf Turbine/Generator.</a:t>
            </a:r>
            <a:endParaRPr b="0" lang="en-US" sz="2000" spc="-1" strike="noStrike">
              <a:solidFill>
                <a:srgbClr val="000000"/>
              </a:solidFill>
              <a:latin typeface="Times New Roman"/>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rennstoffzelle.</a:t>
            </a:r>
            <a:endParaRPr b="0" lang="en-US" sz="2000" spc="-1" strike="noStrike">
              <a:solidFill>
                <a:srgbClr val="000000"/>
              </a:solidFill>
              <a:latin typeface="Times New Roman"/>
            </a:endParaRPr>
          </a:p>
        </p:txBody>
      </p:sp>
      <p:sp>
        <p:nvSpPr>
          <p:cNvPr id="166" name=""/>
          <p:cNvSpPr/>
          <p:nvPr/>
        </p:nvSpPr>
        <p:spPr>
          <a:xfrm>
            <a:off x="3871800" y="465300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undesverband Kraft Wärme Kopplung, German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a:t>
            </a:r>
            <a:endParaRPr b="1" lang="en-US" sz="3200" spc="-1" strike="noStrike">
              <a:solidFill>
                <a:srgbClr val="ba1e31"/>
              </a:solidFill>
              <a:latin typeface="SwitzerlandCondBlack"/>
            </a:endParaRPr>
          </a:p>
        </p:txBody>
      </p:sp>
      <p:sp>
        <p:nvSpPr>
          <p:cNvPr id="168"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2):</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wendung aufbereiteten Biogases in Benzinmotoren mit technischen Anpassungen des Tanks; nahezu alle Hersteller bieten entsprechende Fahrzeuge a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bereitetes Biogas kann mit Erdgas gemischt werden, derzeit gibt es erst wenige Anlagen, die in das Erdgasnetz einspeise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teilungsinfrastruktur für Erdgas kann verwendet werden;</a:t>
            </a:r>
            <a:br>
              <a:rPr sz="1800"/>
            </a:br>
            <a:r>
              <a:rPr b="1" lang="de-DE" sz="1800" spc="-1" strike="noStrike">
                <a:solidFill>
                  <a:srgbClr val="000000"/>
                </a:solidFill>
                <a:latin typeface="Arial"/>
              </a:rPr>
              <a:t>es gibt nur wenige Tankstellen.</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60 – 100 % weniger Treibhausgasemissionen als bei Benzi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meidung von Methanemissionen aus unvergorenen Abfälle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ringe Partikelemissionen.</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iz, Schweden: Derzeit Verwendung in Fahrzeugen (z.B. Busse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nkstellennetz und Einspeisungsanlagen erforderlich.</a:t>
            </a:r>
            <a:endParaRPr b="1" lang="en-US" sz="1800" spc="-1" strike="noStrike">
              <a:solidFill>
                <a:srgbClr val="000000"/>
              </a:solidFill>
              <a:latin typeface="Arial"/>
            </a:endParaRPr>
          </a:p>
        </p:txBody>
      </p:sp>
      <p:sp>
        <p:nvSpPr>
          <p:cNvPr id="169"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170"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7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ures Biogas als Kraftstoff </a:t>
            </a:r>
            <a:br>
              <a:rPr sz="3200"/>
            </a:br>
            <a:r>
              <a:rPr b="1" lang="en-US" sz="3200" spc="-1" strike="noStrike">
                <a:solidFill>
                  <a:srgbClr val="ba1e31"/>
                </a:solidFill>
                <a:latin typeface="SwitzerlandCondBlack"/>
              </a:rPr>
              <a:t>für Busse in Schweden</a:t>
            </a:r>
            <a:endParaRPr b="1" lang="en-US" sz="3200" spc="-1" strike="noStrike">
              <a:solidFill>
                <a:srgbClr val="ba1e31"/>
              </a:solidFill>
              <a:latin typeface="SwitzerlandCondBlack"/>
            </a:endParaRPr>
          </a:p>
        </p:txBody>
      </p:sp>
      <p:pic>
        <p:nvPicPr>
          <p:cNvPr id="173" name="" descr=""/>
          <p:cNvPicPr/>
          <p:nvPr/>
        </p:nvPicPr>
        <p:blipFill>
          <a:blip r:embed="rId1"/>
          <a:stretch/>
        </p:blipFill>
        <p:spPr>
          <a:xfrm>
            <a:off x="1697040" y="1305000"/>
            <a:ext cx="8008920" cy="5110200"/>
          </a:xfrm>
          <a:prstGeom prst="rect">
            <a:avLst/>
          </a:prstGeom>
          <a:ln w="0">
            <a:noFill/>
          </a:ln>
        </p:spPr>
      </p:pic>
      <p:sp>
        <p:nvSpPr>
          <p:cNvPr id="174" name=""/>
          <p:cNvSpPr/>
          <p:nvPr/>
        </p:nvSpPr>
        <p:spPr>
          <a:xfrm>
            <a:off x="4087800" y="6497640"/>
            <a:ext cx="568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Petersson, Swedisch Gas Center, Swede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Betankung mit Biogas nach Gasaufbereitung und Netzeinspeisung in Schweden</a:t>
            </a:r>
            <a:endParaRPr b="1" lang="en-US" sz="2800" spc="-1" strike="noStrike">
              <a:solidFill>
                <a:srgbClr val="ba1e31"/>
              </a:solidFill>
              <a:latin typeface="SwitzerlandCondBlack"/>
            </a:endParaRPr>
          </a:p>
        </p:txBody>
      </p:sp>
      <p:sp>
        <p:nvSpPr>
          <p:cNvPr id="17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
          <p:cNvSpPr/>
          <p:nvPr/>
        </p:nvSpPr>
        <p:spPr>
          <a:xfrm>
            <a:off x="4087800" y="6497640"/>
            <a:ext cx="568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Petersson, Swedisch Gas Center, Sweden.</a:t>
            </a:r>
            <a:endParaRPr b="0" lang="en-US" sz="1000" spc="-1" strike="noStrike">
              <a:solidFill>
                <a:srgbClr val="000000"/>
              </a:solidFill>
              <a:latin typeface="Times New Roman"/>
            </a:endParaRPr>
          </a:p>
        </p:txBody>
      </p:sp>
      <p:pic>
        <p:nvPicPr>
          <p:cNvPr id="178" name="" descr=""/>
          <p:cNvPicPr/>
          <p:nvPr/>
        </p:nvPicPr>
        <p:blipFill>
          <a:blip r:embed="rId1"/>
          <a:stretch/>
        </p:blipFill>
        <p:spPr>
          <a:xfrm>
            <a:off x="1424160" y="1268280"/>
            <a:ext cx="8386560" cy="526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ohmaterial für einen flüssig Kraftstoff?</a:t>
            </a:r>
            <a:br>
              <a:rPr sz="3200"/>
            </a:br>
            <a:r>
              <a:rPr b="1" lang="en-US" sz="3200" spc="-1" strike="noStrike">
                <a:solidFill>
                  <a:srgbClr val="ba1e31"/>
                </a:solidFill>
                <a:latin typeface="SwitzerlandCondBlack"/>
              </a:rPr>
              <a:t>Ja, Sonnenblumen!</a:t>
            </a:r>
            <a:endParaRPr b="1" lang="en-US" sz="3200" spc="-1" strike="noStrike">
              <a:solidFill>
                <a:srgbClr val="ba1e31"/>
              </a:solidFill>
              <a:latin typeface="SwitzerlandCondBlack"/>
            </a:endParaRPr>
          </a:p>
        </p:txBody>
      </p:sp>
      <p:pic>
        <p:nvPicPr>
          <p:cNvPr id="180" name="" descr=""/>
          <p:cNvPicPr/>
          <p:nvPr/>
        </p:nvPicPr>
        <p:blipFill>
          <a:blip r:embed="rId1"/>
          <a:stretch/>
        </p:blipFill>
        <p:spPr>
          <a:xfrm>
            <a:off x="704880" y="1484280"/>
            <a:ext cx="8712000" cy="491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19324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lternative Kraftstoffe in der Geschichte Beispiele</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ischer-Tropsch-Diesel (aus Kohle):</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industrielle Produktion 1934 in Deutschland -&gt; sehr wichtig während dem 2. Weltkrieg.</a:t>
            </a:r>
            <a:endParaRPr b="1" lang="en-US" sz="2400" spc="-1" strike="noStrike">
              <a:solidFill>
                <a:srgbClr val="000000"/>
              </a:solidFill>
              <a:latin typeface="Arial"/>
            </a:endParaRPr>
          </a:p>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io-Ethanol (aus Kartoffeln oder Zuckerrüben):</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r Einsatz im Prototyp des Verbrennungsmotors von Hrn. Nikolaus A. Otto im Jahre 1860.</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925 in Deutschland für den 2. Weltkrieg.</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it 1970 in Brasilien und USA großtechnisch.</a:t>
            </a:r>
            <a:endParaRPr b="1" lang="en-US" sz="2400" spc="-1" strike="noStrike">
              <a:solidFill>
                <a:srgbClr val="000000"/>
              </a:solidFill>
              <a:latin typeface="Arial"/>
            </a:endParaRPr>
          </a:p>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flanzenöl (aus Raps, Sonnenblumen …):</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it der Ölkrise in 1970er – Forschung und Einsatz.</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flanzenöl</a:t>
            </a:r>
            <a:endParaRPr b="1" lang="en-US" sz="3200" spc="-1" strike="noStrike">
              <a:solidFill>
                <a:srgbClr val="ba1e31"/>
              </a:solidFill>
              <a:latin typeface="SwitzerlandCondBlack"/>
            </a:endParaRPr>
          </a:p>
        </p:txBody>
      </p:sp>
      <p:sp>
        <p:nvSpPr>
          <p:cNvPr id="18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behandelt oder raffiniert aus Ölpflanzen durch Pressen oder Extraktion, aber chemisch unveränder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duziert aus Ölsaat von Raps, Sonnenblumen und Leindotte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 kg Ölsaat =&gt; 1 l Ö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ckerboden: 3 – 4 t Ölsaat jährlich pro h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ergiegehalt: 1 l Pflanzenöl = 0,92 l Diese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benprodukte: Pflanzenreste (Trester) als Futter oder Dünger.</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wendung in Dieselmotoren ist mit technischen Anpassungen möglich („Elsbet-Prinzip“).</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ür eine Serienproduktion muss die Zuverlässigkeit und Langlebigkeit der Motoren verbessert werden.</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184"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8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071960" y="2751120"/>
            <a:ext cx="5834160" cy="4106880"/>
          </a:xfrm>
          <a:prstGeom prst="rect">
            <a:avLst/>
          </a:prstGeom>
          <a:ln w="0">
            <a:noFill/>
          </a:ln>
        </p:spPr>
      </p:pic>
      <p:pic>
        <p:nvPicPr>
          <p:cNvPr id="187" name="" descr="">
            <a:hlinkClick r:id="rId2"/>
          </p:cNvPr>
          <p:cNvPicPr/>
          <p:nvPr/>
        </p:nvPicPr>
        <p:blipFill>
          <a:blip r:embed="rId3"/>
          <a:stretch/>
        </p:blipFill>
        <p:spPr>
          <a:xfrm>
            <a:off x="0" y="0"/>
            <a:ext cx="5313240" cy="3979800"/>
          </a:xfrm>
          <a:prstGeom prst="rect">
            <a:avLst/>
          </a:prstGeom>
          <a:ln w="0">
            <a:noFill/>
          </a:ln>
        </p:spPr>
      </p:pic>
      <p:sp>
        <p:nvSpPr>
          <p:cNvPr id="188"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Rechtes Bild Biotrieb, Aust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flanzenöl</a:t>
            </a:r>
            <a:endParaRPr b="1" lang="en-US" sz="3200" spc="-1" strike="noStrike">
              <a:solidFill>
                <a:srgbClr val="ba1e31"/>
              </a:solidFill>
              <a:latin typeface="SwitzerlandCondBlack"/>
            </a:endParaRPr>
          </a:p>
        </p:txBody>
      </p:sp>
      <p:sp>
        <p:nvSpPr>
          <p:cNvPr id="190" name="PlaceHolder 2"/>
          <p:cNvSpPr>
            <a:spLocks noGrp="1"/>
          </p:cNvSpPr>
          <p:nvPr>
            <p:ph/>
          </p:nvPr>
        </p:nvSpPr>
        <p:spPr>
          <a:xfrm>
            <a:off x="1712520" y="1196640"/>
            <a:ext cx="8064360" cy="532764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wendungsmöglichkeiten (2):</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schen mit (Bio-)Diesel ist nicht möglich.</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Verteilungsinfrastruktur ist nicht komplex und existiert größtenteils bereit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Grund seiner Viskosität ist eine Vorerwärmung des Öls bei niedrigen Außentemperaturen erforderlich.</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Ökologische Aspekte.</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50 % weniger Treibhausgasemissionen als bei Diesel.</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ei von Schwefel und Schwermetallen.</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ologisch abbaubar.</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utlich höhere Mutagenität (Veränderung des Erbguts – verursacht Krebs) im Vergleich zu Diesel und Biodiesel.</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spiele:</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zeit Verwendung in Blockheizkraftwerken, PKWs und landwirtschaftlichen Maschinen, z.B. in Deutschland und Österreich.</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lottentests laufen (z.B. Österreich).</a:t>
            </a:r>
            <a:endParaRPr b="1" lang="en-US" sz="1600" spc="-1" strike="noStrike">
              <a:solidFill>
                <a:srgbClr val="000000"/>
              </a:solidFill>
              <a:latin typeface="Arial"/>
            </a:endParaRPr>
          </a:p>
        </p:txBody>
      </p:sp>
      <p:sp>
        <p:nvSpPr>
          <p:cNvPr id="191"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192"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9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aps als Rohmaterial für Biodiesel</a:t>
            </a:r>
            <a:endParaRPr b="1" lang="en-US" sz="3200" spc="-1" strike="noStrike">
              <a:solidFill>
                <a:srgbClr val="ba1e31"/>
              </a:solidFill>
              <a:latin typeface="SwitzerlandCondBlack"/>
            </a:endParaRPr>
          </a:p>
        </p:txBody>
      </p:sp>
      <p:sp>
        <p:nvSpPr>
          <p:cNvPr id="195"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icture Münzer Holding, Biodiesel Vienna, Austria.</a:t>
            </a:r>
            <a:endParaRPr b="0" lang="en-US" sz="1000" spc="-1" strike="noStrike">
              <a:solidFill>
                <a:srgbClr val="000000"/>
              </a:solidFill>
              <a:latin typeface="Times New Roman"/>
            </a:endParaRPr>
          </a:p>
        </p:txBody>
      </p:sp>
      <p:pic>
        <p:nvPicPr>
          <p:cNvPr id="196" name="" descr=""/>
          <p:cNvPicPr/>
          <p:nvPr/>
        </p:nvPicPr>
        <p:blipFill>
          <a:blip r:embed="rId1"/>
          <a:stretch/>
        </p:blipFill>
        <p:spPr>
          <a:xfrm>
            <a:off x="1784520" y="981000"/>
            <a:ext cx="7777080" cy="551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19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duktion und Gewinnung:</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 Methylester mit Dieselqualität aus Pflanzenöl oder tierischen Fett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l aus Raps, Sonnenblumen, Leindotter oder Speiseö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ergiegehalt: 1 l Biodiesel = 0,92 l Diese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skosten</a:t>
            </a:r>
            <a:br>
              <a:rPr sz="2000"/>
            </a:br>
            <a:r>
              <a:rPr b="1" lang="de-DE" sz="2000" spc="-1" strike="noStrike">
                <a:solidFill>
                  <a:srgbClr val="000000"/>
                </a:solidFill>
                <a:latin typeface="Arial"/>
              </a:rPr>
              <a:t>einschließlich </a:t>
            </a:r>
            <a:br>
              <a:rPr sz="2000"/>
            </a:br>
            <a:r>
              <a:rPr b="1" lang="de-DE" sz="2000" spc="-1" strike="noStrike">
                <a:solidFill>
                  <a:srgbClr val="000000"/>
                </a:solidFill>
                <a:latin typeface="Arial"/>
              </a:rPr>
              <a:t>Raffinierung: </a:t>
            </a:r>
            <a:br>
              <a:rPr sz="2000"/>
            </a:br>
            <a:r>
              <a:rPr b="1" lang="de-DE" sz="2000" spc="-1" strike="noStrike">
                <a:solidFill>
                  <a:srgbClr val="000000"/>
                </a:solidFill>
                <a:latin typeface="Arial"/>
              </a:rPr>
              <a:t>0,55 – 0,6 €/l </a:t>
            </a:r>
            <a:br>
              <a:rPr sz="2000"/>
            </a:br>
            <a:r>
              <a:rPr b="1" lang="de-DE" sz="2000" spc="-1" strike="noStrike">
                <a:solidFill>
                  <a:srgbClr val="000000"/>
                </a:solidFill>
                <a:latin typeface="Arial"/>
              </a:rPr>
              <a:t>bei Biodiesel </a:t>
            </a:r>
            <a:br>
              <a:rPr sz="2000"/>
            </a:br>
            <a:r>
              <a:rPr b="1" lang="de-DE" sz="2000" spc="-1" strike="noStrike">
                <a:solidFill>
                  <a:srgbClr val="000000"/>
                </a:solidFill>
                <a:latin typeface="Arial"/>
              </a:rPr>
              <a:t>gegenüber </a:t>
            </a:r>
            <a:br>
              <a:rPr sz="2000"/>
            </a:br>
            <a:r>
              <a:rPr b="1" lang="de-DE" sz="2000" spc="-1" strike="noStrike">
                <a:solidFill>
                  <a:srgbClr val="000000"/>
                </a:solidFill>
                <a:latin typeface="Arial"/>
              </a:rPr>
              <a:t>0,3 – 0,4 €/l</a:t>
            </a:r>
            <a:br>
              <a:rPr sz="2000"/>
            </a:br>
            <a:r>
              <a:rPr b="1" lang="de-DE" sz="2000" spc="-1" strike="noStrike">
                <a:solidFill>
                  <a:srgbClr val="000000"/>
                </a:solidFill>
                <a:latin typeface="Arial"/>
              </a:rPr>
              <a:t>bei fossilen </a:t>
            </a:r>
            <a:br>
              <a:rPr sz="2000"/>
            </a:br>
            <a:r>
              <a:rPr b="1" lang="de-DE" sz="2000" spc="-1" strike="noStrike">
                <a:solidFill>
                  <a:srgbClr val="000000"/>
                </a:solidFill>
                <a:latin typeface="Arial"/>
              </a:rPr>
              <a:t>Kraftstoffen</a:t>
            </a:r>
            <a:endParaRPr b="1" lang="en-US" sz="2000" spc="-1" strike="noStrike">
              <a:solidFill>
                <a:srgbClr val="000000"/>
              </a:solidFill>
              <a:latin typeface="Arial"/>
            </a:endParaRPr>
          </a:p>
        </p:txBody>
      </p:sp>
      <p:pic>
        <p:nvPicPr>
          <p:cNvPr id="199" name="" descr=""/>
          <p:cNvPicPr/>
          <p:nvPr/>
        </p:nvPicPr>
        <p:blipFill>
          <a:blip r:embed="rId1"/>
          <a:stretch/>
        </p:blipFill>
        <p:spPr>
          <a:xfrm>
            <a:off x="4376880" y="3860640"/>
            <a:ext cx="5472000" cy="2494080"/>
          </a:xfrm>
          <a:prstGeom prst="rect">
            <a:avLst/>
          </a:prstGeom>
          <a:ln w="0">
            <a:noFill/>
          </a:ln>
        </p:spPr>
      </p:pic>
      <p:sp>
        <p:nvSpPr>
          <p:cNvPr id="200" name=""/>
          <p:cNvSpPr/>
          <p:nvPr/>
        </p:nvSpPr>
        <p:spPr>
          <a:xfrm>
            <a:off x="3513240" y="6237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National Biodiesel Board: Biodiesel Production.</a:t>
            </a:r>
            <a:br>
              <a:rPr sz="1000"/>
            </a:b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01"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0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39800" y="0"/>
            <a:ext cx="8266320" cy="1125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iodiesel Vienna </a:t>
            </a:r>
            <a:br>
              <a:rPr sz="3200"/>
            </a:br>
            <a:r>
              <a:rPr b="1" lang="de-DE" sz="3200" spc="-1" strike="noStrike">
                <a:solidFill>
                  <a:srgbClr val="ba1e31"/>
                </a:solidFill>
                <a:latin typeface="SwitzerlandCondBlack"/>
              </a:rPr>
              <a:t>eine Produktionsanlage in Österreich</a:t>
            </a:r>
            <a:endParaRPr b="1" lang="en-US" sz="3200" spc="-1" strike="noStrike">
              <a:solidFill>
                <a:srgbClr val="ba1e31"/>
              </a:solidFill>
              <a:latin typeface="SwitzerlandCondBlack"/>
            </a:endParaRPr>
          </a:p>
        </p:txBody>
      </p:sp>
      <p:sp>
        <p:nvSpPr>
          <p:cNvPr id="204" name=""/>
          <p:cNvSpPr/>
          <p:nvPr/>
        </p:nvSpPr>
        <p:spPr>
          <a:xfrm>
            <a:off x="57240" y="6093000"/>
            <a:ext cx="1439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a:t>
            </a:r>
            <a:br>
              <a:rPr sz="1000"/>
            </a:br>
            <a:r>
              <a:rPr b="0" lang="de-DE" sz="1000" spc="-1" strike="noStrike">
                <a:solidFill>
                  <a:srgbClr val="000000"/>
                </a:solidFill>
                <a:latin typeface="Arial Narrow"/>
              </a:rPr>
              <a:t>Bild  Münzer Holding, </a:t>
            </a:r>
            <a:br>
              <a:rPr sz="1000"/>
            </a:br>
            <a:r>
              <a:rPr b="0" lang="de-DE" sz="1000" spc="-1" strike="noStrike">
                <a:solidFill>
                  <a:srgbClr val="000000"/>
                </a:solidFill>
                <a:latin typeface="Arial Narrow"/>
              </a:rPr>
              <a:t>Biodiesel Vienna, Österreich.</a:t>
            </a:r>
            <a:endParaRPr b="0" lang="en-US" sz="1000" spc="-1" strike="noStrike">
              <a:solidFill>
                <a:srgbClr val="000000"/>
              </a:solidFill>
              <a:latin typeface="Times New Roman"/>
            </a:endParaRPr>
          </a:p>
        </p:txBody>
      </p:sp>
      <p:pic>
        <p:nvPicPr>
          <p:cNvPr id="205" name="" descr=""/>
          <p:cNvPicPr/>
          <p:nvPr/>
        </p:nvPicPr>
        <p:blipFill>
          <a:blip r:embed="rId1"/>
          <a:stretch/>
        </p:blipFill>
        <p:spPr>
          <a:xfrm>
            <a:off x="1495440" y="1079640"/>
            <a:ext cx="8281800" cy="4940280"/>
          </a:xfrm>
          <a:prstGeom prst="rect">
            <a:avLst/>
          </a:prstGeom>
          <a:ln w="0">
            <a:noFill/>
          </a:ln>
        </p:spPr>
      </p:pic>
      <p:sp>
        <p:nvSpPr>
          <p:cNvPr id="206" name=""/>
          <p:cNvSpPr/>
          <p:nvPr/>
        </p:nvSpPr>
        <p:spPr>
          <a:xfrm>
            <a:off x="1281240" y="6021360"/>
            <a:ext cx="8424720" cy="836640"/>
          </a:xfrm>
          <a:prstGeom prst="rect">
            <a:avLst/>
          </a:prstGeom>
          <a:noFill/>
          <a:ln w="0">
            <a:noFill/>
          </a:ln>
        </p:spPr>
        <p:style>
          <a:lnRef idx="0"/>
          <a:fillRef idx="0"/>
          <a:effectRef idx="0"/>
          <a:fontRef idx="minor"/>
        </p:style>
        <p:txBody>
          <a:bodyPr lIns="92160" rIns="92160" tIns="46080" bIns="46080" anchor="b">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Produktionskapazität nach Erweiterung: ~ 340.000 t/a</a:t>
            </a:r>
            <a:br>
              <a:rPr sz="2400"/>
            </a:br>
            <a:r>
              <a:rPr b="1" lang="en-US" sz="2400" spc="-1" strike="noStrike">
                <a:solidFill>
                  <a:srgbClr val="ba1e31"/>
                </a:solidFill>
                <a:latin typeface="SwitzerlandCondBlack"/>
              </a:rPr>
              <a:t>das bedeutet ~ 3 % des gesamten Ö Kraftstoffbedar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12520" y="0"/>
            <a:ext cx="8064360" cy="9079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208"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schen mit fossilem Diesel ist in jedem Mischverhältnis möglich.</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wendung von Dieselmotoren ist mit einigen technischen Anpassungen möglich.</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schungen mit fossilem Diesel bis zu einem Mischverhältnis von 1:1 von vielen Automobilherstellern zugelassen.</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schungen mit einem Mischverhältnis von bis zu 25 % fossilem  mit 85 % Biodiesel „B85“ von einigen Automobilherstellern zugelassen, z.B. Volvo oder BMW.</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zeit sind nur wenige Fahrzeuge für die Verwendung von reinem Biodiesel „B100“ zugelassen, vor allem LKW.</a:t>
            </a:r>
            <a:endParaRPr b="0"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ür eine Serienproduktion muss die Zuverlässigkeit und Langlebigkeit der Motoren verbessert werd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teilungsinfrastruktur ist die gleiche wir für fossilen Diesel.</a:t>
            </a:r>
            <a:endParaRPr b="1" lang="en-US" sz="1800" spc="-1" strike="noStrike">
              <a:solidFill>
                <a:srgbClr val="000000"/>
              </a:solidFill>
              <a:latin typeface="Arial"/>
            </a:endParaRPr>
          </a:p>
        </p:txBody>
      </p:sp>
      <p:sp>
        <p:nvSpPr>
          <p:cNvPr id="209" name=""/>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10"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1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12520" y="0"/>
            <a:ext cx="8064360" cy="9079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213" name="PlaceHolder 2"/>
          <p:cNvSpPr>
            <a:spLocks noGrp="1"/>
          </p:cNvSpPr>
          <p:nvPr>
            <p:ph/>
          </p:nvPr>
        </p:nvSpPr>
        <p:spPr>
          <a:xfrm>
            <a:off x="1712520" y="836280"/>
            <a:ext cx="8064360" cy="576108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Ökologische Aspekte:</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0 – 95 % weniger Treibhausgasemissionen als bei Diese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niger CO- und Partikelemissionen, aber mehr N-Emissione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ologisch abbaubar.</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e:</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rd derzeit in der gesamten EU mit einem Anteil von 5,75 % mit fossilem Diesel gemischt. </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österreichische Regierung plant, dass fossiler Diesel ab 2010 im ganzen Land mit 10 % Biodiesel „B10“ gemischt werden mus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PKW und LKW, die mit 100 % Biodiesel B100 laufen (z.B. Busflotten in Österreich, Serienfahrzeuge).</a:t>
            </a:r>
            <a:endParaRPr b="1"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ww.ufop.de (nur Deutsch)</a:t>
            </a:r>
            <a:endParaRPr b="0" lang="en-US" sz="2000" spc="-1" strike="noStrike">
              <a:solidFill>
                <a:srgbClr val="000000"/>
              </a:solidFill>
              <a:latin typeface="Arial"/>
            </a:endParaRPr>
          </a:p>
        </p:txBody>
      </p:sp>
      <p:sp>
        <p:nvSpPr>
          <p:cNvPr id="214" name=""/>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15"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16"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68160" y="-360"/>
            <a:ext cx="8064360" cy="88092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ethanol</a:t>
            </a:r>
            <a:endParaRPr b="1" lang="en-US" sz="3200" spc="-1" strike="noStrike">
              <a:solidFill>
                <a:srgbClr val="ba1e31"/>
              </a:solidFill>
              <a:latin typeface="SwitzerlandCondBlack"/>
            </a:endParaRPr>
          </a:p>
        </p:txBody>
      </p:sp>
      <p:sp>
        <p:nvSpPr>
          <p:cNvPr id="218" name="PlaceHolder 2"/>
          <p:cNvSpPr>
            <a:spLocks noGrp="1"/>
          </p:cNvSpPr>
          <p:nvPr>
            <p:ph/>
          </p:nvPr>
        </p:nvSpPr>
        <p:spPr>
          <a:xfrm>
            <a:off x="1568520" y="836280"/>
            <a:ext cx="833760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steht durch Vergärung und Destillierung von Biomasse (Feldfrücht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duziert aus zuckerhaltigen/stärkehaltigen Feldfrüchten wie zum Beispiel Zuckerrüben, Getreide, Mais oder Kartoffeln; zukünftig auch aus Lignocellulos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 – 8 kg Früchte =&gt; 1 l Bioethanol.</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½ l Bioethanol =&gt; 1 l Bio-ETBE Ethyltertiärbutylether (als Additiv für Erdöl).</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ergiegehalt: 1 l Bioethanol = 0,68 l Benzi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ohe Anzahl an Nebenprodukten: Die Maische wird als Futter, Dünger oder Brennstoff verwendet.</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ethanol </a:t>
            </a:r>
            <a:r>
              <a:rPr b="1" lang="de-DE" sz="1800" spc="-1" strike="noStrike">
                <a:solidFill>
                  <a:srgbClr val="000000"/>
                </a:solidFill>
                <a:latin typeface="Arial"/>
                <a:ea typeface="Arial"/>
              </a:rPr>
              <a:t>≈ Biobutanol, anderes Produktionsverfahren + bessere Eigenschaften.</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1):</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wendung in Benzinmotoren ist mit technischen Anpassungen möglich; einige Fahrzeuge wurden von den Herstellern zugelassen, z.B. Saab Biopower.</a:t>
            </a:r>
            <a:endParaRPr b="1" lang="en-US" sz="1800" spc="-1" strike="noStrike">
              <a:solidFill>
                <a:srgbClr val="000000"/>
              </a:solidFill>
              <a:latin typeface="Arial"/>
            </a:endParaRPr>
          </a:p>
        </p:txBody>
      </p:sp>
      <p:sp>
        <p:nvSpPr>
          <p:cNvPr id="219"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20"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2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12520" y="0"/>
            <a:ext cx="8064360" cy="1052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Agrana in Pischelsdorf </a:t>
            </a:r>
            <a:br>
              <a:rPr sz="2800"/>
            </a:br>
            <a:r>
              <a:rPr b="1" lang="de-DE" sz="2800" spc="-1" strike="noStrike">
                <a:solidFill>
                  <a:srgbClr val="ba1e31"/>
                </a:solidFill>
                <a:latin typeface="SwitzerlandCondBlack"/>
              </a:rPr>
              <a:t>eine Prodktionsanlage in Österreich</a:t>
            </a:r>
            <a:endParaRPr b="1" lang="en-US" sz="2800" spc="-1" strike="noStrike">
              <a:solidFill>
                <a:srgbClr val="ba1e31"/>
              </a:solidFill>
              <a:latin typeface="SwitzerlandCondBlack"/>
            </a:endParaRPr>
          </a:p>
        </p:txBody>
      </p:sp>
      <p:pic>
        <p:nvPicPr>
          <p:cNvPr id="223" name="" descr=""/>
          <p:cNvPicPr/>
          <p:nvPr/>
        </p:nvPicPr>
        <p:blipFill>
          <a:blip r:embed="rId1"/>
          <a:stretch/>
        </p:blipFill>
        <p:spPr>
          <a:xfrm>
            <a:off x="1784520" y="1003320"/>
            <a:ext cx="7775280" cy="5040360"/>
          </a:xfrm>
          <a:prstGeom prst="rect">
            <a:avLst/>
          </a:prstGeom>
          <a:ln w="0">
            <a:noFill/>
          </a:ln>
        </p:spPr>
      </p:pic>
      <p:sp>
        <p:nvSpPr>
          <p:cNvPr id="224" name=""/>
          <p:cNvSpPr/>
          <p:nvPr/>
        </p:nvSpPr>
        <p:spPr>
          <a:xfrm>
            <a:off x="57240" y="6093000"/>
            <a:ext cx="1439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a:t>
            </a:r>
            <a:br>
              <a:rPr sz="1000"/>
            </a:br>
            <a:r>
              <a:rPr b="0" lang="de-DE" sz="1000" spc="-1" strike="noStrike">
                <a:solidFill>
                  <a:srgbClr val="000000"/>
                </a:solidFill>
                <a:latin typeface="Arial Narrow"/>
              </a:rPr>
              <a:t>Bioethanol-Anlage Pischelsdorf, Agrana, Österreich.</a:t>
            </a:r>
            <a:endParaRPr b="0" lang="en-US" sz="1000" spc="-1" strike="noStrike">
              <a:solidFill>
                <a:srgbClr val="000000"/>
              </a:solidFill>
              <a:latin typeface="Times New Roman"/>
            </a:endParaRPr>
          </a:p>
        </p:txBody>
      </p:sp>
      <p:sp>
        <p:nvSpPr>
          <p:cNvPr id="225" name=""/>
          <p:cNvSpPr/>
          <p:nvPr/>
        </p:nvSpPr>
        <p:spPr>
          <a:xfrm>
            <a:off x="1281240" y="6021360"/>
            <a:ext cx="8424720" cy="836640"/>
          </a:xfrm>
          <a:prstGeom prst="rect">
            <a:avLst/>
          </a:prstGeom>
          <a:noFill/>
          <a:ln w="0">
            <a:noFill/>
          </a:ln>
        </p:spPr>
        <p:style>
          <a:lnRef idx="0"/>
          <a:fillRef idx="0"/>
          <a:effectRef idx="0"/>
          <a:fontRef idx="minor"/>
        </p:style>
        <p:txBody>
          <a:bodyPr lIns="92160" rIns="92160" tIns="46080" bIns="46080" anchor="b">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Produktionskapazität: ~ 190.000 t/a</a:t>
            </a:r>
            <a:br>
              <a:rPr sz="2400"/>
            </a:br>
            <a:r>
              <a:rPr b="1" lang="en-US" sz="2400" spc="-1" strike="noStrike">
                <a:solidFill>
                  <a:srgbClr val="ba1e31"/>
                </a:solidFill>
                <a:latin typeface="SwitzerlandCondBlack"/>
              </a:rPr>
              <a:t>das bedeutet ~ 2 % des gesamten Ö Kraftstoffbedarfs</a:t>
            </a:r>
            <a:endParaRPr b="0" lang="en-US" sz="2400" spc="-1" strike="noStrike">
              <a:solidFill>
                <a:srgbClr val="000000"/>
              </a:solidFill>
              <a:latin typeface="Times New Roman"/>
            </a:endParaRPr>
          </a:p>
        </p:txBody>
      </p:sp>
      <p:pic>
        <p:nvPicPr>
          <p:cNvPr id="226" name="" descr=""/>
          <p:cNvPicPr/>
          <p:nvPr/>
        </p:nvPicPr>
        <p:blipFill>
          <a:blip r:embed="rId2"/>
          <a:stretch/>
        </p:blipFill>
        <p:spPr>
          <a:xfrm>
            <a:off x="57240" y="1700280"/>
            <a:ext cx="2077920" cy="37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nwärtige Situation: Weltweit und in der EU.</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en:</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gleich: Alternative Kraftstoffe – Biokraftstoffe.</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aftstoffe der 1. und 2. Generation.</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blick über alternative Brennstoffe und Beschreibung:</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ktion und Gewinnung. </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wendungsmöglichkeiten.</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Ökologische Aspekte.</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spiele.</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blick:</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 und Entwicklung, Politik, Diskussion: Nahrung – Kraftstof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ethanol</a:t>
            </a:r>
            <a:endParaRPr b="1" lang="en-US" sz="3200" spc="-1" strike="noStrike">
              <a:solidFill>
                <a:srgbClr val="ba1e31"/>
              </a:solidFill>
              <a:latin typeface="SwitzerlandCondBlack"/>
            </a:endParaRPr>
          </a:p>
        </p:txBody>
      </p:sp>
      <p:sp>
        <p:nvSpPr>
          <p:cNvPr id="228" name="PlaceHolder 2"/>
          <p:cNvSpPr>
            <a:spLocks noGrp="1"/>
          </p:cNvSpPr>
          <p:nvPr>
            <p:ph/>
          </p:nvPr>
        </p:nvSpPr>
        <p:spPr>
          <a:xfrm>
            <a:off x="1712520" y="1125360"/>
            <a:ext cx="8064360" cy="53992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schen mit fossilem Benzin ist in jedem beliebigen Mischverhältnis möglich, z.B. E5 (5 % Bioethanol/95 % Benzin) und E85 (85 % Bioethano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teilungsinfrastruktur ist die gleiche wir für fossiles Benzin.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gibt es einen Überschuss an Benzinprodukten in Europa.</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0 – 75 % weniger Treibhausgasemissionen als bei Benzi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öhere Oktanzahl, weniger CO- und N-Emissione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logisch abbaubar.</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Verwendung in verschiedenen Fahrzeugen (FFV – Flexi-Fuel-Fahrzeuge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uptproduzenten sind Brasilien, die USA, Frankreich, Schweden, Spanien und Deutschland   </a:t>
            </a:r>
            <a:r>
              <a:rPr b="1" lang="de-DE" sz="1800" spc="-1" strike="noStrike">
                <a:solidFill>
                  <a:srgbClr val="000000"/>
                </a:solidFill>
                <a:latin typeface="Wingdings"/>
                <a:ea typeface="Wingdings"/>
              </a:rPr>
              <a:t></a:t>
            </a:r>
            <a:r>
              <a:rPr b="1" lang="de-DE" sz="1800" spc="-1" strike="noStrike">
                <a:solidFill>
                  <a:srgbClr val="000000"/>
                </a:solidFill>
                <a:latin typeface="Arial"/>
              </a:rPr>
              <a:t> www.superethanol.at (nur Deutsch).</a:t>
            </a:r>
            <a:endParaRPr b="1" lang="en-US" sz="1800" spc="-1" strike="noStrike">
              <a:solidFill>
                <a:srgbClr val="000000"/>
              </a:solidFill>
              <a:latin typeface="Arial"/>
            </a:endParaRPr>
          </a:p>
        </p:txBody>
      </p:sp>
      <p:sp>
        <p:nvSpPr>
          <p:cNvPr id="229"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30"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3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ynthetische Kraftstoffe</a:t>
            </a:r>
            <a:endParaRPr b="1" lang="en-US" sz="3200" spc="-1" strike="noStrike">
              <a:solidFill>
                <a:srgbClr val="ba1e31"/>
              </a:solidFill>
              <a:latin typeface="SwitzerlandCondBlack"/>
            </a:endParaRPr>
          </a:p>
        </p:txBody>
      </p:sp>
      <p:sp>
        <p:nvSpPr>
          <p:cNvPr id="233" name=""/>
          <p:cNvSpPr txBox="1"/>
          <p:nvPr/>
        </p:nvSpPr>
        <p:spPr>
          <a:xfrm>
            <a:off x="1712880" y="1268280"/>
            <a:ext cx="8064360" cy="5256360"/>
          </a:xfrm>
          <a:prstGeom prst="rect">
            <a:avLst/>
          </a:prstGeom>
          <a:noFill/>
          <a:ln w="0">
            <a:noFill/>
          </a:ln>
        </p:spPr>
        <p:txBody>
          <a:bodyPr lIns="92160" rIns="92160" tIns="46080" bIns="4608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 (1):</a:t>
            </a:r>
            <a:endParaRPr b="1" lang="en-US" sz="2000" spc="-1" strike="noStrike">
              <a:solidFill>
                <a:srgbClr val="000000"/>
              </a:solidFill>
              <a:latin typeface="Arial"/>
            </a:endParaRPr>
          </a:p>
          <a:p>
            <a:pPr lvl="1" marL="495360" indent="-2062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nthetische Kraftstoffe sind flüssige oder gasförmige Kraftstoffe (Kohlenwasserstoffe), die aus Erdgas, Öl, Kohle, Biomasse oder anderen Stoffen wie Abfällen, Ölschiefer oder Ölsand gewonnen werden.</a:t>
            </a:r>
            <a:endParaRPr b="1" lang="en-US" sz="1800" spc="-1" strike="noStrike">
              <a:solidFill>
                <a:srgbClr val="000000"/>
              </a:solidFill>
              <a:latin typeface="Arial"/>
            </a:endParaRPr>
          </a:p>
          <a:p>
            <a:pPr lvl="1" marL="495360" indent="-2062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stens Vergasung: </a:t>
            </a:r>
            <a:br>
              <a:rPr sz="1800"/>
            </a:br>
            <a:r>
              <a:rPr b="1" lang="de-DE" sz="1800" spc="-1" strike="noStrike">
                <a:solidFill>
                  <a:srgbClr val="000000"/>
                </a:solidFill>
                <a:latin typeface="Arial"/>
              </a:rPr>
              <a:t>Aus verschiedenen </a:t>
            </a:r>
            <a:br>
              <a:rPr sz="1800"/>
            </a:br>
            <a:r>
              <a:rPr b="1" lang="de-DE" sz="1800" spc="-1" strike="noStrike">
                <a:solidFill>
                  <a:srgbClr val="000000"/>
                </a:solidFill>
                <a:latin typeface="Arial"/>
              </a:rPr>
              <a:t>Stoffen wird Syngas</a:t>
            </a:r>
            <a:br>
              <a:rPr sz="1800"/>
            </a:br>
            <a:r>
              <a:rPr b="1" lang="de-DE" sz="1800" spc="-1" strike="noStrike">
                <a:solidFill>
                  <a:srgbClr val="000000"/>
                </a:solidFill>
                <a:latin typeface="Arial"/>
              </a:rPr>
              <a:t>hergestellt; es ist eine </a:t>
            </a:r>
            <a:br>
              <a:rPr sz="1800"/>
            </a:br>
            <a:r>
              <a:rPr b="1" lang="de-DE" sz="1800" spc="-1" strike="noStrike">
                <a:solidFill>
                  <a:srgbClr val="000000"/>
                </a:solidFill>
                <a:latin typeface="Arial"/>
              </a:rPr>
              <a:t>Mischung aus Kohlen-</a:t>
            </a:r>
            <a:br>
              <a:rPr sz="1800"/>
            </a:br>
            <a:r>
              <a:rPr b="1" lang="de-DE" sz="1800" spc="-1" strike="noStrike">
                <a:solidFill>
                  <a:srgbClr val="000000"/>
                </a:solidFill>
                <a:latin typeface="Arial"/>
              </a:rPr>
              <a:t>monoxid, Kohlendioxid </a:t>
            </a:r>
            <a:br>
              <a:rPr sz="1800"/>
            </a:br>
            <a:r>
              <a:rPr b="1" lang="de-DE" sz="1800" spc="-1" strike="noStrike">
                <a:solidFill>
                  <a:srgbClr val="000000"/>
                </a:solidFill>
                <a:latin typeface="Arial"/>
              </a:rPr>
              <a:t>und Wasserstoff.</a:t>
            </a:r>
            <a:r>
              <a:rPr b="1" lang="de-DE" sz="1800" spc="-1" strike="noStrike">
                <a:solidFill>
                  <a:srgbClr val="000000"/>
                </a:solidFill>
                <a:latin typeface="Arial"/>
              </a:rPr>
              <a:t>	</a:t>
            </a:r>
            <a:endParaRPr b="1" lang="en-US" sz="1800" spc="-1" strike="noStrike">
              <a:solidFill>
                <a:srgbClr val="000000"/>
              </a:solidFill>
              <a:latin typeface="Arial"/>
            </a:endParaRPr>
          </a:p>
          <a:p>
            <a:pPr lvl="1" marL="495360" indent="-2062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weitens Synthese: </a:t>
            </a:r>
            <a:br>
              <a:rPr sz="1800"/>
            </a:br>
            <a:r>
              <a:rPr b="1" lang="de-DE" sz="1800" spc="-1" strike="noStrike">
                <a:solidFill>
                  <a:srgbClr val="000000"/>
                </a:solidFill>
                <a:latin typeface="Arial"/>
              </a:rPr>
              <a:t>Durch geeignete Verfahren </a:t>
            </a:r>
            <a:br>
              <a:rPr sz="1800"/>
            </a:br>
            <a:r>
              <a:rPr b="1" lang="de-DE" sz="1800" spc="-1" strike="noStrike">
                <a:solidFill>
                  <a:srgbClr val="000000"/>
                </a:solidFill>
                <a:latin typeface="Arial"/>
              </a:rPr>
              <a:t>werden verschiedene </a:t>
            </a:r>
            <a:br>
              <a:rPr sz="1800"/>
            </a:br>
            <a:r>
              <a:rPr b="1" lang="de-DE" sz="1800" spc="-1" strike="noStrike">
                <a:solidFill>
                  <a:srgbClr val="000000"/>
                </a:solidFill>
                <a:latin typeface="Arial"/>
              </a:rPr>
              <a:t>synthetische Kraftstoffe </a:t>
            </a:r>
            <a:br>
              <a:rPr sz="1800"/>
            </a:br>
            <a:r>
              <a:rPr b="1" lang="de-DE" sz="1800" spc="-1" strike="noStrike">
                <a:solidFill>
                  <a:srgbClr val="000000"/>
                </a:solidFill>
                <a:latin typeface="Arial"/>
              </a:rPr>
              <a:t>hergestellt. </a:t>
            </a:r>
            <a:endParaRPr b="1" lang="en-US" sz="1800" spc="-1" strike="noStrike">
              <a:solidFill>
                <a:srgbClr val="000000"/>
              </a:solidFill>
              <a:latin typeface="Arial"/>
            </a:endParaRPr>
          </a:p>
        </p:txBody>
      </p:sp>
      <p:sp>
        <p:nvSpPr>
          <p:cNvPr id="234"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pic>
        <p:nvPicPr>
          <p:cNvPr id="235" name="" descr=""/>
          <p:cNvPicPr/>
          <p:nvPr/>
        </p:nvPicPr>
        <p:blipFill>
          <a:blip r:embed="rId1"/>
          <a:stretch/>
        </p:blipFill>
        <p:spPr>
          <a:xfrm>
            <a:off x="5241960" y="2997360"/>
            <a:ext cx="4680000" cy="2984400"/>
          </a:xfrm>
          <a:prstGeom prst="rect">
            <a:avLst/>
          </a:prstGeom>
          <a:ln w="0">
            <a:noFill/>
          </a:ln>
        </p:spPr>
      </p:pic>
      <p:sp>
        <p:nvSpPr>
          <p:cNvPr id="236" name=""/>
          <p:cNvSpPr/>
          <p:nvPr/>
        </p:nvSpPr>
        <p:spPr>
          <a:xfrm>
            <a:off x="9855360" y="3060720"/>
            <a:ext cx="6660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661680" y="3638520"/>
            <a:ext cx="260280" cy="141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3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ynthetische Kraftstoffe</a:t>
            </a:r>
            <a:endParaRPr b="1" lang="en-US" sz="3200" spc="-1" strike="noStrike">
              <a:solidFill>
                <a:srgbClr val="ba1e31"/>
              </a:solidFill>
              <a:latin typeface="SwitzerlandCondBlack"/>
            </a:endParaRPr>
          </a:p>
        </p:txBody>
      </p:sp>
      <p:sp>
        <p:nvSpPr>
          <p:cNvPr id="241" name=""/>
          <p:cNvSpPr txBox="1"/>
          <p:nvPr/>
        </p:nvSpPr>
        <p:spPr>
          <a:xfrm>
            <a:off x="1712880" y="1268280"/>
            <a:ext cx="8193240" cy="5256360"/>
          </a:xfrm>
          <a:prstGeom prst="rect">
            <a:avLst/>
          </a:prstGeom>
          <a:noFill/>
          <a:ln w="0">
            <a:noFill/>
          </a:ln>
        </p:spPr>
        <p:txBody>
          <a:bodyPr lIns="92160" rIns="92160" tIns="46080" bIns="4608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schiedenen Kraftstofftypen hängen von den Ausgangsstoffen und den Herstellungsverfahren ab (entsprechend benannt):</a:t>
            </a:r>
            <a:endParaRPr b="1"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TG (</a:t>
            </a:r>
            <a:r>
              <a:rPr b="0" i="1" lang="de-DE" sz="1800" spc="-1" strike="noStrike">
                <a:solidFill>
                  <a:srgbClr val="000000"/>
                </a:solidFill>
                <a:latin typeface="Arial"/>
              </a:rPr>
              <a:t>Biomass To Gas</a:t>
            </a:r>
            <a:r>
              <a:rPr b="0" lang="de-DE" sz="1800" spc="-1" strike="noStrike">
                <a:solidFill>
                  <a:srgbClr val="000000"/>
                </a:solidFill>
                <a:latin typeface="Arial"/>
              </a:rPr>
              <a:t>) – Biomasse zu Gas (gasförmiger Kraftstoff aus Biomasse).</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TL (</a:t>
            </a:r>
            <a:r>
              <a:rPr b="0" i="1" lang="de-DE" sz="1800" spc="-1" strike="noStrike">
                <a:solidFill>
                  <a:srgbClr val="000000"/>
                </a:solidFill>
                <a:latin typeface="Arial"/>
              </a:rPr>
              <a:t>Biomass to Liquid</a:t>
            </a:r>
            <a:r>
              <a:rPr b="0" lang="de-DE" sz="1800" spc="-1" strike="noStrike">
                <a:solidFill>
                  <a:srgbClr val="000000"/>
                </a:solidFill>
                <a:latin typeface="Arial"/>
              </a:rPr>
              <a:t>) – Biomasse zu Flüssigkeit: (flüssiger Kraftstoff aus Biomasse),z.B. 1 Kg Holz = 1/3 Kg synthetischer Biokraftstoff.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NG (</a:t>
            </a:r>
            <a:r>
              <a:rPr b="0" i="1" lang="de-DE" sz="1800" spc="-1" strike="noStrike">
                <a:solidFill>
                  <a:srgbClr val="000000"/>
                </a:solidFill>
                <a:latin typeface="Arial"/>
              </a:rPr>
              <a:t>Synthetic Natural Gas</a:t>
            </a:r>
            <a:r>
              <a:rPr b="0" lang="de-DE" sz="1800" spc="-1" strike="noStrike">
                <a:solidFill>
                  <a:srgbClr val="000000"/>
                </a:solidFill>
                <a:latin typeface="Arial"/>
              </a:rPr>
              <a:t>) – Synthetisches Erdgas (auch aus Biogas).</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T-Diesel – Fischer-Tropsch-Diesel (aus Kohle, Gas oder Holz durch bestimmte Verfahren).</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DME – Biodimethylether.</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methanol (Energiegehalt 1 l = 0,5 l Benzin), auch Ausgangsmaterial für Bio-MTBE Methyltertiärbutylether (als Additiv für Erdöl).</a:t>
            </a:r>
            <a:endParaRPr b="0" lang="en-US" sz="1800" spc="-1" strike="noStrike">
              <a:solidFill>
                <a:srgbClr val="000000"/>
              </a:solidFill>
              <a:latin typeface="Arial"/>
            </a:endParaRPr>
          </a:p>
        </p:txBody>
      </p:sp>
      <p:sp>
        <p:nvSpPr>
          <p:cNvPr id="242"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43"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4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ischer-Tropsch Diesel </a:t>
            </a:r>
            <a:br>
              <a:rPr sz="3200"/>
            </a:br>
            <a:r>
              <a:rPr b="1" lang="de-DE" sz="3200" spc="-1" strike="noStrike">
                <a:solidFill>
                  <a:srgbClr val="ba1e31"/>
                </a:solidFill>
                <a:latin typeface="SwitzerlandCondBlack"/>
              </a:rPr>
              <a:t>Produktionsanlage in Güssing (Ö)</a:t>
            </a:r>
            <a:endParaRPr b="1" lang="en-US" sz="3200" spc="-1" strike="noStrike">
              <a:solidFill>
                <a:srgbClr val="ba1e31"/>
              </a:solidFill>
              <a:latin typeface="SwitzerlandCondBlack"/>
            </a:endParaRPr>
          </a:p>
        </p:txBody>
      </p:sp>
      <p:sp>
        <p:nvSpPr>
          <p:cNvPr id="246" name=""/>
          <p:cNvSpPr/>
          <p:nvPr/>
        </p:nvSpPr>
        <p:spPr>
          <a:xfrm>
            <a:off x="1712880" y="6381720"/>
            <a:ext cx="5111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a:t>
            </a:r>
            <a:br>
              <a:rPr sz="1000"/>
            </a:br>
            <a:r>
              <a:rPr b="0" lang="de-DE" sz="1000" spc="-1" strike="noStrike">
                <a:solidFill>
                  <a:srgbClr val="000000"/>
                </a:solidFill>
                <a:latin typeface="Arial Narrow"/>
              </a:rPr>
              <a:t>Biomassenanlage Güssing, Hofbauer, TU-Wien.</a:t>
            </a:r>
            <a:endParaRPr b="0" lang="en-US" sz="1000" spc="-1" strike="noStrike">
              <a:solidFill>
                <a:srgbClr val="000000"/>
              </a:solidFill>
              <a:latin typeface="Times New Roman"/>
            </a:endParaRPr>
          </a:p>
        </p:txBody>
      </p:sp>
      <p:pic>
        <p:nvPicPr>
          <p:cNvPr id="247" name="" descr=""/>
          <p:cNvPicPr/>
          <p:nvPr/>
        </p:nvPicPr>
        <p:blipFill>
          <a:blip r:embed="rId1"/>
          <a:stretch/>
        </p:blipFill>
        <p:spPr>
          <a:xfrm>
            <a:off x="344520" y="1197000"/>
            <a:ext cx="9361440" cy="50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ynthetische Kraftstoffe</a:t>
            </a:r>
            <a:endParaRPr b="1" lang="en-US" sz="3200" spc="-1" strike="noStrike">
              <a:solidFill>
                <a:srgbClr val="ba1e31"/>
              </a:solidFill>
              <a:latin typeface="SwitzerlandCondBlack"/>
            </a:endParaRPr>
          </a:p>
        </p:txBody>
      </p:sp>
      <p:sp>
        <p:nvSpPr>
          <p:cNvPr id="249" name=""/>
          <p:cNvSpPr txBox="1"/>
          <p:nvPr/>
        </p:nvSpPr>
        <p:spPr>
          <a:xfrm>
            <a:off x="1712880" y="1268280"/>
            <a:ext cx="8064360" cy="5256360"/>
          </a:xfrm>
          <a:prstGeom prst="rect">
            <a:avLst/>
          </a:prstGeom>
          <a:noFill/>
          <a:ln w="0">
            <a:noFill/>
          </a:ln>
        </p:spPr>
        <p:txBody>
          <a:bodyPr lIns="92160" rIns="92160" tIns="46080" bIns="4608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Verwendung in der Chemie und Forschung- und Entwicklung &gt; keine Massenproduktion oder –verwendung.</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Mischen mit fossilen Kraftstoffen ist manchmal möglich.</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wendung in herkömmlichen Motoren, Turbinen und Brennstoffzellen ist möglich.</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Großteil der Verteilungsinfrastruktur kann verwendet werden.</a:t>
            </a:r>
            <a:endParaRPr b="1"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s zu 80 % weniger Treibhausgasemissionen als bei Benzin oder Diesel.</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nchmal weniger Partikel, unverbrannte Kohlenwasserstoff- oder Schwefelmissionen.</a:t>
            </a:r>
            <a:endParaRPr b="1"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sind nur einige Pilotproduktionsanlagen in Betrieb: z.B. in Deutschland, Österreich, Südafrika, Neuseeland, Malaysia.</a:t>
            </a:r>
            <a:endParaRPr b="1" lang="en-US" sz="1800" spc="-1" strike="noStrike">
              <a:solidFill>
                <a:srgbClr val="000000"/>
              </a:solidFill>
              <a:latin typeface="Arial"/>
            </a:endParaRPr>
          </a:p>
        </p:txBody>
      </p:sp>
      <p:sp>
        <p:nvSpPr>
          <p:cNvPr id="250"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51"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5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TU – Hydrothermische Transformation</a:t>
            </a:r>
            <a:endParaRPr b="1" lang="en-US" sz="3200" spc="-1" strike="noStrike">
              <a:solidFill>
                <a:srgbClr val="ba1e31"/>
              </a:solidFill>
              <a:latin typeface="SwitzerlandCondBlack"/>
            </a:endParaRPr>
          </a:p>
        </p:txBody>
      </p:sp>
      <p:sp>
        <p:nvSpPr>
          <p:cNvPr id="25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TU (</a:t>
            </a:r>
            <a:r>
              <a:rPr b="1" i="1" lang="de-DE" sz="1800" spc="-1" strike="noStrike">
                <a:solidFill>
                  <a:srgbClr val="000000"/>
                </a:solidFill>
                <a:latin typeface="Arial"/>
              </a:rPr>
              <a:t>Hydrothermal Upgrading</a:t>
            </a:r>
            <a:r>
              <a:rPr b="1" lang="de-DE" sz="1800" spc="-1" strike="noStrike">
                <a:solidFill>
                  <a:srgbClr val="000000"/>
                </a:solidFill>
                <a:latin typeface="Arial"/>
              </a:rPr>
              <a:t>) ist die Degeneration organischer Stoffe in Wasser oder Methanol durch hohe Drücke und Temperatur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e nach Verfahren kann eine breite Palette von Produkten aus Holz, Bioabfällen, Schlamm oder Maische hergestellt werd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dukte wie Biocrude, verschiedene Kohlenwasserstoffe, Methan oder Wasserstoff können produziert werden.</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s zu 80 % weniger Treibhausgasemissionen als bei Benzin oder Diesel.</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befindet sich die HTU-Technologie in der Forschungs- und Entwicklungsphase, es sind nur Versuchsanlagen geplant.</a:t>
            </a:r>
            <a:endParaRPr b="1" lang="en-US" sz="1800" spc="-1" strike="noStrike">
              <a:solidFill>
                <a:srgbClr val="000000"/>
              </a:solidFill>
              <a:latin typeface="Arial"/>
            </a:endParaRPr>
          </a:p>
        </p:txBody>
      </p:sp>
      <p:sp>
        <p:nvSpPr>
          <p:cNvPr id="255"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56"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5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usblick</a:t>
            </a:r>
            <a:endParaRPr b="1" lang="en-US" sz="3200" spc="-1" strike="noStrike">
              <a:solidFill>
                <a:srgbClr val="ba1e31"/>
              </a:solidFill>
              <a:latin typeface="SwitzerlandCondBlack"/>
            </a:endParaRPr>
          </a:p>
        </p:txBody>
      </p:sp>
      <p:sp>
        <p:nvSpPr>
          <p:cNvPr id="259" name="PlaceHolder 2"/>
          <p:cNvSpPr>
            <a:spLocks noGrp="1"/>
          </p:cNvSpPr>
          <p:nvPr>
            <p:ph/>
          </p:nvPr>
        </p:nvSpPr>
        <p:spPr>
          <a:xfrm>
            <a:off x="1712520" y="1268280"/>
            <a:ext cx="8193240" cy="54007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schung und Entwicklung (Technologie und Markt):</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eute und in naher Zukunft sind und bleiben Benzin- und Dieselmotoren die wichtigsten Motoren für Mobilität.</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haben Benzin- und Dieselmotoren noch Verbesserungspotential (Verbrauchs- und Emissionssenkung).</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ybridtechnologie ist der neueste Stand der Technik – eine Kombination aus Benzinmotoren mit Elektromotoren und Batterie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eute sind Bioethanol und Biodiesel industriell verfügbar, zukünftig: </a:t>
            </a:r>
            <a:endParaRPr b="1"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iner Biodiesel in LKW, Schiffen (gemischt in PKW).</a:t>
            </a:r>
            <a:endParaRPr b="0"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mischter und auch reiner Bioethanol in PKW.</a:t>
            </a:r>
            <a:endParaRPr b="0"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gas und synthetische (Bio-)Kraftstoffe (Kraftstoffe der 2. Generation) haben Zukunftspotential &gt; Es sind Forschungs- und Entwicklungsmaßnahmen erforderlich:</a:t>
            </a:r>
            <a:endParaRPr b="1"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Potential von heute wird als Premiumkraftstoff angesehen.</a:t>
            </a:r>
            <a:endParaRPr b="0" lang="en-US" sz="1800" spc="-1" strike="noStrike">
              <a:solidFill>
                <a:srgbClr val="000000"/>
              </a:solidFill>
              <a:latin typeface="Arial"/>
            </a:endParaRPr>
          </a:p>
        </p:txBody>
      </p:sp>
      <p:sp>
        <p:nvSpPr>
          <p:cNvPr id="260" name=""/>
          <p:cNvSpPr/>
          <p:nvPr/>
        </p:nvSpPr>
        <p:spPr>
          <a:xfrm>
            <a:off x="3513240" y="6264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Biofuels Research Advisory Council: Biokraftstoffe in der Europäischen Union. 2006.</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61"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6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usblick</a:t>
            </a:r>
            <a:endParaRPr b="1" lang="en-US" sz="3200" spc="-1" strike="noStrike">
              <a:solidFill>
                <a:srgbClr val="ba1e31"/>
              </a:solidFill>
              <a:latin typeface="SwitzerlandCondBlack"/>
            </a:endParaRPr>
          </a:p>
        </p:txBody>
      </p:sp>
      <p:sp>
        <p:nvSpPr>
          <p:cNvPr id="26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olitischer Ausblick – Vision der EU:</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ue Kraftstoffe, die mit heutigen Kraftstofftypen vergleichbar oder kompatibel sind.</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¼ der Kraftstoffe im Transportsektor aus Biokraftstoffen bis 2030.</a:t>
            </a:r>
            <a:endParaRPr b="1" lang="en-US" sz="1800" spc="-1" strike="noStrike">
              <a:solidFill>
                <a:srgbClr val="000000"/>
              </a:solidFill>
              <a:latin typeface="Arial"/>
            </a:endParaRPr>
          </a:p>
          <a:p>
            <a:pPr lvl="1" marL="495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sellschaftliche Aspekte – Diskussion: Nahrung – Kraftstoff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gibt Diskussionen über den Verdrängungswettbewerb auf landwirtschaftlichen Flächen zwischen Nahrungs- und Energiepflanzen.</a:t>
            </a:r>
            <a:endParaRPr b="1"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ethanol: Anstieg der Lebensmittelpreise in Südamerika (Brasilien) aufgrund extensiver Produktion (Anbau von Zuckerrüben).</a:t>
            </a:r>
            <a:endParaRPr b="0"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diesel: Geringe Auswirkung auf die Lebensmittelindustrie, da die Rohstoffe (Raps, Sonnenblumen) nicht zu den Lebensmitteln gehören und Fruchtwechsel beim Anbau erforderlich sind.</a:t>
            </a:r>
            <a:endParaRPr b="0" lang="en-US" sz="1800" spc="-1" strike="noStrike">
              <a:solidFill>
                <a:srgbClr val="000000"/>
              </a:solidFill>
              <a:latin typeface="Arial"/>
            </a:endParaRPr>
          </a:p>
        </p:txBody>
      </p:sp>
      <p:sp>
        <p:nvSpPr>
          <p:cNvPr id="265" name=""/>
          <p:cNvSpPr/>
          <p:nvPr/>
        </p:nvSpPr>
        <p:spPr>
          <a:xfrm>
            <a:off x="3513240" y="6264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Biofuels Research Advisory Council: Biokraftstoffe in der Europäischen Union. 2006.</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66"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6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genwärtige Situation - weltweit</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ternative Kraftstoffe spielen auf dem Transportsektor nur eine untergeordnete Rolle.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rennstoffe aus Rohöl decken 96 % des weltweiten Bedarfs für den Transportsektor ab. Andere Formen spiele nur auf lokaler Ebene oder für spezielle Transportanwendungen eine bedeutende Rol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bhängigkeit vom Rohöl ist kein Idealzustand.</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Diversifikation der Primärenergien ist erforderlich.</a:t>
            </a:r>
            <a:endParaRPr b="0"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004 betrug die Produktion von Biokraftstoffen weltweit 33 Mrd. Liter gegenüber 1.200 Mrd. Litern Benzin, die weltweit produziert wurden (&lt; 3%).</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thanol: Brasilien und die USA sind weltweit führend bei der Produktion und beim Verbrauch.</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diesel: Weltweit wurden 2 Mrd. Liter produziert, über 90 % davon in der EU 25, insbesondere in Deutschland.</a:t>
            </a:r>
            <a:endParaRPr b="1" lang="en-US" sz="1800" spc="-1" strike="noStrike">
              <a:solidFill>
                <a:srgbClr val="000000"/>
              </a:solidFill>
              <a:latin typeface="Arial"/>
            </a:endParaRPr>
          </a:p>
        </p:txBody>
      </p:sp>
      <p:sp>
        <p:nvSpPr>
          <p:cNvPr id="11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Biofuels Research Advisory Council: Biokraftstoffe in der Europäischen Union. 2006.</a:t>
            </a:r>
            <a:endParaRPr b="0" lang="en-US" sz="1000" spc="-1" strike="noStrike">
              <a:solidFill>
                <a:srgbClr val="000000"/>
              </a:solidFill>
              <a:latin typeface="Times New Roman"/>
            </a:endParaRPr>
          </a:p>
        </p:txBody>
      </p:sp>
      <p:sp>
        <p:nvSpPr>
          <p:cNvPr id="114" name=""/>
          <p:cNvSpPr/>
          <p:nvPr/>
        </p:nvSpPr>
        <p:spPr>
          <a:xfrm>
            <a:off x="1600200" y="6524640"/>
            <a:ext cx="3733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1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genwärtige Situation in der EU</a:t>
            </a:r>
            <a:endParaRPr b="1" lang="en-US" sz="3200" spc="-1" strike="noStrike">
              <a:solidFill>
                <a:srgbClr val="ba1e31"/>
              </a:solidFill>
              <a:latin typeface="SwitzerlandCondBlack"/>
            </a:endParaRPr>
          </a:p>
        </p:txBody>
      </p:sp>
      <p:pic>
        <p:nvPicPr>
          <p:cNvPr id="117" name="" descr=""/>
          <p:cNvPicPr/>
          <p:nvPr/>
        </p:nvPicPr>
        <p:blipFill>
          <a:blip r:embed="rId1"/>
          <a:stretch/>
        </p:blipFill>
        <p:spPr>
          <a:xfrm>
            <a:off x="1639800" y="1211400"/>
            <a:ext cx="7993080" cy="5213160"/>
          </a:xfrm>
          <a:prstGeom prst="rect">
            <a:avLst/>
          </a:prstGeom>
          <a:ln w="0">
            <a:noFill/>
          </a:ln>
        </p:spPr>
      </p:pic>
      <p:sp>
        <p:nvSpPr>
          <p:cNvPr id="11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Biofuels Research Advisory Council: Biokraftstoffe in der Europäischen Union 2006.</a:t>
            </a:r>
            <a:endParaRPr b="0" lang="en-US" sz="1000" spc="-1" strike="noStrike">
              <a:solidFill>
                <a:srgbClr val="000000"/>
              </a:solidFill>
              <a:latin typeface="Times New Roman"/>
            </a:endParaRPr>
          </a:p>
        </p:txBody>
      </p:sp>
      <p:sp>
        <p:nvSpPr>
          <p:cNvPr id="119"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2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genwärtige Situation in der EU</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EU-Transportsektor verbraucht &gt; 30 % der gesamten Energie.</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98 % des Energieverbrauchs des Transportsektors hängt von fossilen Kraftstoffen ab.</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r der Hauptgründe für das Verfehlen der Kyoto-Ziel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U-Ziel für 2010 = 5,75 % oder 18 Mtoe Biokraftstoffe, das heißt zwischen 4 und 13 % der gesamten Anbaufläche wird für die Produktion benötigt.</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Produktion flüssiger Biokraftstoffe betrug im Jahr 2004 in der  EU 25 2.040 ktoe (Marktanteil von 0,7 %)</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n größten Anteil daran hatte Biodiesel aus Raps mit 2 Mt, hauptsächlich in Deutschland, Frankreich und Italien. </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thanol wird hauptsächlich aus Weizen produziert; in Frankreich, Spanien und Schweden (knapp 500.000 t).</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odiesel und Ethanol werden hauptsächlich mit Diesel oder Benzin vermischt, zwar in geringen Mengen, doch Ethanol wird in Mischungen mit hohen Mengen für technisch angepasste Fahrzeuge verwendet (Flexi-Fuel) und manchmal sind auch einige reine Formen erhältlich. Der Großteil des Ethanols wird zu Ethyltertiärbutylether (ETBE) als Benzinadditiv verarbeitet.</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dere alternative Kraftstoffe werden derzeit bei geringen Marktvolumina entwickelt, z.B. Biogas in Schweden oder reines Pflanzenöl in Deutschland.</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Biofuels Research Advisory Council: Biokraftstoffe in der Europäischen Union. 2006.</a:t>
            </a:r>
            <a:endParaRPr b="0" lang="en-US" sz="1000" spc="-1" strike="noStrike">
              <a:solidFill>
                <a:srgbClr val="000000"/>
              </a:solidFill>
              <a:latin typeface="Times New Roman"/>
            </a:endParaRPr>
          </a:p>
        </p:txBody>
      </p:sp>
      <p:sp>
        <p:nvSpPr>
          <p:cNvPr id="124"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2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efinitionen: Vergleich alternativer Kraftstoffe der 1. und 2. Generation</a:t>
            </a:r>
            <a:endParaRPr b="1" lang="en-US" sz="3200" spc="-1" strike="noStrike">
              <a:solidFill>
                <a:srgbClr val="ba1e31"/>
              </a:solidFill>
              <a:latin typeface="SwitzerlandCondBlack"/>
            </a:endParaRPr>
          </a:p>
        </p:txBody>
      </p:sp>
      <p:sp>
        <p:nvSpPr>
          <p:cNvPr id="127"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gleich alternativer Kraftstoffe und Biokraftstoffe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Kraftstoffe umfassen alle Materialien oder Stoffe, die als Kraftstoffe verwendet werden (außer herkömmlichen Kraftstoffen). Dies müssen nicht zwangsläufig erneuerbare Energiequellen sein.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kraftstoffe sind flüssige oder gasförmige Kraftstoffe, die aus Biomasse (biologisch abbaubaren Stoffen) produziert werden.</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stoffe der 1. und 2. Generatio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ftstoffe der 1. Generation sind „herkömmliche“ Kraftstoffe, die z.B. durch Extraktion, Vergärung, Veresterung oder Digestion entstehen, wie zum Beispiel Pflanzenöl, Biodiesel, Bioethanol oder aufbereitetes Bioga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ftstoffe der 2. Generation entstehen durch thermochemische Umwandlung (z.B. Vergasung, Synthese) wie zum Beispiel Wasserstoff, Methanol, Ethanol, DME oder BTL-Diesel.</a:t>
            </a:r>
            <a:endParaRPr b="1" lang="en-US" sz="1800" spc="-1" strike="noStrike">
              <a:solidFill>
                <a:srgbClr val="000000"/>
              </a:solidFill>
              <a:latin typeface="Arial"/>
            </a:endParaRPr>
          </a:p>
        </p:txBody>
      </p:sp>
      <p:sp>
        <p:nvSpPr>
          <p:cNvPr id="128" name=""/>
          <p:cNvSpPr/>
          <p:nvPr/>
        </p:nvSpPr>
        <p:spPr>
          <a:xfrm>
            <a:off x="3584520" y="6237360"/>
            <a:ext cx="5689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Biofuels Research Advisory Council: Biokraftstoffe in der Europäischen Union. 2006.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wikipedia.org: Alternative Fuel. 2007.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greencarcongress.com: Secound Generation Biofuels. 2007.</a:t>
            </a:r>
            <a:endParaRPr b="0" lang="en-US" sz="1000" spc="-1" strike="noStrike">
              <a:solidFill>
                <a:srgbClr val="000000"/>
              </a:solidFill>
              <a:latin typeface="Times New Roman"/>
            </a:endParaRPr>
          </a:p>
        </p:txBody>
      </p:sp>
      <p:sp>
        <p:nvSpPr>
          <p:cNvPr id="129"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3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Überblick über alternative Kraftstoffe</a:t>
            </a:r>
            <a:endParaRPr b="1" lang="en-US" sz="3200" spc="-1" strike="noStrike">
              <a:solidFill>
                <a:srgbClr val="ba1e31"/>
              </a:solidFill>
              <a:latin typeface="SwitzerlandCondBlack"/>
            </a:endParaRPr>
          </a:p>
        </p:txBody>
      </p:sp>
      <p:sp>
        <p:nvSpPr>
          <p:cNvPr id="13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rdga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NG – Druckerdgas (</a:t>
            </a:r>
            <a:r>
              <a:rPr b="1" i="1" lang="de-DE" sz="2000" spc="-1" strike="noStrike">
                <a:solidFill>
                  <a:srgbClr val="000000"/>
                </a:solidFill>
                <a:latin typeface="Arial"/>
              </a:rPr>
              <a:t>Compressed natural gas</a:t>
            </a:r>
            <a:r>
              <a:rPr b="1" lang="de-DE" sz="2000" spc="-1" strike="noStrike">
                <a:solidFill>
                  <a:srgbClr val="000000"/>
                </a:solidFill>
                <a:latin typeface="Aria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NG – Flüssigerdgas (</a:t>
            </a:r>
            <a:r>
              <a:rPr b="1" i="1" lang="de-DE" sz="2000" spc="-1" strike="noStrike">
                <a:solidFill>
                  <a:srgbClr val="000000"/>
                </a:solidFill>
                <a:latin typeface="Arial"/>
              </a:rPr>
              <a:t>Liquified natural gas</a:t>
            </a:r>
            <a:r>
              <a:rPr b="1" lang="de-DE"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iokraftstoff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ogas (auch aufbereite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ines Pflanzenö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odies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oethanol (auch aus Lignocellulosematerial).</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ynthetische Kraftstoff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TL, BTL, SNG, FT-Diesel, (Bio-)Methanol, MTBE, DM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TU – Hydrothermische Transformation.</a:t>
            </a:r>
            <a:endParaRPr b="1" lang="en-US" sz="2400" spc="-1" strike="noStrike">
              <a:solidFill>
                <a:srgbClr val="000000"/>
              </a:solidFill>
              <a:latin typeface="Arial"/>
            </a:endParaRPr>
          </a:p>
        </p:txBody>
      </p:sp>
      <p:sp>
        <p:nvSpPr>
          <p:cNvPr id="133"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3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rdgas – </a:t>
            </a:r>
            <a:br>
              <a:rPr sz="3200"/>
            </a:br>
            <a:r>
              <a:rPr b="1" lang="en-US" sz="3200" spc="-1" strike="noStrike">
                <a:solidFill>
                  <a:srgbClr val="ba1e31"/>
                </a:solidFill>
                <a:latin typeface="SwitzerlandCondBlack"/>
              </a:rPr>
              <a:t>Druck- und Flüssigerdgas</a:t>
            </a:r>
            <a:endParaRPr b="1" lang="en-US" sz="3200" spc="-1" strike="noStrike">
              <a:solidFill>
                <a:srgbClr val="ba1e31"/>
              </a:solidFill>
              <a:latin typeface="SwitzerlandCondBlack"/>
            </a:endParaRPr>
          </a:p>
        </p:txBody>
      </p:sp>
      <p:sp>
        <p:nvSpPr>
          <p:cNvPr id="13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wonnen aus Erdbohrung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dgas besteht zu &gt; 98 % aus Metha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ergiegehalt: 1 Nm³ Erdgas = 1,16 l Erdö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ruckgas: für Lagerung &gt; 200 bar, in Pipelines &lt; 10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lüssiggas: Verflüssigung &lt; - 162 °C.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NG wird derzeit in der Industrie, in Heizkraftwerken oder in Kraftwerken zur Erzeugung von Wärme und Strom verwende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NG als Fahrzeugkraftstoff ist eine Alternative: Verwendung in Benzinmotoren mit technischen Anpassungen des Tanks, nahezu alle Hersteller bieten entsprechende Fahrzeuge an (monovalent oder bivalent).</a:t>
            </a:r>
            <a:endParaRPr b="1" lang="en-US" sz="1800" spc="-1" strike="noStrike">
              <a:solidFill>
                <a:srgbClr val="000000"/>
              </a:solidFill>
              <a:latin typeface="Arial"/>
            </a:endParaRPr>
          </a:p>
        </p:txBody>
      </p:sp>
      <p:sp>
        <p:nvSpPr>
          <p:cNvPr id="137" name=""/>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Umweltschutz 5/2007: Flüssigerdgas.</a:t>
            </a:r>
            <a:endParaRPr b="0" lang="en-US" sz="1000" spc="-1" strike="noStrike">
              <a:solidFill>
                <a:srgbClr val="000000"/>
              </a:solidFill>
              <a:latin typeface="Times New Roman"/>
            </a:endParaRPr>
          </a:p>
        </p:txBody>
      </p:sp>
      <p:sp>
        <p:nvSpPr>
          <p:cNvPr id="138" name=""/>
          <p:cNvSpPr/>
          <p:nvPr/>
        </p:nvSpPr>
        <p:spPr>
          <a:xfrm>
            <a:off x="1712880" y="647712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3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2:12:25Z</dcterms:modified>
  <cp:revision>784</cp:revision>
  <dc:subject/>
  <dc:title>Energie-Contracting</dc:title>
</cp:coreProperties>
</file>