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6AE6825-C2FA-4CE1-B21C-5642C33F702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3F7D5F86-00AF-4AB6-9E58-7681B14362E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2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597E97D-8D32-49BE-9152-58F8598B78E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2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2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CC89A2C5-FADF-49D4-BB5E-854E5C09409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30" name="PlaceHolder 1"/>
          <p:cNvSpPr>
            <a:spLocks noGrp="1"/>
          </p:cNvSpPr>
          <p:nvPr>
            <p:ph type="sldImg"/>
          </p:nvPr>
        </p:nvSpPr>
        <p:spPr>
          <a:xfrm>
            <a:off x="1055520" y="646200"/>
            <a:ext cx="4659480" cy="3225600"/>
          </a:xfrm>
          <a:prstGeom prst="rect">
            <a:avLst/>
          </a:prstGeom>
          <a:ln w="0">
            <a:noFill/>
          </a:ln>
        </p:spPr>
      </p:sp>
      <p:sp>
        <p:nvSpPr>
          <p:cNvPr id="13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ses Kapitel soll einen Überblick über den Lehrgang bereitstellen sowie praktische Hinweise für die Vorstellung der Inhalte anderer Kapitel gebe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3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5D6B837-7A14-4A19-A446-D6862CDD8B7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3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3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56F8F2E-3FA5-49E2-91B2-A63275092CC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36" name="PlaceHolder 1"/>
          <p:cNvSpPr>
            <a:spLocks noGrp="1"/>
          </p:cNvSpPr>
          <p:nvPr>
            <p:ph type="sldImg"/>
          </p:nvPr>
        </p:nvSpPr>
        <p:spPr>
          <a:xfrm>
            <a:off x="1055520" y="646200"/>
            <a:ext cx="4659480" cy="3225600"/>
          </a:xfrm>
          <a:prstGeom prst="rect">
            <a:avLst/>
          </a:prstGeom>
          <a:ln w="0">
            <a:noFill/>
          </a:ln>
        </p:spPr>
      </p:sp>
      <p:sp>
        <p:nvSpPr>
          <p:cNvPr id="137"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s sind die vier wesentlichen Themen dieses Kapitels. Auf jedes wird weiter unten näher eingegange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3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B7C28F8-EA30-428C-B53A-876F0B16A13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4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4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F9542F28-641F-4E94-9BF4-B8C376A5F6D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42" name="PlaceHolder 1"/>
          <p:cNvSpPr>
            <a:spLocks noGrp="1"/>
          </p:cNvSpPr>
          <p:nvPr>
            <p:ph type="sldImg"/>
          </p:nvPr>
        </p:nvSpPr>
        <p:spPr>
          <a:xfrm>
            <a:off x="1055520" y="646200"/>
            <a:ext cx="4659480" cy="3225600"/>
          </a:xfrm>
          <a:prstGeom prst="rect">
            <a:avLst/>
          </a:prstGeom>
          <a:ln w="0">
            <a:noFill/>
          </a:ln>
        </p:spPr>
      </p:sp>
      <p:sp>
        <p:nvSpPr>
          <p:cNvPr id="143"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ses Handbuch ist flexibler Natur. Es ist ein Werkzeug, das für einen vielseitigen Einsatz geschaffen wurde. So kann es z.B. für ein über mehrere Tage dauerndes Intensivtraining verwendet werden oder aber für die Abhandlung einzelner Kapitel in kurzen Schulungseinheiten über einen längeren Zeitraum hinweg. Deshalb müssen die Inhalte und die Präsentation flexibel sei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ses Handbuch soll als Ausgangsbasis für den Aufbau eines Lehrgangs dienen, der für die angestrebte Zielgruppe nützlich und praxisorientiert gestaltet werden soll. Da manche Ausbilder vielleicht auf einige Gebiete ausführlicher eingehen oder sogar die vorgeschlagene Reihenfolge ändern möchten, schreibt dieses Handbuch keine Lehrmethode vo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Inhalte dieses Handbuchs sollte für eine Vielzahl von Adressaten geeignet sein. Es geht um ein relativ neues Thema, das alle Mitarbeiter eines Unternehmens anspricht: vom Management bis hin zu denen, die mit der neuen Technologie arbeiten werde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4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DF25AC8-9678-440D-8100-705170FEC57E}" type="datetime">
              <a:rPr b="0" i="1" lang="en-US" sz="800" spc="-1" strike="noStrike">
                <a:solidFill>
                  <a:srgbClr val="000000"/>
                </a:solidFill>
                <a:latin typeface="Arial"/>
              </a:rPr>
              <a:t>07/29/26</a:t>
            </a:fld>
            <a:endParaRPr b="1" lang="en-US" sz="800" spc="-1" strike="noStrike">
              <a:solidFill>
                <a:srgbClr val="000000"/>
              </a:solidFill>
              <a:latin typeface="Colonna MT"/>
            </a:endParaRPr>
          </a:p>
        </p:txBody>
      </p:sp>
      <p:sp>
        <p:nvSpPr>
          <p:cNvPr id="14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4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Seite </a:t>
            </a:r>
            <a:fld id="{9E886EFD-6896-46C3-9DA7-DC52D23047D5}" type="slidenum">
              <a:rPr b="0" i="1" lang="en-US"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48" name="PlaceHolder 1"/>
          <p:cNvSpPr>
            <a:spLocks noGrp="1"/>
          </p:cNvSpPr>
          <p:nvPr>
            <p:ph type="sldImg"/>
          </p:nvPr>
        </p:nvSpPr>
        <p:spPr>
          <a:xfrm>
            <a:off x="1055520" y="646200"/>
            <a:ext cx="4659480" cy="3225600"/>
          </a:xfrm>
          <a:prstGeom prst="rect">
            <a:avLst/>
          </a:prstGeom>
          <a:ln w="0">
            <a:noFill/>
          </a:ln>
        </p:spPr>
      </p:sp>
      <p:sp>
        <p:nvSpPr>
          <p:cNvPr id="149"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as Handbuch ist in mehrere Kapitel unterteilt, wobei sich jedes mit einem allgemeinen oder speziellen Thema beschäftigt. Einige der Kapitel liefern einen Überblick über Themen, andere bieten eine tiefergehende Untersuchung bestimmter Aspekt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Informationen werden als Folien präsentiert. Unter vielen der Folien stehen Notizen, in denen näher auf die angegebenen Punkte eingegangen wird. Die Folien sind für die Teilnehmer gedacht; die Notizen liefern Informationen für die Lehrkraft. In der Praxis ist es vorteilhaft, den Teilnehmern auch Zugang zu den Notizen zu geben, wobei Lehrstile und Präferenzen zweifelsohne variier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m Anfang jedes Kapitels gibt es eine Kapitelgliederung. Diese bietet Informationen über das Kapitel, sodass die Lehrkraft und die Teilnehmer wissen, was sie erwartet. Sie bietet auch hilfreiche Hinweise für die Planung einer Ausbildungseinhei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Level</a:t>
            </a:r>
            <a:r>
              <a:rPr b="0" lang="en-US" sz="1000" spc="-1" strike="noStrike">
                <a:solidFill>
                  <a:srgbClr val="000000"/>
                </a:solidFill>
                <a:latin typeface="Arial"/>
              </a:rPr>
              <a:t> beschreibt die Wissensstufe der Teilnehmer, für die diese Folie angemessen wäre (mehr Informationen zu den Stufen weiter unt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Voraussetzungen</a:t>
            </a:r>
            <a:r>
              <a:rPr b="0" lang="en-US" sz="1000" spc="-1" strike="noStrike">
                <a:solidFill>
                  <a:srgbClr val="000000"/>
                </a:solidFill>
                <a:latin typeface="Arial"/>
              </a:rPr>
              <a:t> weist darauf hin, ob andere Kapitel vorher abgehandelt werden sollt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Überblick</a:t>
            </a:r>
            <a:r>
              <a:rPr b="0" lang="en-US" sz="1000" spc="-1" strike="noStrike">
                <a:solidFill>
                  <a:srgbClr val="000000"/>
                </a:solidFill>
                <a:latin typeface="Arial"/>
              </a:rPr>
              <a:t> liefert eine sehr kurze Beschreibung des Kapitel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Inhalt</a:t>
            </a:r>
            <a:r>
              <a:rPr b="0" lang="en-US" sz="1000" spc="-1" strike="noStrike">
                <a:solidFill>
                  <a:srgbClr val="000000"/>
                </a:solidFill>
                <a:latin typeface="Arial"/>
              </a:rPr>
              <a:t> bietet eine Liste der abgedeckten Hauptthem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Lernziele</a:t>
            </a:r>
            <a:r>
              <a:rPr b="0" lang="en-US" sz="1000" spc="-1" strike="noStrike">
                <a:solidFill>
                  <a:srgbClr val="000000"/>
                </a:solidFill>
                <a:latin typeface="Arial"/>
              </a:rPr>
              <a:t> gibt den Teilnehmern einen Eindruck davon, was sie erreichen können, wenn sie sich einsetz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Methodik</a:t>
            </a:r>
            <a:r>
              <a:rPr b="0" lang="en-US" sz="1000" spc="-1" strike="noStrike">
                <a:solidFill>
                  <a:srgbClr val="000000"/>
                </a:solidFill>
                <a:latin typeface="Arial"/>
              </a:rPr>
              <a:t> beschreibt Hinweise zu Lehrmethoden, die angemessen sein könnt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Zeitplan</a:t>
            </a:r>
            <a:r>
              <a:rPr b="0" lang="en-US" sz="1000" spc="-1" strike="noStrike">
                <a:solidFill>
                  <a:srgbClr val="000000"/>
                </a:solidFill>
                <a:latin typeface="Arial"/>
              </a:rPr>
              <a:t> beschreibt die ungefähre Dauer, die man braucht, um die Inhalte abzuhandel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5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BD3348D-AE29-43D1-945E-0CB75DFDBE2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5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5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B25388C-52C3-4AAC-86DA-20AC6981CA8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54" name="PlaceHolder 1"/>
          <p:cNvSpPr>
            <a:spLocks noGrp="1"/>
          </p:cNvSpPr>
          <p:nvPr>
            <p:ph type="sldImg"/>
          </p:nvPr>
        </p:nvSpPr>
        <p:spPr>
          <a:xfrm>
            <a:off x="1055520" y="646200"/>
            <a:ext cx="4659480" cy="3225600"/>
          </a:xfrm>
          <a:prstGeom prst="rect">
            <a:avLst/>
          </a:prstGeom>
          <a:ln w="0">
            <a:noFill/>
          </a:ln>
        </p:spPr>
      </p:sp>
      <p:sp>
        <p:nvSpPr>
          <p:cNvPr id="155"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s ist wichtig, dass der Lehrende sein Publikum einschätzen kann, um Lehrstile und Inhalte entsprechend anzupassen. Der Vortrag von Informationen, die zu abstrakt oder auf dem Verständnis höherer Mathematik beruhen, ist kontraproduktiv. Deshalb beinhaltet das Handbuch empfohlene Levels in Form eines farbkodierten Rechtecks in der linken unteren Ecke jeder Folie. Dies erlaubt der Lehrkraft, schnell zu entscheiden, welche Folien für welchen Unterricht angemessen sin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empfohlene Einteilung der Stufen findet sich im Folgende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5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67C6C2A-62A6-4083-B5E3-CFF78FC6A6A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5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5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80B1111-BCF3-4D90-B66C-5F86C346F86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60" name="PlaceHolder 1"/>
          <p:cNvSpPr>
            <a:spLocks noGrp="1"/>
          </p:cNvSpPr>
          <p:nvPr>
            <p:ph type="sldImg"/>
          </p:nvPr>
        </p:nvSpPr>
        <p:spPr>
          <a:xfrm>
            <a:off x="1055520" y="646200"/>
            <a:ext cx="4659480" cy="3225600"/>
          </a:xfrm>
          <a:prstGeom prst="rect">
            <a:avLst/>
          </a:prstGeom>
          <a:ln w="0">
            <a:noFill/>
          </a:ln>
        </p:spPr>
      </p:sp>
      <p:sp>
        <p:nvSpPr>
          <p:cNvPr id="161" name="PlaceHolder 2"/>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s gibt viele Arten, die Inhalte dieses Lehrgangs zu vermitteln. Die Folien können für Vorträge genutzt werden, wobei der Lehrende das Reden übernimmt und die Teilnehmer zuhören und Notizen machen. Es ist aber auch möglich (und manche würden sagen besser), die Folien als Grundlage für Diskussionen, Aufgaben und Tätigkeiten zu nehmen. Die pädagogische Forschung zeigt, dass Menschen besser lernen, wenn sie selbst etwas tun, als nur zuzuhören. Deshalb gilt, je mehr Aktivitäten ihre Teilnahme erfordern, desto mehr werden sie lernen. Spielerische, praktische Einheiten mit Geräten, die auch in der Praxis verwendet werden, sind eine Erfahrung, an die sich die Teilnehmer besser erinnern werd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Natürlich wird die Wahl der Vermittlungsmethoden durch praktische Hürden begrenzt. Das Planen von Diskussionen und Gruppenaktivitäten nimmt Zeit in Anspruch. Und die Verwendung spezialisierter Einrichtungen und Geräte hängt von der Verfügbarkeit der Ressourcen ab.</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Und nicht zuletzt ist der beste pädagogische Ansatz einer, der Informationen präsentiert und regelmäßig innehält, um festzustellen, welche Informationen wirklich verstanden wurden. Dies erfordert aktive Beteiligung auf beiden Seiten. Lehrende entwickeln ihre eigenen Werkzeuge, um ihr Publikum anzuregen. Also ist die beste Vermittlungsmethode, eine, die in Verbindung mit den Stärken des Lehrenden steh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Kapitel 12</a:t>
            </a:r>
            <a:br>
              <a:rPr sz="3700"/>
            </a:br>
            <a:r>
              <a:rPr b="1" lang="en-US" sz="3700" spc="-1" strike="noStrike">
                <a:solidFill>
                  <a:srgbClr val="ba1e31"/>
                </a:solidFill>
                <a:latin typeface="Arial"/>
              </a:rPr>
              <a:t>Praktisches Training</a:t>
            </a:r>
            <a:endParaRPr b="1" lang="en-US" sz="3700" spc="-1" strike="noStrike">
              <a:solidFill>
                <a:srgbClr val="ba1e31"/>
              </a:solidFill>
              <a:latin typeface="SwitzerlandCondBlack"/>
            </a:endParaRPr>
          </a:p>
        </p:txBody>
      </p:sp>
      <p:sp>
        <p:nvSpPr>
          <p:cNvPr id="106" name="PlaceHolder 2"/>
          <p:cNvSpPr>
            <a:spLocks noGrp="1"/>
          </p:cNvSpPr>
          <p:nvPr>
            <p:ph type="subTitle"/>
          </p:nvPr>
        </p:nvSpPr>
        <p:spPr>
          <a:xfrm>
            <a:off x="2072880" y="2421000"/>
            <a:ext cx="7010280" cy="175248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hrgangsüberblick</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a:t>
            </a:r>
            <a:endParaRPr b="1" lang="en-US" sz="2400" spc="-1" strike="noStrike">
              <a:solidFill>
                <a:srgbClr val="000000"/>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ktische Hinweise fürs Trai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Überblick</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Bedeutung von Flexibilitä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fbau des Handbuchs.</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sbildungsstuf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mittlungsmethod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ie Bedeutung von Flexibilität</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hrere Verwendungen des Handbuch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rtlaufende Ausbildungseinheit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zelne Theme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hrere Adressaten des Handbuch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m „Anfänger“ zum „Fortgeschritten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m Techniker zur Führungskraft.</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hrere Zeitrahm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nsive Ausbildungseinheiten, kurze Zeiträum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zelne Themen, über längere Zeiträume verteil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ufbau des Handbuchs</a:t>
            </a:r>
            <a:endParaRPr b="1" lang="en-US" sz="3200" spc="-1" strike="noStrike">
              <a:solidFill>
                <a:srgbClr val="ba1e31"/>
              </a:solidFill>
              <a:latin typeface="SwitzerlandCondBlack"/>
            </a:endParaRPr>
          </a:p>
        </p:txBody>
      </p:sp>
      <p:sp>
        <p:nvSpPr>
          <p:cNvPr id="1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pitel: Folien und Notiz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pitelgliederung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v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raussetzung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blick.</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hal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rnziel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thodik.</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eitpla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evel der Teilnehmer</a:t>
            </a:r>
            <a:endParaRPr b="1" lang="en-US" sz="3200" spc="-1" strike="noStrike">
              <a:solidFill>
                <a:srgbClr val="ba1e31"/>
              </a:solidFill>
              <a:latin typeface="SwitzerlandCondBlack"/>
            </a:endParaRPr>
          </a:p>
        </p:txBody>
      </p:sp>
      <p:sp>
        <p:nvSpPr>
          <p:cNvPr id="114" name="PlaceHolder 2"/>
          <p:cNvSpPr>
            <a:spLocks noGrp="1"/>
          </p:cNvSpPr>
          <p:nvPr>
            <p:ph/>
          </p:nvPr>
        </p:nvSpPr>
        <p:spPr>
          <a:xfrm>
            <a:off x="1568520" y="1267920"/>
            <a:ext cx="8208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ätzen Sie ihr Publikum ei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vel sind vorgeschlagen, aber nicht vorgeschrieb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fänger, fortgeschrittene Anfänger, Fortgeschritten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evel – Anfänger</a:t>
            </a:r>
            <a:endParaRPr b="1" lang="en-US" sz="3200" spc="-1" strike="noStrike">
              <a:solidFill>
                <a:srgbClr val="ba1e31"/>
              </a:solidFill>
              <a:latin typeface="SwitzerlandCondBlack"/>
            </a:endParaRPr>
          </a:p>
        </p:txBody>
      </p:sp>
      <p:sp>
        <p:nvSpPr>
          <p:cNvPr id="11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ne Stufe, für die keine speziellen Kenntnisse der Physik, Chemie oder Mathematik erforderlich sind. Ein typischer Teilnehmer ist jemand ohne weiterführende oder höhere Ausbildung oder jemand, der sich in diesem Gebiet unsicher fühlt.</a:t>
            </a:r>
            <a:endParaRPr b="1" lang="en-US" sz="2400" spc="-1" strike="noStrike">
              <a:solidFill>
                <a:srgbClr val="000000"/>
              </a:solidFill>
              <a:latin typeface="Arial"/>
            </a:endParaRPr>
          </a:p>
        </p:txBody>
      </p:sp>
      <p:sp>
        <p:nvSpPr>
          <p:cNvPr id="117" name="TextBox 4"/>
          <p:cNvSpPr/>
          <p:nvPr/>
        </p:nvSpPr>
        <p:spPr>
          <a:xfrm>
            <a:off x="344520" y="587700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evel – fortgeschrittene Anfänger</a:t>
            </a:r>
            <a:endParaRPr b="1" lang="en-US" sz="3200" spc="-1" strike="noStrike">
              <a:solidFill>
                <a:srgbClr val="ba1e31"/>
              </a:solidFill>
              <a:latin typeface="SwitzerlandCondBlack"/>
            </a:endParaRPr>
          </a:p>
        </p:txBody>
      </p:sp>
      <p:sp>
        <p:nvSpPr>
          <p:cNvPr id="11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ne Stufe für Teilnehmer, die an der Theorie vieler Konzepte interessiert sind, die in den Folien beschrieben werden. Sie haben grundlegende Kenntnisse der Chemie, Physik und/oder Mathematik. Ein typischer Teilnehmer ist jemand mit höherer Ausbildung oder starkem Interesse an dem Gebiet.</a:t>
            </a:r>
            <a:endParaRPr b="1" lang="en-US" sz="2400" spc="-1" strike="noStrike">
              <a:solidFill>
                <a:srgbClr val="000000"/>
              </a:solidFill>
              <a:latin typeface="Arial"/>
            </a:endParaRPr>
          </a:p>
        </p:txBody>
      </p:sp>
      <p:sp>
        <p:nvSpPr>
          <p:cNvPr id="120" name="TextBox 10"/>
          <p:cNvSpPr/>
          <p:nvPr/>
        </p:nvSpPr>
        <p:spPr>
          <a:xfrm>
            <a:off x="344520" y="5734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evel – Fortgeschrittene</a:t>
            </a: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ne Stufe für Teilnehmer, die sicher mit den in den Folien enthaltenen theoretischen oder mathematischen Konzepten umgehen können. Ein typischer Teilnehmer ist jemand, der viel Erfahrung im Bereich Chemie, Physik und/oder Mathematik vorweisen kann.</a:t>
            </a:r>
            <a:endParaRPr b="1" lang="en-US" sz="2400" spc="-1" strike="noStrike">
              <a:solidFill>
                <a:srgbClr val="000000"/>
              </a:solidFill>
              <a:latin typeface="Arial"/>
            </a:endParaRPr>
          </a:p>
        </p:txBody>
      </p:sp>
      <p:sp>
        <p:nvSpPr>
          <p:cNvPr id="123" name="TextBox 10"/>
          <p:cNvSpPr/>
          <p:nvPr/>
        </p:nvSpPr>
        <p:spPr>
          <a:xfrm>
            <a:off x="272880" y="5734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Vortragsmethoden</a:t>
            </a:r>
            <a:endParaRPr b="1" lang="en-US" sz="3200" spc="-1" strike="noStrike">
              <a:solidFill>
                <a:srgbClr val="ba1e31"/>
              </a:solidFill>
              <a:latin typeface="SwitzerlandCondBlack"/>
            </a:endParaRPr>
          </a:p>
        </p:txBody>
      </p:sp>
      <p:sp>
        <p:nvSpPr>
          <p:cNvPr id="12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terschiedliche Ansätz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tscheidende Faktor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Zei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ssourc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chkenntnis und Selbstvertrauen des Vortragende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vorzugte Pädagogik.</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ielen Sie ihre Stärken au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7:33:24Z</dcterms:modified>
  <cp:revision>630</cp:revision>
  <dc:subject/>
  <dc:title>Energie-Contracting</dc:title>
</cp:coreProperties>
</file>